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605CA-FF23-4D01-B31D-A239047F6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1D80A-5BE1-49F1-BCF7-72FDC004B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D421B-78A1-464B-9AEE-6080D6C18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D07EB-B344-4777-A249-28DC3B13A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7C274-FF7A-4822-9700-3718AD503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3FB9C-3D06-4E68-917B-A8E2E2B0A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44831-833F-432A-BFDF-B69819026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76366-E077-4DAD-8CE2-2E147F075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ECB3C-AC7B-4037-BE3C-743323FA0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9DCF0-0A5C-42B1-A171-7740ECE7A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69E5A-EC91-4C37-8103-4EC3383AF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6698D-D5F7-4F6A-B818-5F683D267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C987C-D7FA-43CD-B9C3-505C329A2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9DE10-38F3-4163-B53A-69F8726D0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4B9B8-D93A-4084-9AC6-CA365A659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2D553-1D2E-4685-AB09-723C1E519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3B160-61CC-4C25-807F-D75958BF5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33C7B-7B56-4CAB-B83E-BF41CE452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81BD1-5744-46F1-AD2D-9E2EE4915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4D679-7150-4171-AC91-E8052CD49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80896-0AB7-483F-9EB7-088263EBF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77C9B-D74B-4E44-9D1E-4B315BAB5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B5AED-41B2-4371-8BE7-239DAC841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80A66-FAEA-4966-AB2D-952865D9B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87183-61E7-40A4-8259-2DF318862A28}" type="slidenum">
              <a:rPr b="0" lang="fr-FR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0F478-357F-44A6-A7EB-4213597659C2}" type="slidenum">
              <a:rPr b="0" lang="fr-FR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ZoneTexte 1"/>
          <p:cNvSpPr/>
          <p:nvPr/>
        </p:nvSpPr>
        <p:spPr>
          <a:xfrm>
            <a:off x="755640" y="2708280"/>
            <a:ext cx="770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c000"/>
                </a:solidFill>
                <a:latin typeface="Castellar"/>
              </a:rPr>
              <a:t>UNE SECONDE AVANT…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ZoneTexte 2"/>
          <p:cNvSpPr/>
          <p:nvPr/>
        </p:nvSpPr>
        <p:spPr>
          <a:xfrm>
            <a:off x="3203640" y="551664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Book Antiqua"/>
              </a:rPr>
              <a:t>Cliquez pour avanc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Image 1" descr="Une seconde avant-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Image 1" descr="Une seconde avant-1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Image 1" descr="Une seconde avant-1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Image 1" descr="Une seconde avant-1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Image 1" descr="Une seconde avant-13.jpg"/>
          <p:cNvPicPr/>
          <p:nvPr/>
        </p:nvPicPr>
        <p:blipFill>
          <a:blip r:embed="rId1"/>
          <a:stretch/>
        </p:blipFill>
        <p:spPr>
          <a:xfrm>
            <a:off x="7920" y="0"/>
            <a:ext cx="9128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Image 1" descr="Une seconde avant-14.jpg"/>
          <p:cNvPicPr/>
          <p:nvPr/>
        </p:nvPicPr>
        <p:blipFill>
          <a:blip r:embed="rId1"/>
          <a:stretch/>
        </p:blipFill>
        <p:spPr>
          <a:xfrm>
            <a:off x="0" y="0"/>
            <a:ext cx="9193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Image 1" descr="Une seconde avant-1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ZoneTexte 1"/>
          <p:cNvSpPr/>
          <p:nvPr/>
        </p:nvSpPr>
        <p:spPr>
          <a:xfrm>
            <a:off x="1042920" y="1268280"/>
            <a:ext cx="70581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af9738"/>
                </a:solidFill>
                <a:latin typeface="Showcard Gothic"/>
              </a:rPr>
              <a:t>FIN.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Image 1" descr="Une seconde avant-1.jpg"/>
          <p:cNvPicPr/>
          <p:nvPr/>
        </p:nvPicPr>
        <p:blipFill>
          <a:blip r:embed="rId1"/>
          <a:stretch/>
        </p:blipFill>
        <p:spPr>
          <a:xfrm>
            <a:off x="0" y="0"/>
            <a:ext cx="9151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Image 1" descr="Une seconde avant-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Image 1" descr="Une seconde avant-3.jpg"/>
          <p:cNvPicPr/>
          <p:nvPr/>
        </p:nvPicPr>
        <p:blipFill>
          <a:blip r:embed="rId1"/>
          <a:stretch/>
        </p:blipFill>
        <p:spPr>
          <a:xfrm>
            <a:off x="0" y="0"/>
            <a:ext cx="9196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Image 1" descr="Une seconde avant-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Image 1" descr="Une seconde avant-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Image 1" descr="Une seconde avant-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Image 1" descr="Une seconde avant-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Image 1" descr="Une seconde avant-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22T18:32:01Z</dcterms:created>
  <dc:creator>alain</dc:creator>
  <dc:description/>
  <dc:language>en-US</dc:language>
  <cp:lastModifiedBy>alain</cp:lastModifiedBy>
  <dcterms:modified xsi:type="dcterms:W3CDTF">2013-02-22T18:44:50Z</dcterms:modified>
  <cp:revision>2</cp:revision>
  <dc:subject/>
  <dc:title>Diapositive 1</dc:title>
</cp:coreProperties>
</file>