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19B0-8C0C-4008-A8AE-854E3FDB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37A-612F-4269-9486-544ECC43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F3A4-3541-46EA-A705-A6BB730C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ABDF-F54D-4963-9C47-E1506D4B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D611-0B06-4EEC-9201-8674F9E7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DE7A-4AB6-4909-8A5A-855E8E51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A2A5-29D0-45E3-B00E-750687C2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AA45-8D43-4E01-A6E9-80C45094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4D7B-7D41-4291-8D48-30EF16A1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B5E0-8E50-4557-9F20-429F066F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6641-1E6B-4316-B841-62B62129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6128-8E9A-4731-AA4A-C935AB5E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5A86-0E2F-4F07-BB4B-711853DC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1297-DAA1-48E8-BC2E-A59E29A5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3E05-3B00-49DA-8A2E-42B1F057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3C10-DB8B-42FA-9665-320ABAB3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B2A9-419C-4FA1-929D-244EC8FE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B600-4874-431E-A7DC-970B6114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3D4-9454-4F02-8849-58C14106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9A7-9297-474F-9962-8F84C455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50A-7F8D-4CA6-8471-EC87A905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78E6-EECC-4063-B597-ACFA12DC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3C8-7691-4BC4-A665-BE9C0E9C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5D1-D9D5-4DC0-81B1-7426BDAC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3BF5-7D20-47B3-838A-5157692BD1E6}" type="slidenum">
              <a:rPr b="0" lang="fr-F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F58B-765B-417F-9CE8-295A99BC1FA1}" type="slidenum">
              <a:rPr b="0" lang="fr-F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1"/>
          <p:cNvSpPr/>
          <p:nvPr/>
        </p:nvSpPr>
        <p:spPr>
          <a:xfrm>
            <a:off x="755640" y="2708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c000"/>
                </a:solidFill>
                <a:latin typeface="Castellar"/>
              </a:rPr>
              <a:t>UNE SECONDE AVANT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ZoneTexte 2"/>
          <p:cNvSpPr/>
          <p:nvPr/>
        </p:nvSpPr>
        <p:spPr>
          <a:xfrm>
            <a:off x="3203640" y="5516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Book Antiqua"/>
              </a:rPr>
              <a:t>Cliquez pour avanc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 1" descr="Une seconde avant-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 1" descr="Une seconde avant-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 1" descr="Une seconde avant-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 1" descr="Une seconde avant-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 1" descr="Une seconde avant-13.jpg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 1" descr="Une seconde avant-14.jpg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 1" descr="Une seconde avant-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oneTexte 1"/>
          <p:cNvSpPr/>
          <p:nvPr/>
        </p:nvSpPr>
        <p:spPr>
          <a:xfrm>
            <a:off x="1042920" y="1268280"/>
            <a:ext cx="705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af9738"/>
                </a:solidFill>
                <a:latin typeface="Showcard Gothic"/>
              </a:rPr>
              <a:t>FIN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1" descr="Une seconde avant-1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 1" descr="Une seconde avant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 1" descr="Une seconde avant-3.jpg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1" descr="Une seconde avant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1" descr="Une seconde avant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1" descr="Une seconde avant-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1" descr="Une seconde avant-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 1" descr="Une seconde avant-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8:32:01Z</dcterms:created>
  <dc:creator>alain</dc:creator>
  <dc:description/>
  <dc:language>en-US</dc:language>
  <cp:lastModifiedBy>alain</cp:lastModifiedBy>
  <dcterms:modified xsi:type="dcterms:W3CDTF">2013-02-22T18:44:50Z</dcterms:modified>
  <cp:revision>2</cp:revision>
  <dc:subject/>
  <dc:title>Diapositive 1</dc:title>
</cp:coreProperties>
</file>