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Surrexit%20PastorBonus%2005%20escolans-I.Segarraw.wav" ContentType="audio/x-wav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media/PLUGI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7E4D-5223-4AFA-A94F-3B3FEF14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405E-988F-4D9E-A62B-4DB2569E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D32E-86DC-4D95-9F73-13FB548D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D84D-53FB-4F58-8B29-3BB9EDB9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C686-5A1A-4ECE-865A-C0CC7218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4838-8C63-40AC-BF58-FF201ED1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CFB0-DBB6-40BB-ACB0-849485F6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2936-C63F-44CE-AE0F-524C6FC6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A8CE-334F-4CBB-ADB0-97023369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13CC-73DF-4C6D-8F69-965FF436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8B24-A01D-4B0E-8B29-DDD1A965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E3F-ED22-41DE-8BD4-F127E658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1B3A-A944-4768-A6C3-9F84A2C9B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Surrexit%20PastorBonus%2005%20escolans-I.Segarraw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PLUGIN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15 Imagen" descr="PASQcirist.jpg"/>
          <p:cNvPicPr/>
          <p:nvPr/>
        </p:nvPicPr>
        <p:blipFill>
          <a:blip r:embed="rId2"/>
          <a:stretch/>
        </p:blipFill>
        <p:spPr>
          <a:xfrm>
            <a:off x="-93600" y="0"/>
            <a:ext cx="93312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214200" y="100008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DOMING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14200" y="2714760"/>
            <a:ext cx="89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0000"/>
                </a:solidFill>
                <a:latin typeface="Arial"/>
              </a:rPr>
              <a:t>EL REINO ESTÁ ENTRE N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7"/>
          <p:cNvSpPr txBox="1"/>
          <p:nvPr/>
        </p:nvSpPr>
        <p:spPr>
          <a:xfrm>
            <a:off x="216000" y="3284640"/>
            <a:ext cx="845964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b2591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no temas rebaño mí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b2591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0" y="4929120"/>
            <a:ext cx="942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5000" spc="-1" strike="noStrike">
                <a:solidFill>
                  <a:srgbClr val="ffffff"/>
                </a:solidFill>
                <a:latin typeface="Arial"/>
              </a:rPr>
              <a:t>HIJO, TODO LO MÍO ES TUY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WordArt 10"/>
          <p:cNvSpPr txBox="1"/>
          <p:nvPr/>
        </p:nvSpPr>
        <p:spPr>
          <a:xfrm>
            <a:off x="1258920" y="587700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WordArt 12"/>
          <p:cNvSpPr txBox="1"/>
          <p:nvPr/>
        </p:nvSpPr>
        <p:spPr>
          <a:xfrm>
            <a:off x="928800" y="1000080"/>
            <a:ext cx="7199280" cy="16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5438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PASCUA 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5438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-71280" y="0"/>
            <a:ext cx="50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a620e"/>
                </a:solidFill>
                <a:latin typeface="Arial"/>
              </a:rPr>
              <a:t>Evangelio de Lu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0" y="2714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EL REINO ESTÁ ENTRE N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15"/>
          <p:cNvSpPr txBox="1"/>
          <p:nvPr/>
        </p:nvSpPr>
        <p:spPr>
          <a:xfrm>
            <a:off x="642960" y="3286080"/>
            <a:ext cx="777564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a620e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no temas rebaño mí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a620e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WordArt 16"/>
          <p:cNvSpPr txBox="1"/>
          <p:nvPr/>
        </p:nvSpPr>
        <p:spPr>
          <a:xfrm>
            <a:off x="1143000" y="5786280"/>
            <a:ext cx="7443720" cy="765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evangeliO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6357960" y="88920"/>
            <a:ext cx="2714760" cy="550800"/>
          </a:xfrm>
          <a:prstGeom prst="rect">
            <a:avLst/>
          </a:prstGeom>
          <a:solidFill>
            <a:srgbClr val="ff5925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 Black"/>
              </a:rPr>
              <a:t>Anásta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71280" y="499572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ab2591"/>
                </a:solidFill>
                <a:latin typeface="Arial"/>
              </a:rPr>
              <a:t>HIJO, TODO L0 MÍO ES TUY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16 Rectángulo"/>
          <p:cNvSpPr/>
          <p:nvPr/>
        </p:nvSpPr>
        <p:spPr>
          <a:xfrm>
            <a:off x="76320" y="88920"/>
            <a:ext cx="47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1" lang="ca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rrexit Pastor bonus” Mendelssohn  9’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  <p:sndAc>
      <p:stSnd>
        <p:snd r:embed="rId3" name="Surrexit%20PastorBonus%2005%20escolans-I.Segarra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3733 -0.00162 L -0.8401 -0.00162 E">
                                      <p:cBhvr>
                                        <p:cTn id="6" dur="15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972 0.00139 L -0.98577 0.00139 E">
                                      <p:cBhvr>
                                        <p:cTn id="8" dur="8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844 0.01572 L -1.00017 -0.00508 E">
                                      <p:cBhvr>
                                        <p:cTn id="10" dur="1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546E-006 L -0.72292 0.00786 E">
                                      <p:cBhvr>
                                        <p:cTn id="12" dur="10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892 0.00717 L -1.06042 -0.00323 E">
                                      <p:cBhvr>
                                        <p:cTn id="14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68 -0.00323 L -0.98959 -0.01364 E">
                                      <p:cBhvr>
                                        <p:cTn id="16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5 Imagen" descr="xais.jpg"/>
          <p:cNvPicPr/>
          <p:nvPr/>
        </p:nvPicPr>
        <p:blipFill>
          <a:blip r:embed="rId2"/>
          <a:stretch/>
        </p:blipFill>
        <p:spPr>
          <a:xfrm>
            <a:off x="0" y="500040"/>
            <a:ext cx="9215280" cy="61437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5486400" y="3000240"/>
            <a:ext cx="3443400" cy="30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Los convertidos de nuevo viven felices</a:t>
            </a:r>
            <a:br>
              <a:rPr sz="4000"/>
            </a:br>
            <a:r>
              <a:rPr b="1" lang="en-US" sz="3500" spc="-1" strike="noStrike">
                <a:solidFill>
                  <a:srgbClr val="ff0000"/>
                </a:solidFill>
                <a:latin typeface="Arial Unicode MS"/>
              </a:rPr>
              <a:t>(1a lectura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42920" y="220680"/>
            <a:ext cx="8501040" cy="703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s doy la felicidad para siemp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457200" y="357120"/>
            <a:ext cx="8077320" cy="61887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no perecerán para siempre, y nadie las arrebatará de mi mano.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5 Imagen" descr="xais33tw.jpg"/>
          <p:cNvPicPr/>
          <p:nvPr/>
        </p:nvPicPr>
        <p:blipFill>
          <a:blip r:embed="rId2"/>
          <a:stretch/>
        </p:blipFill>
        <p:spPr>
          <a:xfrm>
            <a:off x="2641680" y="71280"/>
            <a:ext cx="6573600" cy="66438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0" y="3581280"/>
            <a:ext cx="266688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Mis manos os sostienen con tern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42920" y="214200"/>
            <a:ext cx="3857760" cy="19224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uando se ama nunca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 abando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533520" y="380880"/>
            <a:ext cx="8153280" cy="496980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Las que mi Padre me ha dado, valen más que tod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5 Imagen" descr="resized_pastorw.jpg"/>
          <p:cNvPicPr/>
          <p:nvPr/>
        </p:nvPicPr>
        <p:blipFill>
          <a:blip r:embed="rId2"/>
          <a:stretch/>
        </p:blipFill>
        <p:spPr>
          <a:xfrm>
            <a:off x="428760" y="500040"/>
            <a:ext cx="7643520" cy="51055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228600" y="5105520"/>
            <a:ext cx="8001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Comparado con vosotros, todo el oro del mundo no vale n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572000" y="285840"/>
            <a:ext cx="4572000" cy="20595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300" spc="-1" strike="noStrike">
                <a:solidFill>
                  <a:srgbClr val="ffffff"/>
                </a:solidFill>
                <a:latin typeface="Arial"/>
              </a:rPr>
              <a:t>Sois la herencia que apacientaré eternament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357120" y="304920"/>
            <a:ext cx="8786880" cy="58089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y nadie puede arrebatarlas de la mano del Padre. Yo y el Padre somos uno." 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5 Imagen" descr="Imagen4cw.jpg"/>
          <p:cNvPicPr/>
          <p:nvPr/>
        </p:nvPicPr>
        <p:blipFill>
          <a:blip r:embed="rId2"/>
          <a:stretch/>
        </p:blipFill>
        <p:spPr>
          <a:xfrm>
            <a:off x="168120" y="0"/>
            <a:ext cx="576108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5143680" y="5429160"/>
            <a:ext cx="38574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Todos UNO en la TRIN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072120" y="857160"/>
            <a:ext cx="2928960" cy="43603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osotros estáis dentro del círculo inmenso del amor de D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09480" y="857160"/>
            <a:ext cx="7848720" cy="496836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eñor Jesús, Pastor universal, te damos gracias porqué nos conduces, uno a uno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 tu lad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500040" y="5357880"/>
            <a:ext cx="813744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720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33"/>
          <p:cNvSpPr/>
          <p:nvPr/>
        </p:nvSpPr>
        <p:spPr>
          <a:xfrm>
            <a:off x="147600" y="3643200"/>
            <a:ext cx="8925120" cy="2912400"/>
          </a:xfrm>
          <a:prstGeom prst="rect">
            <a:avLst/>
          </a:prstGeom>
          <a:solidFill>
            <a:srgbClr val="00000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Domingo 2: CREER sin ver</a:t>
            </a:r>
            <a:r>
              <a:rPr b="1" lang="es-ES" sz="35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s-ES" sz="2500" spc="-1" strike="noStrike">
                <a:solidFill>
                  <a:srgbClr val="ffffff"/>
                </a:solidFill>
                <a:latin typeface="Arial Unicode MS"/>
              </a:rPr>
              <a:t>Jn20,19-3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Domingo 3: RECONOCERLO</a:t>
            </a:r>
            <a:r>
              <a:rPr b="1" lang="es-ES" sz="35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s-ES" sz="2500" spc="-1" strike="noStrike">
                <a:solidFill>
                  <a:srgbClr val="ffffff"/>
                </a:solidFill>
                <a:latin typeface="Arial Unicode MS"/>
              </a:rPr>
              <a:t>Jn 21, 1-19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e8bd44"/>
                </a:solidFill>
                <a:latin typeface="Arial Unicode MS"/>
              </a:rPr>
              <a:t>Domingo 4: el PASTOR nos ama  </a:t>
            </a:r>
            <a:r>
              <a:rPr b="1" lang="es-ES" sz="2500" spc="-1" strike="noStrike">
                <a:solidFill>
                  <a:srgbClr val="e8bd44"/>
                </a:solidFill>
                <a:latin typeface="Arial Unicode MS"/>
              </a:rPr>
              <a:t>Jn 10,27-30 </a:t>
            </a: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Domingo 5: amaos como YO </a:t>
            </a:r>
            <a:r>
              <a:rPr b="1" lang="es-ES" sz="2500" spc="-1" strike="noStrike">
                <a:solidFill>
                  <a:srgbClr val="ffffff"/>
                </a:solidFill>
                <a:latin typeface="Arial Unicode MS"/>
              </a:rPr>
              <a:t>Jn 13, 31-3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Domingo 6: el Espiritu nos enseña todo </a:t>
            </a:r>
            <a:r>
              <a:rPr b="1" lang="es-ES" sz="2500" spc="-1" strike="noStrike">
                <a:solidFill>
                  <a:srgbClr val="ffffff"/>
                </a:solidFill>
                <a:latin typeface="Arial Unicode MS"/>
              </a:rPr>
              <a:t>Jn 14, 23-29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34"/>
          <p:cNvSpPr/>
          <p:nvPr/>
        </p:nvSpPr>
        <p:spPr>
          <a:xfrm>
            <a:off x="1295280" y="380880"/>
            <a:ext cx="6732720" cy="11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0000"/>
                </a:solidFill>
                <a:latin typeface="Arial"/>
              </a:rPr>
              <a:t>UNA  PASCUA  DE  50  DIA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0000"/>
                </a:solidFill>
                <a:latin typeface="Arial"/>
              </a:rPr>
              <a:t>ciclo C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8 Rectángulo"/>
          <p:cNvSpPr/>
          <p:nvPr/>
        </p:nvSpPr>
        <p:spPr>
          <a:xfrm>
            <a:off x="304920" y="1981080"/>
            <a:ext cx="8610480" cy="1371600"/>
          </a:xfrm>
          <a:prstGeom prst="rect">
            <a:avLst/>
          </a:prstGeom>
          <a:gradFill rotWithShape="0">
            <a:gsLst>
              <a:gs pos="0">
                <a:srgbClr val="9c3300"/>
              </a:gs>
              <a:gs pos="100000">
                <a:srgbClr val="ff5d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ía de PASCUA: 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l Sepulcro sale la nueva Creación Jn 20,1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71280" y="533520"/>
            <a:ext cx="8844120" cy="1922400"/>
          </a:xfrm>
          <a:prstGeom prst="rect">
            <a:avLst/>
          </a:prstGeom>
          <a:solidFill>
            <a:srgbClr val="e8bd44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El evangelio de hoy sigue después del milagro del ciego de nac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33"/>
          <p:cNvSpPr/>
          <p:nvPr/>
        </p:nvSpPr>
        <p:spPr>
          <a:xfrm>
            <a:off x="0" y="2743200"/>
            <a:ext cx="8929800" cy="1922400"/>
          </a:xfrm>
          <a:prstGeom prst="rect">
            <a:avLst/>
          </a:prstGeom>
          <a:solidFill>
            <a:srgbClr val="00000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El ciego cree y ve, la jerarquía judía no cree y es ciega: si vemos y creemos somos ovejas de Jesú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6 Rectángulo"/>
          <p:cNvSpPr/>
          <p:nvPr/>
        </p:nvSpPr>
        <p:spPr>
          <a:xfrm>
            <a:off x="0" y="6211800"/>
            <a:ext cx="3962520" cy="642600"/>
          </a:xfrm>
          <a:prstGeom prst="rect">
            <a:avLst/>
          </a:prstGeom>
          <a:solidFill>
            <a:srgbClr val="e8bd4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otos de Isra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4 Imagen" descr="pastorjericottt.jpg"/>
          <p:cNvPicPr/>
          <p:nvPr/>
        </p:nvPicPr>
        <p:blipFill>
          <a:blip r:embed="rId2"/>
          <a:stretch/>
        </p:blipFill>
        <p:spPr>
          <a:xfrm>
            <a:off x="-2084400" y="0"/>
            <a:ext cx="133128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2857680" y="260280"/>
            <a:ext cx="5600520" cy="550800"/>
          </a:xfrm>
          <a:prstGeom prst="rect">
            <a:avLst/>
          </a:prstGeom>
          <a:solidFill>
            <a:srgbClr val="7f7f7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Unicode MS"/>
              </a:rPr>
              <a:t>Ovejas que siguen al past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57200" y="5638680"/>
            <a:ext cx="8381880" cy="825120"/>
          </a:xfrm>
          <a:prstGeom prst="rect">
            <a:avLst/>
          </a:prstGeom>
          <a:solidFill>
            <a:srgbClr val="0000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</a:rPr>
              <a:t>¿Vamos detrás de Jesú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3785 3.48128E-006 L -0.22049 3.48128E-006 E">
                                      <p:cBhvr>
                                        <p:cTn id="74" dur="10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533520" y="365040"/>
            <a:ext cx="8153280" cy="54255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Jn 10, 27-30 En aquel tiempo, </a:t>
            </a:r>
            <a:br>
              <a:rPr sz="7000"/>
            </a:br>
            <a:r>
              <a:rPr b="1" lang="es-ES" sz="7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dijo Jesús: </a:t>
            </a:r>
            <a:br>
              <a:rPr sz="7000"/>
            </a:br>
            <a:r>
              <a:rPr b="1" lang="es-ES" sz="7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"Mis ovejas escuchan mi voz,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4071960" y="857160"/>
            <a:ext cx="4572000" cy="1312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 voz os habla desde dent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4143240" y="2500200"/>
            <a:ext cx="4357800" cy="37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Gente de todas las razas es llamada a permanecer ante el Corde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0000"/>
                </a:solidFill>
                <a:latin typeface="Arial"/>
              </a:rPr>
              <a:t>(2a lectu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6 Imagen" descr="Pastor66.jpg"/>
          <p:cNvPicPr/>
          <p:nvPr/>
        </p:nvPicPr>
        <p:blipFill>
          <a:blip r:embed="rId2"/>
          <a:stretch/>
        </p:blipFill>
        <p:spPr>
          <a:xfrm>
            <a:off x="857160" y="136440"/>
            <a:ext cx="2714760" cy="653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762120" y="428760"/>
            <a:ext cx="7696080" cy="55803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y yo las conozco, y ellas me siguen,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89298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5 Imagen" descr="noixaibo.jpg"/>
          <p:cNvPicPr/>
          <p:nvPr/>
        </p:nvPicPr>
        <p:blipFill>
          <a:blip r:embed="rId2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" name="Text Box 4"/>
          <p:cNvSpPr/>
          <p:nvPr/>
        </p:nvSpPr>
        <p:spPr>
          <a:xfrm>
            <a:off x="142920" y="115920"/>
            <a:ext cx="2357280" cy="25318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 os conozco uno a u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0" y="5688000"/>
            <a:ext cx="88581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ois el rebaño que apaciento </a:t>
            </a:r>
            <a:r>
              <a:rPr b="1" lang="ca-ES" sz="3000" spc="-1" strike="noStrike">
                <a:solidFill>
                  <a:srgbClr val="ff0000"/>
                </a:solidFill>
                <a:latin typeface="Arial"/>
              </a:rPr>
              <a:t>(Salm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762120" y="609480"/>
            <a:ext cx="7467480" cy="466560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y yo les doy la vida eterna;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Usuario</cp:lastModifiedBy>
  <dcterms:modified xsi:type="dcterms:W3CDTF">2010-04-20T15:48:29Z</dcterms:modified>
  <cp:revision>210</cp:revision>
  <dc:subject>stbenet@benedictinescat.com</dc:subject>
  <dc:title>evangelio</dc:title>
</cp:coreProperties>
</file>