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Surrexit%20PastorBonus%2005%20escolans-I.Segarraw.wav" ContentType="audio/x-wav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D75-044A-470F-9128-789B33CE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5B2-2010-49F3-BB67-FF70510C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B16-5D9B-4BA2-BA3F-111AE94F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483-4E20-48AF-9F7E-023185FF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804-2499-416A-8D65-37BB5788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88E-30AA-4777-9754-853A3099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82B-6E71-46DA-89EA-9CC0EC0D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F54-B245-4160-A68B-C399E38A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598-1317-491E-9C42-DD8430E2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523-BA80-43BD-B56A-DDEB8383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239-3D12-4F26-935E-11E4B908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0BD-1C50-4AB6-B0A1-B69FADC9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227F-EC79-49BD-AA39-E07C6034D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Surrexit%20PastorBonus%2005%20escolans-I.Segarraw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5 Imagen" descr="PASQcirist.jpg"/>
          <p:cNvPicPr/>
          <p:nvPr/>
        </p:nvPicPr>
        <p:blipFill>
          <a:blip r:embed="rId2"/>
          <a:stretch/>
        </p:blipFill>
        <p:spPr>
          <a:xfrm>
            <a:off x="-93600" y="0"/>
            <a:ext cx="9331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214200" y="1000080"/>
            <a:ext cx="70120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DOMING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14200" y="2714760"/>
            <a:ext cx="89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0000"/>
                </a:solidFill>
                <a:latin typeface="Arial"/>
              </a:rPr>
              <a:t>EL REINO ESTÁ ENTRE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216000" y="3284640"/>
            <a:ext cx="8459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b2591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mas rebaño mí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b2591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0" y="4929120"/>
            <a:ext cx="942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5000" spc="-1" strike="noStrike">
                <a:solidFill>
                  <a:srgbClr val="ffffff"/>
                </a:solidFill>
                <a:latin typeface="Arial"/>
              </a:rPr>
              <a:t>HIJO, TODO LO MÍO ES TUY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1258920" y="5877000"/>
            <a:ext cx="7012080" cy="76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 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WordArt 12"/>
          <p:cNvSpPr txBox="1"/>
          <p:nvPr/>
        </p:nvSpPr>
        <p:spPr>
          <a:xfrm>
            <a:off x="928800" y="1000080"/>
            <a:ext cx="7199280" cy="160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5438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PASCUA 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5438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71280" y="0"/>
            <a:ext cx="50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a620e"/>
                </a:solidFill>
                <a:latin typeface="Arial"/>
              </a:rPr>
              <a:t>Evangelio de Lu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0" y="2714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ffff"/>
                </a:solidFill>
                <a:latin typeface="Arial"/>
              </a:rPr>
              <a:t>EL REINO ESTÁ ENTRE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15"/>
          <p:cNvSpPr txBox="1"/>
          <p:nvPr/>
        </p:nvSpPr>
        <p:spPr>
          <a:xfrm>
            <a:off x="642960" y="3286080"/>
            <a:ext cx="7775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620e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no temas rebaño mí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a620e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16"/>
          <p:cNvSpPr txBox="1"/>
          <p:nvPr/>
        </p:nvSpPr>
        <p:spPr>
          <a:xfrm>
            <a:off x="1143000" y="5786280"/>
            <a:ext cx="7443720" cy="76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evangeliOde Luc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6357960" y="88920"/>
            <a:ext cx="2714760" cy="550800"/>
          </a:xfrm>
          <a:prstGeom prst="rect">
            <a:avLst/>
          </a:prstGeom>
          <a:solidFill>
            <a:srgbClr val="ff5925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 Black"/>
              </a:rPr>
              <a:t>Anást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71280" y="49957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b2591"/>
                </a:solidFill>
                <a:latin typeface="Arial"/>
              </a:rPr>
              <a:t>HIJO, TODO L0 MÍO ES TUY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16 Rectángulo"/>
          <p:cNvSpPr/>
          <p:nvPr/>
        </p:nvSpPr>
        <p:spPr>
          <a:xfrm>
            <a:off x="76320" y="88920"/>
            <a:ext cx="47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ca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rrexit Pastor bonus” Mendelssohn  9’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  <p:sndAc>
      <p:stSnd>
        <p:snd r:embed="rId3" name="Surrexit%20PastorBonus%2005%20escolans-I.Segarr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3733 -0.00162 L -0.8401 -0.00162 E">
                                      <p:cBhvr>
                                        <p:cTn id="6" dur="1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972 0.00139 L -0.98577 0.00139 E">
                                      <p:cBhvr>
                                        <p:cTn id="8" dur="8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844 0.01572 L -1.00017 -0.00508 E">
                                      <p:cBhvr>
                                        <p:cTn id="10" dur="1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546E-006 L -0.72292 0.00786 E">
                                      <p:cBhvr>
                                        <p:cTn id="12" dur="10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892 0.00717 L -1.06042 -0.00323 E">
                                      <p:cBhvr>
                                        <p:cTn id="14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68 -0.00323 L -0.98959 -0.01364 E">
                                      <p:cBhvr>
                                        <p:cTn id="1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5 Imagen" descr="xais.jpg"/>
          <p:cNvPicPr/>
          <p:nvPr/>
        </p:nvPicPr>
        <p:blipFill>
          <a:blip r:embed="rId2"/>
          <a:stretch/>
        </p:blipFill>
        <p:spPr>
          <a:xfrm>
            <a:off x="0" y="500040"/>
            <a:ext cx="9215280" cy="6143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5486400" y="3000240"/>
            <a:ext cx="3443400" cy="30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Los convertidos de nuevo viven felices</a:t>
            </a:r>
            <a:br>
              <a:rPr sz="4000"/>
            </a:br>
            <a:r>
              <a:rPr b="1" lang="en-US" sz="3500" spc="-1" strike="noStrike">
                <a:solidFill>
                  <a:srgbClr val="ff0000"/>
                </a:solidFill>
                <a:latin typeface="Arial Unicode MS"/>
              </a:rPr>
              <a:t>(1a lectura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42920" y="220680"/>
            <a:ext cx="8501040" cy="70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s doy la felicidad para siemp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57200" y="357120"/>
            <a:ext cx="8077320" cy="6188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no perecerán para siempre, y nadie las arrebatará de mi mano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5 Imagen" descr="xais33tw.jpg"/>
          <p:cNvPicPr/>
          <p:nvPr/>
        </p:nvPicPr>
        <p:blipFill>
          <a:blip r:embed="rId2"/>
          <a:stretch/>
        </p:blipFill>
        <p:spPr>
          <a:xfrm>
            <a:off x="2641680" y="71280"/>
            <a:ext cx="6573600" cy="6643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0" y="3581280"/>
            <a:ext cx="26668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Mis manos os sostienen con tern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42920" y="214200"/>
            <a:ext cx="3857760" cy="19224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uando se ama nunca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 aband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533520" y="380880"/>
            <a:ext cx="8153280" cy="49698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Las que mi Padre me ha dado, valen más que tod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5 Imagen" descr="resized_pastorw.jpg"/>
          <p:cNvPicPr/>
          <p:nvPr/>
        </p:nvPicPr>
        <p:blipFill>
          <a:blip r:embed="rId2"/>
          <a:stretch/>
        </p:blipFill>
        <p:spPr>
          <a:xfrm>
            <a:off x="428760" y="500040"/>
            <a:ext cx="7643520" cy="5105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28600" y="5105520"/>
            <a:ext cx="8001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omparado con vosotros, todo el oro del mundo no vale 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572000" y="285840"/>
            <a:ext cx="4572000" cy="20595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ffffff"/>
                </a:solidFill>
                <a:latin typeface="Arial"/>
              </a:rPr>
              <a:t>Sois la herencia que apacientaré eternament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357120" y="304920"/>
            <a:ext cx="8786880" cy="58089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y nadie puede arrebatarlas de la mano del Padre. Yo y el Padre somos uno." 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5 Imagen" descr="Imagen4cw.jpg"/>
          <p:cNvPicPr/>
          <p:nvPr/>
        </p:nvPicPr>
        <p:blipFill>
          <a:blip r:embed="rId2"/>
          <a:stretch/>
        </p:blipFill>
        <p:spPr>
          <a:xfrm>
            <a:off x="168120" y="0"/>
            <a:ext cx="57610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5143680" y="5429160"/>
            <a:ext cx="3857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odos UNO en la TRIN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72120" y="857160"/>
            <a:ext cx="2928960" cy="43603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24f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estáis dentro del círculo inmenso del amor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09480" y="857160"/>
            <a:ext cx="7848720" cy="496836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d29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ñor Jesús, Pastor universal, te damos gracias porqué nos conduces, uno a uno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 tu lad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500040" y="53578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720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3"/>
          <p:cNvSpPr/>
          <p:nvPr/>
        </p:nvSpPr>
        <p:spPr>
          <a:xfrm>
            <a:off x="147600" y="3643200"/>
            <a:ext cx="8925120" cy="2912400"/>
          </a:xfrm>
          <a:prstGeom prst="rect">
            <a:avLst/>
          </a:prstGeom>
          <a:solidFill>
            <a:srgbClr val="00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2: CREER sin ver</a:t>
            </a: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20,19-3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3: RECONOCERLO</a:t>
            </a: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21, 1-1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e8bd44"/>
                </a:solidFill>
                <a:latin typeface="Arial Unicode MS"/>
              </a:rPr>
              <a:t>Domingo 4: el PASTOR nos ama  </a:t>
            </a:r>
            <a:r>
              <a:rPr b="1" lang="es-ES" sz="2500" spc="-1" strike="noStrike">
                <a:solidFill>
                  <a:srgbClr val="e8bd44"/>
                </a:solidFill>
                <a:latin typeface="Arial Unicode MS"/>
              </a:rPr>
              <a:t>Jn 10,27-30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5: amaos como YO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13, 31-3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Domingo 6: el Espiritu nos enseña todo </a:t>
            </a:r>
            <a:r>
              <a:rPr b="1" lang="es-ES" sz="2500" spc="-1" strike="noStrike">
                <a:solidFill>
                  <a:srgbClr val="ffffff"/>
                </a:solidFill>
                <a:latin typeface="Arial Unicode MS"/>
              </a:rPr>
              <a:t>Jn 14, 23-2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34"/>
          <p:cNvSpPr/>
          <p:nvPr/>
        </p:nvSpPr>
        <p:spPr>
          <a:xfrm>
            <a:off x="1295280" y="380880"/>
            <a:ext cx="6732720" cy="11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0000"/>
                </a:solidFill>
                <a:latin typeface="Arial"/>
              </a:rPr>
              <a:t>UNA  PASCUA  DE  50  DI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0000"/>
                </a:solidFill>
                <a:latin typeface="Arial"/>
              </a:rPr>
              <a:t>ciclo 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304920" y="1981080"/>
            <a:ext cx="8610480" cy="1371600"/>
          </a:xfrm>
          <a:prstGeom prst="rect">
            <a:avLst/>
          </a:prstGeom>
          <a:gradFill rotWithShape="0">
            <a:gsLst>
              <a:gs pos="0">
                <a:srgbClr val="9c3300"/>
              </a:gs>
              <a:gs pos="100000">
                <a:srgbClr val="ff5d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ía de PASCUA: 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l Sepulcro sale la nueva Creación Jn 20,1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71280" y="533520"/>
            <a:ext cx="8844120" cy="1922400"/>
          </a:xfrm>
          <a:prstGeom prst="rect">
            <a:avLst/>
          </a:prstGeom>
          <a:solidFill>
            <a:srgbClr val="e8bd4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El evangelio de hoy sigue después del milagro del ciego de na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3"/>
          <p:cNvSpPr/>
          <p:nvPr/>
        </p:nvSpPr>
        <p:spPr>
          <a:xfrm>
            <a:off x="0" y="2743200"/>
            <a:ext cx="8929800" cy="1922400"/>
          </a:xfrm>
          <a:prstGeom prst="rect">
            <a:avLst/>
          </a:prstGeom>
          <a:solidFill>
            <a:srgbClr val="00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</a:rPr>
              <a:t>El ciego cree y ve, la jerarquía judía no cree y es ciega: si vemos y creemos somos ovejas de Jesú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6 Rectángulo"/>
          <p:cNvSpPr/>
          <p:nvPr/>
        </p:nvSpPr>
        <p:spPr>
          <a:xfrm>
            <a:off x="0" y="6211800"/>
            <a:ext cx="3962520" cy="642600"/>
          </a:xfrm>
          <a:prstGeom prst="rect">
            <a:avLst/>
          </a:prstGeom>
          <a:solidFill>
            <a:srgbClr val="e8bd4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otos de Isra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4 Imagen" descr="pastorjericottt.jpg"/>
          <p:cNvPicPr/>
          <p:nvPr/>
        </p:nvPicPr>
        <p:blipFill>
          <a:blip r:embed="rId2"/>
          <a:stretch/>
        </p:blipFill>
        <p:spPr>
          <a:xfrm>
            <a:off x="-2084400" y="0"/>
            <a:ext cx="133128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2857680" y="260280"/>
            <a:ext cx="5600520" cy="550800"/>
          </a:xfrm>
          <a:prstGeom prst="rect">
            <a:avLst/>
          </a:prstGeom>
          <a:solidFill>
            <a:srgbClr val="7f7f7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Unicode MS"/>
              </a:rPr>
              <a:t>Ovejas que siguen al pas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57200" y="5638680"/>
            <a:ext cx="8381880" cy="825120"/>
          </a:xfrm>
          <a:prstGeom prst="rect">
            <a:avLst/>
          </a:prstGeom>
          <a:solidFill>
            <a:srgbClr val="0000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</a:rPr>
              <a:t>¿Vamos detrás de Jesú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785 3.48128E-006 L -0.22049 3.48128E-006 E">
                                      <p:cBhvr>
                                        <p:cTn id="74" dur="10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533520" y="365040"/>
            <a:ext cx="8153280" cy="54255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Jn 10, 27-30 En aquel tiempo, </a:t>
            </a:r>
            <a:br>
              <a:rPr sz="7000"/>
            </a:b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ijo Jesús: </a:t>
            </a:r>
            <a:br>
              <a:rPr sz="7000"/>
            </a:b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"Mis ovejas escuchan mi voz,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071960" y="857160"/>
            <a:ext cx="4572000" cy="13129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 voz os habla desde den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143240" y="2500200"/>
            <a:ext cx="435780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Gente de todas las razas es llamada a permanecer ante el Cord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ff0000"/>
                </a:solidFill>
                <a:latin typeface="Arial"/>
              </a:rPr>
              <a:t>(2a lectu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6 Imagen" descr="Pastor66.jpg"/>
          <p:cNvPicPr/>
          <p:nvPr/>
        </p:nvPicPr>
        <p:blipFill>
          <a:blip r:embed="rId2"/>
          <a:stretch/>
        </p:blipFill>
        <p:spPr>
          <a:xfrm>
            <a:off x="857160" y="136440"/>
            <a:ext cx="2714760" cy="653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62120" y="428760"/>
            <a:ext cx="7696080" cy="55803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y yo las conozco, y ellas me siguen,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89298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5 Imagen" descr="noixaibo.jpg"/>
          <p:cNvPicPr/>
          <p:nvPr/>
        </p:nvPicPr>
        <p:blipFill>
          <a:blip r:embed="rId2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Text Box 4"/>
          <p:cNvSpPr/>
          <p:nvPr/>
        </p:nvSpPr>
        <p:spPr>
          <a:xfrm>
            <a:off x="142920" y="115920"/>
            <a:ext cx="2357280" cy="25318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ea4b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 os conozco uno a 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5688000"/>
            <a:ext cx="8858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ois el rebaño que apaciento </a:t>
            </a:r>
            <a:r>
              <a:rPr b="1" lang="ca-ES" sz="3000" spc="-1" strike="noStrike">
                <a:solidFill>
                  <a:srgbClr val="ff0000"/>
                </a:solidFill>
                <a:latin typeface="Arial"/>
              </a:rPr>
              <a:t>(Salm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62120" y="609480"/>
            <a:ext cx="7467480" cy="46656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y yo les doy la vida eterna;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Usuario</cp:lastModifiedBy>
  <dcterms:modified xsi:type="dcterms:W3CDTF">2010-04-20T15:48:29Z</dcterms:modified>
  <cp:revision>210</cp:revision>
  <dc:subject>stbenet@benedictinescat.com</dc:subject>
  <dc:title>evangelio</dc:title>
</cp:coreProperties>
</file>