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nga_Jankauskaite_-_Laseliai%20(6).wav" ContentType="audio/x-wav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771A-82F1-467B-B009-515BA37BE8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C44F-5C13-41DC-88E3-D9A807560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B61-42BE-4162-91C1-3333FE0C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662-0971-4A2B-A6ED-B15F2BE4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7D5-9B6A-424B-A951-FB27059A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ABC-08E9-40E1-A173-29969CB2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9063-098B-4C38-944D-207C2309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42B-2E29-42D4-B821-3D045D30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288-372A-4CED-9BDB-9FC2CC48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7F7-8035-40EB-BE79-5A272957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2AB-20AF-4753-B4B5-369668A9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E05-21FC-4D05-AEE2-E9CF23ED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320-E4EC-4053-9A8C-31A4D58C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C7A5-6D30-40FD-B07D-3F668BE9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0226-CF1F-4EB6-BBCE-75DF5ABEB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Inga_Jankauskaite_-_Laseliai%20(6)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lombia.indymedia.org/news/2007/03/61560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Inga_Jankauskaite_-_Laseliai%20(6)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5640" y="4292640"/>
            <a:ext cx="795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Ahora tómalo y dale todo el amor que pued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No entiendo… -me excus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Que le des todo el cariño de que seas capaz, a tu man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Y me dejó con el ni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3280" y="549360"/>
            <a:ext cx="4104000" cy="295272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324000" y="333360"/>
            <a:ext cx="3671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Bien: tómalo con cuidado             y trá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o bautizamos ay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o noté con una fiebre altís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niño tendría un par                      de años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La malaria una de las principales causas de muerte en niños menores a cinco años en África"/>
          <p:cNvPicPr/>
          <p:nvPr/>
        </p:nvPicPr>
        <p:blipFill>
          <a:blip r:embed="rId1"/>
          <a:stretch/>
        </p:blipFill>
        <p:spPr>
          <a:xfrm>
            <a:off x="1835280" y="476280"/>
            <a:ext cx="5905440" cy="331164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116000" y="4437000"/>
            <a:ext cx="741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e canté, lo besé, lo arrullé… dejó de llorar,                     me sonrió, se durmi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l cabo de un rato, busqué llorando a la herma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Hermana: no respi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836640"/>
            <a:ext cx="331164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 monja certificó su muer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Ha muerto en tus brazos… Y tú le has adelantado quince minutos con tu cariño el amor que Dios                le va a dar por toda la eterni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788000" y="765000"/>
            <a:ext cx="3524040" cy="518508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404640"/>
            <a:ext cx="388764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Entonces entendí tantas cosas: el cielo, el amor de mis padres, el amor de Jesús, los detalles   de afecto de mis amigos… Mi viaje a Kenya supuso un antes y un después en mi vida. Ahora sé que todos tenemos “Kenyas” a nuestro alrededor para dar     amor cada dí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356000" y="112536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076720" y="692280"/>
            <a:ext cx="324036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oy a pasar por la vida una sola vez, cualquier cosa buena que yo pueda hacer o alguna amabilidad que pueda hacer a algún humano, debo hacerlo ahora, porque no pasaré de nuevo por ahí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adre Teresa de Calc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3381480" cy="518508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26828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UN ADELANTO DEL CI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33880" y="1341360"/>
            <a:ext cx="3490920" cy="504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692280"/>
            <a:ext cx="5977080" cy="349560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826920" y="494172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currió durante un mes de voluntariado                   en las vacaciones de vera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55640" y="981000"/>
            <a:ext cx="302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uando llegamos a Nairobi (Kenya), nos preguntábamos cómo nosotros, inexpertos universitarios, podríamos ayudar en aquella África sucia, polvorienta  y calur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01.jpg"/>
          <p:cNvPicPr/>
          <p:nvPr/>
        </p:nvPicPr>
        <p:blipFill>
          <a:blip r:embed="rId1"/>
          <a:stretch/>
        </p:blipFill>
        <p:spPr>
          <a:xfrm>
            <a:off x="4716360" y="692280"/>
            <a:ext cx="3291120" cy="49687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048360" cy="324036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611280" y="4941720"/>
            <a:ext cx="817236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Quizá arreglando tejados, pero no teníamos                          experiencia en constru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Quizá pintando un colegio, pero no sabíamos de pintur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Niño severamente desnutrido"/>
          <p:cNvPicPr/>
          <p:nvPr/>
        </p:nvPicPr>
        <p:blipFill>
          <a:blip r:embed="rId1"/>
          <a:stretch/>
        </p:blipFill>
        <p:spPr>
          <a:xfrm>
            <a:off x="4500720" y="765000"/>
            <a:ext cx="4140000" cy="532944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755640" y="692280"/>
            <a:ext cx="295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o que sí teníamos claro era nuestra intención de darnos totalmente a los demás. Sin embargo, recibiríamos mucho más de lo que logramos dar: tuvimos la suerte de entrar en contacto con el Tercer Mundo, a través de un alojamiento para niños moribundos de las Hermanas de la Caridad en Nairob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03640" y="692280"/>
            <a:ext cx="3529080" cy="518292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24000" y="549360"/>
            <a:ext cx="396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odos entramos en aquella casucha, un tugurio sin muebles, con poca luz. Contrastaban las hamacas llenas de niños enfermos y lloriqueando con los limpísimos trajes talares blancos y azules de las Hermanas de la Caridad, que rebosaban alegría. Yo me quedé bloqueado, en mitad                         de la habit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Una madre con su hijo en Senegal. (Foto: AP)"/>
          <p:cNvPicPr/>
          <p:nvPr/>
        </p:nvPicPr>
        <p:blipFill>
          <a:blip r:embed="rId1"/>
          <a:stretch/>
        </p:blipFill>
        <p:spPr>
          <a:xfrm>
            <a:off x="755640" y="907920"/>
            <a:ext cx="4105440" cy="500400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5435640" y="907920"/>
            <a:ext cx="3311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Nunca había visto nada así. Mis compañeros universitarios                  se esparcieron                  por las estancias, siguiendo a distintas monjas, que requerían                    su asisten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Niños afectados por la desnutrición en Keita, Níger"/>
          <p:cNvPicPr/>
          <p:nvPr/>
        </p:nvPicPr>
        <p:blipFill>
          <a:blip r:embed="rId1"/>
          <a:stretch/>
        </p:blipFill>
        <p:spPr>
          <a:xfrm>
            <a:off x="5148360" y="981000"/>
            <a:ext cx="3203640" cy="468144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324000" y="404640"/>
            <a:ext cx="3887640" cy="63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na hermana me preguntó                  en ingl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¿Has venido a mirar                              o quieres ayud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orprendido por tan directa pregunta y en estado de sopor, balbuce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A ayud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¿Ves a ese niño de allí,                             el del fondo que ll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loraba desconsoladamente, pero sin fuer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Sí, ése (le dije señalándol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20:08:31Z</dcterms:created>
  <dc:creator>Contabilidad</dc:creator>
  <dc:description/>
  <dc:language>en-US</dc:language>
  <cp:lastModifiedBy>JPM</cp:lastModifiedBy>
  <dcterms:modified xsi:type="dcterms:W3CDTF">2009-04-13T15:36:08Z</dcterms:modified>
  <cp:revision>14</cp:revision>
  <dc:subject/>
  <dc:title>Diapositiva 1</dc:title>
</cp:coreProperties>
</file>