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nga_Jankauskaite_-_Laseliai%20(6)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8D19-C635-482E-9056-2F13161575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C9D-8918-4C50-9CCF-9A6B4A18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5B6-2331-49B1-921A-8E6EC4D6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805-98FF-43FF-8E5A-F0E9014B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E8C-AE70-4945-A064-82374BF2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604-8A7B-4C67-B887-F60535A8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61F-6EFA-4E44-8D0E-2623DBCF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B9A-F73D-4354-A708-EFF40FA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EAE-50A3-445A-BBB9-EA3EB4C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928-33D0-4EAC-BEDC-52A9978B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E29-5DB0-41D6-8759-DADC4BB5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0C0-8BE9-4869-A81A-553CC38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6D8-6E75-4E2B-989C-06099F4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542-7732-4BCA-B4C0-FB482D1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1A8-49A1-4B87-9384-D4113B45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ga_Jankauskaite_-_Laseliai%20(6)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lombia.indymedia.org/news/2007/03/61560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Inga_Jankauskaite_-_Laseliai%20(6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292640"/>
            <a:ext cx="795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Ahora tómalo y dale todo el amor que pued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No entiendo… -me excu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Que le des todo el cariño de que seas capaz, a tu man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Y me dejó con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04000" cy="295272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24000" y="333360"/>
            <a:ext cx="3671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Bien: tómalo con cuidado             y trá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bautizamos ay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noté con una fiebre altís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niño tendría un par                      de año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La malaria una de las principales causas de muerte en niños menores a cinco años en África"/>
          <p:cNvPicPr/>
          <p:nvPr/>
        </p:nvPicPr>
        <p:blipFill>
          <a:blip r:embed="rId1"/>
          <a:stretch/>
        </p:blipFill>
        <p:spPr>
          <a:xfrm>
            <a:off x="1835280" y="476280"/>
            <a:ext cx="5905440" cy="33116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116000" y="4437000"/>
            <a:ext cx="741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 canté, lo besé, lo arrullé… dejó de llorar,                     me sonrió, se durmi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cabo de un rato, busqué llorando a la herm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Hermana: no respi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836640"/>
            <a:ext cx="331164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monja certificó su mu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Ha muerto en tus brazos… Y tú le has adelantado quince minutos con tu cariño el amor que Dios                le va a dar por toda la etern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524040" cy="518508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04640"/>
            <a:ext cx="38876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Entonces entendí tantas cosas: el cielo, el amor de mis padres, el amor de Jesús, los detalles   de afecto de mis amigos… Mi viaje a Kenya supuso un antes y un después en mi vida. Ahora sé que todos tenemos “Kenyas” a nuestro alrededor para dar     amor cada dí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76720" y="692280"/>
            <a:ext cx="324036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oy a pasar por la vida una sola vez, cualquier cosa buena que yo pueda hacer o alguna amabilidad que pueda hacer a algún humano, debo hacerlo ahora, porque no pasaré de nuevo por ahí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dre Teresa de Calc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381480" cy="518508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26828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 ADELANTO DEL CI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3880" y="1341360"/>
            <a:ext cx="349092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692280"/>
            <a:ext cx="5977080" cy="34956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826920" y="494172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currió durante un mes de voluntariado                   en las vacaciones de ve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981000"/>
            <a:ext cx="30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ando llegamos a Nairobi (Kenya), nos preguntábamos cómo nosotros, inexpertos universitarios, podríamos ayudar en aquella África sucia, polvorienta  y calu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01.jpg"/>
          <p:cNvPicPr/>
          <p:nvPr/>
        </p:nvPicPr>
        <p:blipFill>
          <a:blip r:embed="rId1"/>
          <a:stretch/>
        </p:blipFill>
        <p:spPr>
          <a:xfrm>
            <a:off x="4716360" y="692280"/>
            <a:ext cx="3291120" cy="4968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048360" cy="324036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11280" y="4941720"/>
            <a:ext cx="81723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Quizá arreglando tejados, pero no teníamos                          experiencia en constru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Quizá pintando un colegio, pero no sabíamos de pin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Niño severamente desnutrido"/>
          <p:cNvPicPr/>
          <p:nvPr/>
        </p:nvPicPr>
        <p:blipFill>
          <a:blip r:embed="rId1"/>
          <a:stretch/>
        </p:blipFill>
        <p:spPr>
          <a:xfrm>
            <a:off x="4500720" y="765000"/>
            <a:ext cx="4140000" cy="53294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755640" y="692280"/>
            <a:ext cx="295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 sí teníamos claro era nuestra intención de darnos totalmente a los demás. Sin embargo, recibiríamos mucho más de lo que logramos dar: tuvimos la suerte de entrar en contacto con el Tercer Mundo, a través de un alojamiento para niños moribundos de las Hermanas de la Caridad en Nairo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529080" cy="518292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24000" y="549360"/>
            <a:ext cx="396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os entramos en aquella casucha, un tugurio sin muebles, con poca luz. Contrastaban las hamacas llenas de niños enfermos y lloriqueando con los limpísimos trajes talares blancos y azules de las Hermanas de la Caridad, que rebosaban alegría. Yo me quedé bloqueado, en mitad                         de la habit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Una madre con su hijo en Senegal. (Foto: AP)"/>
          <p:cNvPicPr/>
          <p:nvPr/>
        </p:nvPicPr>
        <p:blipFill>
          <a:blip r:embed="rId1"/>
          <a:stretch/>
        </p:blipFill>
        <p:spPr>
          <a:xfrm>
            <a:off x="755640" y="907920"/>
            <a:ext cx="4105440" cy="500400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435640" y="907920"/>
            <a:ext cx="3311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unca había visto nada así. Mis compañeros universitarios                  se esparcieron                  por las estancias, siguiendo a distintas monjas, que requerían                    su asist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Niños afectados por la desnutrición en Keita, Níger"/>
          <p:cNvPicPr/>
          <p:nvPr/>
        </p:nvPicPr>
        <p:blipFill>
          <a:blip r:embed="rId1"/>
          <a:stretch/>
        </p:blipFill>
        <p:spPr>
          <a:xfrm>
            <a:off x="5148360" y="981000"/>
            <a:ext cx="3203640" cy="468144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a hermana me preguntó                  en ing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¿Has venido a mirar                              o quieres ayu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rprendido por tan directa pregunta y en estado de sopor, balbuce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A ayud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¿Ves a ese niño de allí,                             el del fondo que ll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loraba desconsoladamente, pero sin fuer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Sí, ése (le dije señalándo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0:08:31Z</dcterms:created>
  <dc:creator>Contabilidad</dc:creator>
  <dc:description/>
  <dc:language>en-US</dc:language>
  <cp:lastModifiedBy>JPM</cp:lastModifiedBy>
  <dcterms:modified xsi:type="dcterms:W3CDTF">2009-04-13T15:36:08Z</dcterms:modified>
  <cp:revision>14</cp:revision>
  <dc:subject/>
  <dc:title>Diapositiva 1</dc:title>
</cp:coreProperties>
</file>