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Untitled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357-2533-4694-B2DF-B829A2FF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CBD-8763-403A-B500-1A57B6B3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64B-9A5B-477C-8E97-472A850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DBE-0096-487A-912F-FE67DD6F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66E-4E73-4BD2-99DB-D84F8DB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811-CF05-4336-B448-41DD4C6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7F6D-BD99-4AB9-AEF2-2BCC3571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9FD-8C13-48D1-8DD7-E81EA730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F37-A5E4-4471-9FB4-4213819C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400-B9E9-448B-A842-415FC25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C65-9A85-4268-9280-E597BDF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E6C-AA17-4C6C-8D28-524AF90D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DDA-763A-4742-ACEE-30F57284B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Untitled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6fe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628640"/>
            <a:ext cx="63565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00"/>
                </a:solidFill>
                <a:latin typeface="Arial Rounded MT Bold"/>
              </a:rPr>
              <a:t>LAS SIETE MARAVILLAS DEL MUN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1" name="Untitle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0000" y="4581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3.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Poder tocar</a:t>
            </a:r>
            <a:r>
              <a:rPr b="1" lang="fr-CA" sz="32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3640" cy="27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784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24000" y="54100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4. Poder prob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124160" cy="30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407664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5. Poder senti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03640" y="3279600"/>
            <a:ext cx="3746520" cy="330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5013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6. Poder re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í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409572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4105440" cy="3394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31687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ff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1052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7. Y poder a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65560" cy="520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70648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El salón se silenció a tal punto que si se hubiera caído un alfiler, se hubiera escuchado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br>
              <a:rPr sz="3600"/>
            </a:br>
            <a:br>
              <a:rPr sz="3600"/>
            </a:b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 Las cosas simples y ordinarias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y que nosotros tomamos como triviales, son sencillamente maravillosas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Un reco</a:t>
            </a:r>
            <a:r>
              <a:rPr b="1" lang="fr-FR" sz="4000" spc="-1" strike="noStrike">
                <a:solidFill>
                  <a:srgbClr val="ffff00"/>
                </a:solidFill>
                <a:latin typeface="Arial Rounded MT Bold"/>
              </a:rPr>
              <a:t>rdatorio muy respetuoso</a:t>
            </a:r>
            <a:r>
              <a:rPr b="1" lang="fr-CA" sz="4000" spc="-1" strike="noStrike">
                <a:solidFill>
                  <a:srgbClr val="ffff00"/>
                </a:solidFill>
                <a:latin typeface="Arial Rounded MT Bold"/>
              </a:rPr>
              <a:t> :</a:t>
            </a:r>
            <a:br>
              <a:rPr sz="4000"/>
            </a:br>
            <a:br>
              <a:rPr sz="4000"/>
            </a:b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Las cosas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más preciadas de la vida, no se pueden construir con la mano, ni se pueden comprar con dinero.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Son las que nos da DIO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Ojalá no consideres que estás demasiado ocupado para compartir </a:t>
            </a: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e</a:t>
            </a:r>
            <a:r>
              <a:rPr b="0" lang="fr-CA" sz="4000" spc="-1" strike="noStrike">
                <a:solidFill>
                  <a:srgbClr val="ffff00"/>
                </a:solidFill>
                <a:latin typeface="Arial Rounded MT Bold"/>
              </a:rPr>
              <a:t>sta historia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Arial Rounded MT Bold"/>
              </a:rPr>
              <a:t>Que Dios te bendig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df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00"/>
                </a:solidFill>
                <a:latin typeface="Arial Rounded MT Bold"/>
              </a:rPr>
              <a:t>A un grupo de estudiantes de escuela primaria se les pidió que listaran lo que ellos pensaban eran las " 7 Maravillas del Mundo moderno o actuales ." A pesar de ciertas diferencias, los siguientes fueron los que más votos recibier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c2a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920" y="1371600"/>
            <a:ext cx="640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1. Las Pirámides de Egipt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2. El Taj Mahal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3. El Gran Cañón de Colorado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4. El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C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anal de Panam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á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5. El Edificio Empire State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6. La Bas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í</a:t>
            </a: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lica de San Pedro  </a:t>
            </a:r>
            <a:br>
              <a:rPr sz="3300"/>
            </a:br>
            <a:r>
              <a:rPr b="0" lang="fr-CA" sz="3300" spc="-1" strike="noStrike">
                <a:solidFill>
                  <a:srgbClr val="ffffff"/>
                </a:solidFill>
                <a:latin typeface="Arial Rounded MT Bold"/>
              </a:rPr>
              <a:t>7. </a:t>
            </a:r>
            <a:r>
              <a:rPr b="0" lang="fr-FR" sz="3300" spc="-1" strike="noStrike">
                <a:solidFill>
                  <a:srgbClr val="ffffff"/>
                </a:solidFill>
                <a:latin typeface="Arial Rounded MT Bold"/>
              </a:rPr>
              <a:t>La Gran Muralla Chin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5236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26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Mientras contaba los votos, la maestra notó que había </a:t>
            </a: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una niña que no había terminado de listar sus sugerencias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r>
              <a:rPr b="0" lang="fr-CA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125360"/>
            <a:ext cx="7086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sí que le preguntó si estab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a teniendo problemas con su lista, a  lo que l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a niña respondió: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"Sí, un poquito. No puedo terminar de </a:t>
            </a:r>
            <a:r>
              <a:rPr b="0" lang="fr-FR" sz="3600" spc="-1" strike="noStrike">
                <a:solidFill>
                  <a:srgbClr val="ffff00"/>
                </a:solidFill>
                <a:latin typeface="Arial Rounded MT Bold"/>
              </a:rPr>
              <a:t>decidirme pues hay muchas</a:t>
            </a:r>
            <a:r>
              <a:rPr b="0" lang="fr-CA" sz="3600" spc="-1" strike="noStrike">
                <a:solidFill>
                  <a:srgbClr val="ffff00"/>
                </a:solidFill>
                <a:latin typeface="Arial Rounded MT Bold"/>
              </a:rPr>
              <a:t>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1412640"/>
            <a:ext cx="66261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La maestra entonces le dijo: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Bueno, léenos lo que tienes hasta ahora y a lo mejor </a:t>
            </a: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e podemos ayudar</a:t>
            </a:r>
            <a:r>
              <a:rPr b="1" lang="fr-CA" sz="4000" spc="-1" strike="noStrike">
                <a:solidFill>
                  <a:srgbClr val="ff3300"/>
                </a:solidFill>
                <a:latin typeface="Arial Rounded MT Bold"/>
              </a:rPr>
              <a:t>"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3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 Rounded MT Bold"/>
              </a:rPr>
              <a:t>La niña lo pensó un instante, pero luego leyó</a:t>
            </a: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: </a:t>
            </a:r>
            <a:br>
              <a:rPr sz="4400"/>
            </a:br>
            <a:br>
              <a:rPr sz="1000"/>
            </a:br>
            <a:r>
              <a:rPr b="1" lang="fr-CA" sz="4400" spc="-1" strike="noStrike">
                <a:solidFill>
                  <a:srgbClr val="ffff00"/>
                </a:solidFill>
                <a:latin typeface="Arial Rounded MT Bold"/>
              </a:rPr>
              <a:t>Yo pienso que las siete maravillas del mundo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46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825800" cy="39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56386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         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1. Poder v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5084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2. Poder </a:t>
            </a:r>
            <a:r>
              <a:rPr b="1" lang="fr-FR" sz="2800" spc="-1" strike="noStrike">
                <a:solidFill>
                  <a:srgbClr val="ffff00"/>
                </a:solidFill>
                <a:latin typeface="Charcoal"/>
              </a:rPr>
              <a:t>oír</a:t>
            </a:r>
            <a:r>
              <a:rPr b="1" lang="fr-CA" sz="2800" spc="-1" strike="noStrike">
                <a:solidFill>
                  <a:srgbClr val="ffff00"/>
                </a:solidFill>
                <a:latin typeface="Charco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32000" y="1125360"/>
            <a:ext cx="31575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4:16:45Z</dcterms:created>
  <dc:creator>mmm</dc:creator>
  <dc:description/>
  <dc:language>en-US</dc:language>
  <cp:lastModifiedBy>pc</cp:lastModifiedBy>
  <dcterms:modified xsi:type="dcterms:W3CDTF">2007-11-16T21:18:26Z</dcterms:modified>
  <cp:revision>45</cp:revision>
  <dc:subject/>
  <dc:title>LAS SIETE MARAVILLAS DEL MUNDO</dc:title>
</cp:coreProperties>
</file>