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271-A668-4339-ACA8-250C5225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54D-74B2-4383-A9DC-4EFEFA1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FEC-5930-4C73-8C66-23A7329C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C2C-C63D-490B-A29E-339D896F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115-C29A-4133-BFA5-DCDFD2F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64F-4389-4076-A87D-39821949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3EA-90E8-4DD0-BAEA-D6AF9C2B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AC3-8C2B-46AD-A880-779F84D6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3E0-4F00-460B-ABC3-E1E34ACB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0B6-2C79-4007-9BD5-E96B6A8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80A-B98A-4874-ABE5-4C2033F5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68A-2CB0-4A0C-906D-D8BFBF0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86CC-51E4-4E91-B504-A8340CE61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8380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El mes pasado iba yo de viaje por una carretera y paré en una estación de servicio a echar gasolina…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asolinera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62940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33920" y="2819520"/>
            <a:ext cx="1371600" cy="520560"/>
          </a:xfrm>
          <a:prstGeom prst="rect">
            <a:avLst/>
          </a:prstGeom>
          <a:noFill/>
          <a:ln w="9360">
            <a:solidFill>
              <a:srgbClr val="00a0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8380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a076"/>
                </a:solidFill>
                <a:latin typeface="Arial"/>
                <a:ea typeface="Times New Roman"/>
              </a:rPr>
              <a:t>Entonces aproveché para entrar al baño. </a:t>
            </a:r>
            <a:br>
              <a:rPr sz="2800"/>
            </a:br>
            <a:r>
              <a:rPr b="1" lang="en-GB" sz="2800" spc="-1" strike="noStrike">
                <a:solidFill>
                  <a:srgbClr val="00a076"/>
                </a:solidFill>
                <a:latin typeface="Arial"/>
                <a:ea typeface="Times New Roman"/>
              </a:rPr>
              <a:t>En el sanitario vecino había otro viaj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lmetiche" descr=""/>
          <p:cNvPicPr/>
          <p:nvPr/>
        </p:nvPicPr>
        <p:blipFill>
          <a:blip r:embed="rId1"/>
          <a:stretch/>
        </p:blipFill>
        <p:spPr>
          <a:xfrm>
            <a:off x="2133720" y="2181240"/>
            <a:ext cx="487656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2004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Qu’iubo,  ¿cómo está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33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No acostumbro a hablar con desconocidos y menos en el baño, pero mi calidad de viajero incógnito me animó a contes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29718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Pues yo bien, muchas grac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lmetiche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 ¿En qué an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6094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Y a éste que le pasa, me pregunté. Me pareció estúpido pero igual respondí: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6668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Caramba, creo que lo mismo que tú... Voy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lmetich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4340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8195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¿Y se puede saber de qué se tr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8380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76"/>
                </a:solidFill>
                <a:latin typeface="Arial"/>
              </a:rPr>
              <a:t>Me estaba sintiendo muy incómodo y contesté un poco forzad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30481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¿Sí, claro. Voy a medellín y luego a Bogo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lmetiche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03884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2819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 Supongo que andas detrás de algún buen nego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762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Totalmente arrepentido de haber dado pie a esta conversación, contesté de mala g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5146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í, bueno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so espero, ya que las posibilidades de negocio son posi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lmetiche" descr=""/>
          <p:cNvPicPr/>
          <p:nvPr/>
        </p:nvPicPr>
        <p:blipFill>
          <a:blip r:embed="rId1"/>
          <a:stretch/>
        </p:blipFill>
        <p:spPr>
          <a:xfrm>
            <a:off x="2666880" y="2095560"/>
            <a:ext cx="38102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7524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¿Sabes qué?... Luego te vuelvo a llamar; se le está acabando la batería a mi celular y además aquí al lado hay un idiota que responde a todo lo que te preg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¡¿!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lmetiche" descr=""/>
          <p:cNvPicPr/>
          <p:nvPr/>
        </p:nvPicPr>
        <p:blipFill>
          <a:blip r:embed="rId1"/>
          <a:stretch/>
        </p:blipFill>
        <p:spPr>
          <a:xfrm>
            <a:off x="3352680" y="1670040"/>
            <a:ext cx="426744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1280" y="304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76"/>
                </a:solidFill>
                <a:latin typeface="Verdana"/>
              </a:rPr>
              <a:t>MORAL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9144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imítese a hacer lo que corresponde de acuerdo al lugar en donde es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4956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i va a la iglesia, rece...</a:t>
            </a:r>
            <a:br>
              <a:rPr sz="2400"/>
            </a:br>
            <a:r>
              <a:rPr b="1" lang="es-ES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Si va a una fiesta, diviértase...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i va a la mesa, coma...</a:t>
            </a:r>
            <a:br>
              <a:rPr sz="2400"/>
            </a:br>
            <a:r>
              <a:rPr b="1" lang="es-ES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Si va a la cama, duerm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6172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ero si va al baño…¡Cague call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lmetiche" descr=""/>
          <p:cNvPicPr/>
          <p:nvPr/>
        </p:nvPicPr>
        <p:blipFill>
          <a:blip r:embed="rId1"/>
          <a:stretch/>
        </p:blipFill>
        <p:spPr>
          <a:xfrm>
            <a:off x="3048120" y="1801800"/>
            <a:ext cx="3047760" cy="261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2:07:22Z</dcterms:created>
  <dc:creator>Marta</dc:creator>
  <dc:description/>
  <dc:language>en-US</dc:language>
  <cp:lastModifiedBy>Marta</cp:lastModifiedBy>
  <dcterms:modified xsi:type="dcterms:W3CDTF">2006-10-18T05:51:00Z</dcterms:modified>
  <cp:revision>3</cp:revision>
  <dc:subject/>
  <dc:title>No Slide Title</dc:title>
</cp:coreProperties>
</file>