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32.jpeg" ContentType="image/jpeg"/>
  <Override PartName="/ppt/media/sound002.wav" ContentType="audio/x-wav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02F0-189D-439D-B8A8-B62344890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DB80-6981-4D94-8740-A7611F97E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569F-3AFA-482F-9E2A-DA278C3E4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C7EA-6F05-42D4-BC1F-32BB54D4B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436A-C269-47E2-A4B2-44955CA82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9143-A140-4730-90E7-0769FF6BB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62DC-145D-44B9-9538-1A7D9CF49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79A5-238D-4BF2-945C-AF0F34F22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A621-2C94-4E03-94A8-C94E4D106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A775-9862-42FA-BAA5-8FBF5CBC2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073F-5DA7-4E3D-BC22-24470D0DC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01BF-1757-4178-9F82-DC31EBE4E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7320-29BC-4E83-BE6C-EE2F7AC7A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A6AE-D66A-46EB-A73C-5C8D41CCF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89DE-F8AE-48A8-A21F-E6E9BE0D9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C96E-E41F-466B-920E-33C58C6A9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AFC1-32FE-4897-888B-CB89E8D93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0FAE-036C-419A-97FD-EDBD74215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5103-A413-4FF8-89FB-D1225843C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4B31-91DB-40D5-B795-0780A6415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00A7-DF15-450B-AE72-E6A4F9FAE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F8AC-707D-438F-A256-A7ACDE20D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8FDE-CB19-4572-836B-E9BD78975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DFB2-B774-4CB5-A694-EB21533FD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7900-17A7-451E-951F-58EC1ACD0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53A5-7D2C-4D13-B181-D511DF8D2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B204-7C7F-4A59-9062-0C081A9C6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C00A-0603-4FA1-BA59-C9F093ED7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38B9-4512-45B6-A946-E19803A36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06A8-F353-4C80-BE3F-896537F84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AEF9-8D5A-4A97-B5E0-721337953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DC9A-1787-4DE6-9F66-87E1AB54B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E913-D110-42DA-B143-2892AAF33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2AEB-5A9F-49F1-A475-E6F0834C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127E-C6B9-4DF1-A288-218C56812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E584-39CC-471B-ADF3-DEC5D0BB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1C52-69BE-4C03-8DA0-288A534E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525F-3901-4BDD-835A-B575BDA5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C031-DD3D-43EB-B2C4-8EB64953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7FB7-232B-4E00-B4C9-76AA73C8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EE34-22DD-4248-82C5-4C22FE44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EF40-702D-4E76-80AB-7A8D0814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F9DB-0215-4AF2-AA9A-D9C214F8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979A-540E-455C-B2C9-10A13D34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220F-7B8B-4721-99B6-43BE4751A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und002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371600" y="2209680"/>
            <a:ext cx="6553080" cy="192240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cc33"/>
                </a:solidFill>
                <a:latin typeface="Arial"/>
              </a:rPr>
              <a:t>El día en que Dios derramó su                    caja de pinturas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189434979_20c0e9dff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2153668604_b5273823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cuenca-sunflowers-landscape-photo-Cuenca-_smgpx10001x14390x1659a047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image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2303044727_80c93875d3_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salada_de_fruta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6443colorida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beija flo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RainbowOverPotalaPalacePicture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Landscapes_-_Allen_-_Leaves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strips dir="rd"/>
    <p:sndAc>
      <p:stSnd>
        <p:snd r:embed="rId2" name="sound002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56821298_51dc453644"/>
          <p:cNvPicPr/>
          <p:nvPr/>
        </p:nvPicPr>
        <p:blipFill>
          <a:blip r:embed="rId1"/>
          <a:stretch/>
        </p:blipFill>
        <p:spPr>
          <a:xfrm>
            <a:off x="0" y="-1143000"/>
            <a:ext cx="9372600" cy="9220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DSCN33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ef4a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0465-1134725693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ladybu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109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IMG_55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448623709_0cb296d5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frutt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Colorful Flower Gard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NATURE-LifeIsFullOfColors_1024x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2096235075_19e13bf15c_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Tropical_Frui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bluefro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Wildflowers680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778097_7c5dbe41e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78715409_ac2e975f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Text Box 4" descr=""/>
          <p:cNvPicPr/>
          <p:nvPr/>
        </p:nvPicPr>
        <p:blipFill>
          <a:blip r:embed="rId2"/>
          <a:stretch/>
        </p:blipFill>
        <p:spPr>
          <a:xfrm>
            <a:off x="4718160" y="109440"/>
            <a:ext cx="4444920" cy="506520"/>
          </a:xfrm>
          <a:prstGeom prst="rect">
            <a:avLst/>
          </a:prstGeom>
          <a:ln w="0">
            <a:noFill/>
          </a:ln>
        </p:spPr>
      </p:pic>
      <p:pic>
        <p:nvPicPr>
          <p:cNvPr id="83" name="Text Box 5" descr=""/>
          <p:cNvPicPr/>
          <p:nvPr/>
        </p:nvPicPr>
        <p:blipFill>
          <a:blip r:embed="rId3"/>
          <a:stretch/>
        </p:blipFill>
        <p:spPr>
          <a:xfrm rot="20713200">
            <a:off x="480600" y="4760640"/>
            <a:ext cx="3195720" cy="17794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LoryColours-AndrewJKTanS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Red_Roses_Too_NF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494674415_d1c79d8475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383488872_75878af9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colorful_landscap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image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16:11:51Z</dcterms:created>
  <dc:creator>RozanedeHolleben</dc:creator>
  <dc:description/>
  <dc:language>en-US</dc:language>
  <cp:lastModifiedBy>JORGE J. ESPINOSA R</cp:lastModifiedBy>
  <dcterms:modified xsi:type="dcterms:W3CDTF">2009-01-07T16:27:06Z</dcterms:modified>
  <cp:revision>7</cp:revision>
  <dc:subject/>
  <dc:title>Slide 1</dc:title>
</cp:coreProperties>
</file>