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2.jpeg" ContentType="image/jpeg"/>
  <Override PartName="/ppt/media/sound002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4976-F303-4AC9-A45D-BD9FBBBD4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027-DCC5-4908-811C-AAE7677A3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0415-75E6-4E0B-808B-652E39279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99A-74A7-411B-9143-7CF3065A0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D9B8-5F63-41C8-B839-60FD5E68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1BB9-7960-466B-840D-81132C54F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7019-5D45-485E-A5D6-69F8AA1F9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049-B22F-4EF8-9E88-589D8B168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ECC8-20A3-476B-8145-91C2B2569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E397-4672-45F0-AAF1-ACBDF3A28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A4A1-0C60-4085-85D9-8EFE421FC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17AA-27E8-45C7-BDB5-CE664646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C102-2BAA-4342-AC09-6430CE500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7A63-FBB9-45E0-B70D-C303DF24A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282D-5C3F-4E85-B77E-991ECF308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BB35-A67D-42DF-B966-56AC96E11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D8C8-AA89-4ED3-8617-22DBC2171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F225-5782-4C2E-9123-38FF41A7D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0C5C-B625-428A-87BE-A46B7E0F4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FA37-E8F2-46CF-BFE0-029104735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E35B-C6C4-4DA8-BBAC-991F19A51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95CC-0999-43C6-9EAF-D63E42B65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D90C-B0A1-49F2-ACEC-6C0F243BE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60B5-64A1-48B2-8745-8C6475AC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E7A6-D067-4373-A3F6-8D600B412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66FB-C46A-4CBB-9B62-139D9C184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63B7-7C12-4E0E-9904-A5370D1B8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A362-196E-4781-A69F-EE110CEE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8B2D-3AF8-4146-AC5C-0B7C6253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1922-5AB0-41C4-8F9D-195509BBD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51A3-DE2B-4218-B681-788168F28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2E42-BD30-4059-8891-9C53A820B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26E-25CE-483E-BA90-10067B2D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BC1-DDF2-4C49-A34D-4D54C50E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0DC-E6CC-429F-87B3-37D1E3CE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D49-7E25-419B-93CF-DAF3E56A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B00-984B-44C7-8D56-3F4FA6AE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52D-2859-423E-944E-2835D6BC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342-44AC-44C1-A619-FF0C9EE7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97D-8640-4866-9F1A-2C23E8E3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826-9231-47E1-A9F6-B1675D49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26C-EE02-48FC-9C6C-58E1B2A8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4A6-7A5B-443F-944F-AB5DAFB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3A1-6A3F-4361-B772-E7BF65F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53BB-0937-4A49-A6F1-029FE74E1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71600" y="2209680"/>
            <a:ext cx="6553080" cy="192240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cc33"/>
                </a:solidFill>
                <a:latin typeface="Arial"/>
              </a:rPr>
              <a:t>El día en que Dios derramó su                    caja de pintura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89434979_20c0e9dff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153668604_b5273823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uenca-sunflowers-landscape-photo-Cuenca-_smgpx10001x14390x1659a04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mage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303044727_80c93875d3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salada_de_frut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6443colorid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eija fl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RainbowOverPotalaPalacePicture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Landscapes_-_Allen_-_Leaves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  <p:sndAc>
      <p:stSnd>
        <p:snd r:embed="rId2" name="sound002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56821298_51dc453644"/>
          <p:cNvPicPr/>
          <p:nvPr/>
        </p:nvPicPr>
        <p:blipFill>
          <a:blip r:embed="rId1"/>
          <a:stretch/>
        </p:blipFill>
        <p:spPr>
          <a:xfrm>
            <a:off x="0" y="-1143000"/>
            <a:ext cx="9372600" cy="9220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SCN33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ef4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465-1134725693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ladybu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0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55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448623709_0cb296d5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frut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Colorful Flower Gard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NATURE-LifeIsFullOfColors_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096235075_19e13bf15c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Tropical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bluefro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Wildflowers680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778097_7c5dbe41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78715409_ac2e975f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Text Box 4" descr=""/>
          <p:cNvPicPr/>
          <p:nvPr/>
        </p:nvPicPr>
        <p:blipFill>
          <a:blip r:embed="rId2"/>
          <a:stretch/>
        </p:blipFill>
        <p:spPr>
          <a:xfrm>
            <a:off x="4718160" y="109440"/>
            <a:ext cx="4444920" cy="506520"/>
          </a:xfrm>
          <a:prstGeom prst="rect">
            <a:avLst/>
          </a:prstGeom>
          <a:ln w="0">
            <a:noFill/>
          </a:ln>
        </p:spPr>
      </p:pic>
      <p:pic>
        <p:nvPicPr>
          <p:cNvPr id="83" name="Text Box 5" descr=""/>
          <p:cNvPicPr/>
          <p:nvPr/>
        </p:nvPicPr>
        <p:blipFill>
          <a:blip r:embed="rId3"/>
          <a:stretch/>
        </p:blipFill>
        <p:spPr>
          <a:xfrm rot="20713200">
            <a:off x="480600" y="4760640"/>
            <a:ext cx="3195720" cy="1779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LoryColours-AndrewJKTanS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Red_Roses_Too_NF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94674415_d1c79d8475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383488872_75878af9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olorful_landsca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age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6:11:51Z</dcterms:created>
  <dc:creator>RozanedeHolleben</dc:creator>
  <dc:description/>
  <dc:language>en-US</dc:language>
  <cp:lastModifiedBy>JORGE J. ESPINOSA R</cp:lastModifiedBy>
  <dcterms:modified xsi:type="dcterms:W3CDTF">2009-01-07T16:27:06Z</dcterms:modified>
  <cp:revision>7</cp:revision>
  <dc:subject/>
  <dc:title>Slide 1</dc:title>
</cp:coreProperties>
</file>