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CR%20-%20Jarcha%20-%20Andaluces%20de%20Ja%C3%A9n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8F0-2AFA-4597-8437-7EC60793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DA8-AE01-499E-BE1C-9947298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EAE-2C12-40BD-912A-FE9CA01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CAE-D863-4015-8C15-D03D74A5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0A6-5BC7-457B-9160-3E68E08F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4ED-1670-4FAC-89A2-7426A490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88F-4F8D-46D2-9F16-39B8790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0A2-A04F-41B4-869A-DF353F8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EEB-F182-4A25-9222-77E9A5CA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ECC-6383-4E43-A636-2F8C65C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6D4-BBD0-4B63-9841-1D45E52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F42-B1AC-44CF-B494-10AC486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4F4-C973-44C5-8458-2F621D2A9DB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R%20-%20Jarcha%20-%20Andaluces%20de%20Ja&#233;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7621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 Imagen" descr="jaen.jpg"/>
          <p:cNvPicPr/>
          <p:nvPr/>
        </p:nvPicPr>
        <p:blipFill>
          <a:blip r:embed="rId1"/>
          <a:stretch/>
        </p:blipFill>
        <p:spPr>
          <a:xfrm>
            <a:off x="2058840" y="874800"/>
            <a:ext cx="4942080" cy="5197320"/>
          </a:xfrm>
          <a:prstGeom prst="rect">
            <a:avLst/>
          </a:prstGeom>
          <a:ln w="127080">
            <a:solidFill>
              <a:srgbClr val="00b050"/>
            </a:solidFill>
            <a:miter/>
          </a:ln>
        </p:spPr>
      </p:pic>
      <p:pic>
        <p:nvPicPr>
          <p:cNvPr id="43" name="3 Rectángulo" descr=""/>
          <p:cNvPicPr/>
          <p:nvPr/>
        </p:nvPicPr>
        <p:blipFill>
          <a:blip r:embed="rId2"/>
          <a:stretch/>
        </p:blipFill>
        <p:spPr>
          <a:xfrm>
            <a:off x="19080" y="1682640"/>
            <a:ext cx="944892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wedge/>
    <p:sndAc>
      <p:stSnd>
        <p:snd r:embed="rId3" name="CR%20-%20Jarcha%20-%20Andaluces%20de%20Ja%C3%A9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600"/>
                            </p:stCondLst>
                            <p:childTnLst>
                              <p:par>
                                <p:cTn id="11" nodeType="after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Imagen" descr="Diapositiva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Imagen" descr="Diapositiv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Diapositiva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Imagen" descr="Diapositiva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 Imagen" descr="Diapositiv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Diapositiva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Imagen" descr="Diapositiva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Imagen" descr="Diapositiva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3 Imagen" descr="Diapositiva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3 Imagen" descr="Diapositiva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3 Imagen" descr="Diapositi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3 Imagen" descr="Diapositiva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1320" y="1528920"/>
            <a:ext cx="219240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cidme en el alma: ¿qui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ién levantó l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os levantó la na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i el dinero, ni el señor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ino la tierra calla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el trabajo y el sudor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Unidos al agua pur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y a los planetas unid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os tres dieron la hermosur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 los troncos retorcidos.</a:t>
            </a:r>
            <a:br>
              <a:rPr sz="1100"/>
            </a:br>
            <a:br>
              <a:rPr sz="1100"/>
            </a:br>
            <a:r>
              <a:rPr b="1" i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evántate, olivo cano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ijeron al pie del viento.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Y el olivo alzó una mano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oderosa de cimiento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cidme en el alma, ¿quié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mamantó l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Vuestra sangre, vuestra vi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a del explotador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se enriqueció en la herid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generosa de sudor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571840" y="1740600"/>
            <a:ext cx="22046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a del terrateniente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sepultó en la pobrez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pisoteó la frente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redujo la cabeza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Árboles que vuestro afá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consagró al centro del dí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eran principio de un pa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sólo el otro comía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¡Cuántos siglos de aceitun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os pies y las manos pres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ol a sol y luna a lun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esan sobre vuestros huesos!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regunta mi alma: ¿de qui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 quién son est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Jaén, levántate brav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obre tus piedras lunare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vayas a ser esclav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con todos tus olivares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ntro de la claridad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l aceite y sus aroma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indican tu libertad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a libertad de las lom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Rectángulo" descr=""/>
          <p:cNvPicPr/>
          <p:nvPr/>
        </p:nvPicPr>
        <p:blipFill>
          <a:blip r:embed="rId2"/>
          <a:stretch/>
        </p:blipFill>
        <p:spPr>
          <a:xfrm>
            <a:off x="60480" y="92160"/>
            <a:ext cx="3938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3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3 Imagen" descr="Diapositiv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3 Imagen" descr="Diapositiv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 Imagen" descr="Diapositiv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3 Imagen" descr="Diapositiv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Imagen" descr="Diapositiv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Diapositiv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 Imagen" descr="Diapositiv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2:12:55Z</dcterms:created>
  <dc:creator>Vista</dc:creator>
  <dc:description/>
  <dc:language>en-US</dc:language>
  <cp:lastModifiedBy>WinuE</cp:lastModifiedBy>
  <dcterms:modified xsi:type="dcterms:W3CDTF">2009-01-14T00:09:46Z</dcterms:modified>
  <cp:revision>16</cp:revision>
  <dc:subject/>
  <dc:title>Diapositiva 1</dc:title>
</cp:coreProperties>
</file>