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amera.wav" ContentType="audio/x-wav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0D8-6C83-4F2A-8C3A-924C75D6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F08-2BF3-4467-9414-7FAE7B59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E3B-2783-4C64-B460-99818FEA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ED5-727C-4B57-BF97-9CA04EE5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A5D-6A05-4F3D-8266-F4BFBF9D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BEA-3268-4025-9FED-6DF5EEA4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72C-BB67-487D-B285-8BB79D06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71A-7F87-4C92-8635-492C65F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487-40CA-4F79-9CE2-25D8FE8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31D-567C-4B6B-8A6C-1B84FAA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F94-8D0D-4DFC-9209-BC24EA8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404-E4DD-41A5-A5DB-05B5458A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AAD8-D06F-454E-BA1A-AB0C9F45CE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afik 9" descr="59accf-pics_050 a.jpg"/>
          <p:cNvPicPr/>
          <p:nvPr/>
        </p:nvPicPr>
        <p:blipFill>
          <a:blip r:embed="rId1"/>
          <a:srcRect l="0" t="0" r="0" b="2733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67280" y="2997360"/>
            <a:ext cx="1009440" cy="86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9" descr="59accf-pics_050 a.jpg"/>
          <p:cNvPicPr/>
          <p:nvPr/>
        </p:nvPicPr>
        <p:blipFill>
          <a:blip r:embed="rId1"/>
          <a:srcRect l="0" t="0" r="0" b="2733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Grafik 10" descr="59accf-pics_050 b.jpg"/>
          <p:cNvPicPr/>
          <p:nvPr/>
        </p:nvPicPr>
        <p:blipFill>
          <a:blip r:embed="rId2"/>
          <a:stretch/>
        </p:blipFill>
        <p:spPr>
          <a:xfrm>
            <a:off x="-41400" y="-171360"/>
            <a:ext cx="9185400" cy="702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3068640"/>
            <a:ext cx="93636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10" descr="59accf-pics_050 b.jpg"/>
          <p:cNvPicPr/>
          <p:nvPr/>
        </p:nvPicPr>
        <p:blipFill>
          <a:blip r:embed="rId1"/>
          <a:stretch/>
        </p:blipFill>
        <p:spPr>
          <a:xfrm>
            <a:off x="-41400" y="-171360"/>
            <a:ext cx="9185400" cy="702936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1" descr="59accf-pics_050 c.jpg"/>
          <p:cNvPicPr/>
          <p:nvPr/>
        </p:nvPicPr>
        <p:blipFill>
          <a:blip r:embed="rId2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67280" y="2565360"/>
            <a:ext cx="1296720" cy="13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11" descr="59accf-pics_050 c.jpg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2" descr="59accf-pics_050 d.jpg"/>
          <p:cNvPicPr/>
          <p:nvPr/>
        </p:nvPicPr>
        <p:blipFill>
          <a:blip r:embed="rId2"/>
          <a:srcRect l="0" t="0" r="0" b="9044"/>
          <a:stretch/>
        </p:blipFill>
        <p:spPr>
          <a:xfrm>
            <a:off x="0" y="-8892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67280" y="2708280"/>
            <a:ext cx="1441440" cy="151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12" descr="59accf-pics_050 d.jpg"/>
          <p:cNvPicPr/>
          <p:nvPr/>
        </p:nvPicPr>
        <p:blipFill>
          <a:blip r:embed="rId1"/>
          <a:srcRect l="0" t="0" r="0" b="9044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2997360"/>
            <a:ext cx="1009440" cy="86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136440" y="-171360"/>
            <a:ext cx="9280440" cy="7029360"/>
            <a:chOff x="-136440" y="-171360"/>
            <a:chExt cx="9280440" cy="7029360"/>
          </a:xfrm>
        </p:grpSpPr>
        <p:pic>
          <p:nvPicPr>
            <p:cNvPr id="55" name="Grafik 13" descr="59accf-pics_050 e.jpg"/>
            <p:cNvPicPr/>
            <p:nvPr/>
          </p:nvPicPr>
          <p:blipFill>
            <a:blip r:embed="rId2"/>
            <a:stretch/>
          </p:blipFill>
          <p:spPr>
            <a:xfrm>
              <a:off x="-136440" y="-171360"/>
              <a:ext cx="9280440" cy="70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22680" y="3390840"/>
              <a:ext cx="73080" cy="36720"/>
            </a:xfrm>
            <a:prstGeom prst="ellipse">
              <a:avLst/>
            </a:pr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282920" y="3213000"/>
            <a:ext cx="57636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3" descr="59accf-pics_050 e.jpg"/>
          <p:cNvPicPr/>
          <p:nvPr/>
        </p:nvPicPr>
        <p:blipFill>
          <a:blip r:embed="rId1"/>
          <a:stretch/>
        </p:blipFill>
        <p:spPr>
          <a:xfrm>
            <a:off x="-136440" y="-171360"/>
            <a:ext cx="9280440" cy="7029360"/>
          </a:xfrm>
          <a:prstGeom prst="rect">
            <a:avLst/>
          </a:prstGeom>
          <a:ln w="0">
            <a:noFill/>
          </a:ln>
        </p:spPr>
      </p:pic>
      <p:pic>
        <p:nvPicPr>
          <p:cNvPr id="59" name="Grafik 14" descr="59accf-pics_050 f.jpg"/>
          <p:cNvPicPr/>
          <p:nvPr/>
        </p:nvPicPr>
        <p:blipFill>
          <a:blip r:embed="rId2"/>
          <a:stretch/>
        </p:blipFill>
        <p:spPr>
          <a:xfrm>
            <a:off x="-212760" y="-171360"/>
            <a:ext cx="9356760" cy="7029360"/>
          </a:xfrm>
          <a:prstGeom prst="rect">
            <a:avLst/>
          </a:prstGeom>
          <a:ln w="0">
            <a:noFill/>
          </a:ln>
        </p:spPr>
      </p:pic>
      <p:sp>
        <p:nvSpPr>
          <p:cNvPr id="60" name="Wolkenförmige Legende 15"/>
          <p:cNvSpPr/>
          <p:nvPr/>
        </p:nvSpPr>
        <p:spPr>
          <a:xfrm>
            <a:off x="4932360" y="620640"/>
            <a:ext cx="2303640" cy="1079640"/>
          </a:xfrm>
          <a:prstGeom prst="cloudCallout">
            <a:avLst>
              <a:gd name="adj1" fmla="val -32148"/>
              <a:gd name="adj2" fmla="val 8602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de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Google Earth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7" descr="google-earth.jpg"/>
          <p:cNvPicPr/>
          <p:nvPr/>
        </p:nvPicPr>
        <p:blipFill>
          <a:blip r:embed="rId3"/>
          <a:stretch/>
        </p:blipFill>
        <p:spPr>
          <a:xfrm>
            <a:off x="5357880" y="3181320"/>
            <a:ext cx="3657600" cy="3683160"/>
          </a:xfrm>
          <a:prstGeom prst="rect">
            <a:avLst/>
          </a:prstGeom>
          <a:ln w="0">
            <a:noFill/>
          </a:ln>
        </p:spPr>
      </p:pic>
      <p:pic>
        <p:nvPicPr>
          <p:cNvPr id="62" name="Grafik 18" descr="1055.gif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6443640" y="42210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63" name="Grafik 19" descr="1055.gif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7164360" y="4221000"/>
            <a:ext cx="76212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0:47:16Z</dcterms:created>
  <dc:creator>Alter Penner</dc:creator>
  <dc:description/>
  <dc:language>en-US</dc:language>
  <cp:lastModifiedBy>GiL</cp:lastModifiedBy>
  <dcterms:modified xsi:type="dcterms:W3CDTF">2012-11-30T20:18:44Z</dcterms:modified>
  <cp:revision>28</cp:revision>
  <dc:subject/>
  <dc:title>Folie 1</dc:title>
</cp:coreProperties>
</file>