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molotov%20-%20con%20todo%20respeto%20-%20da%20da%20da(2)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BD9-9055-4DE0-9F96-E9CD1C0B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00D-F27F-42DE-8829-9B6C0094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43A-A750-4789-B257-78F0EE50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263-238D-43B6-A947-3AAB076E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F80-A670-4024-B34E-5066F4B3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EEF-BA24-4A31-A7A1-4E03093A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850-2E4F-4F9C-9DEF-13BC951D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68B-CAF3-4D28-8BE4-66FF7694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8D4-4CAF-47CE-8034-A11031A1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625-C372-4147-A10A-14C4F58B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E8B-B66F-407A-AC26-F4CBA21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363-27D4-4D2A-848D-3A9867D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F0D-C56D-4FFD-B7F0-4ABB7F078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lotov%20-%20con%20todo%20respeto%20-%20da%20da%20da(2)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Bar dir="vert"/>
    <p:sndAc>
      <p:stSnd>
        <p:snd r:embed="rId2" name="molotov%20-%20con%20todo%20respeto%20-%20da%20da%20da(2)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457200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Llegan dos mujeres al cielo y una le pregunta a la otra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- Cómo te moriste 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- Congelad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- Ay!!! que horror!! debe ser horrible morir congelada!!!, qué sentiste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476280"/>
            <a:ext cx="335268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Al comienzo es muy feo, primero dan escalofríos, despué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los dolores en los dedos de las manos y pies, todo se v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congelando, después viene un sueño muy pesado, y perdí l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conciencia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Y tú cómo morist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7200"/>
            <a:ext cx="381024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- Yo? de un ataque cardíaco, estaba desconfiando de mi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arido, creí que me engañaba, un día llegué más temprano d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trabajar, corrí hasta el dormitorio y él estaba acostado en la cam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viendo televisión. Desconfiad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corrí al sótano para asegurarme de que no tenía 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ninguna mujer escondi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25360"/>
            <a:ext cx="3975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pero no había nadie, corrí hasta el segundo piso, pero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tampoco encontré a nadie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después subí hasta el desván, y al ir subiendo las escaleras, me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dio un ataque cardíaco, y caí muert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81200"/>
            <a:ext cx="3975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 2: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- Mirá que sos Boluda! 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si hubieras buscado en el refrigerador, las dos estaríamos vivas........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5480" y="5029200"/>
            <a:ext cx="14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Snap ITC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8:20:10Z</dcterms:created>
  <dc:creator>Cadenas</dc:creator>
  <dc:description/>
  <dc:language>en-US</dc:language>
  <cp:lastModifiedBy>Silvia1</cp:lastModifiedBy>
  <dcterms:modified xsi:type="dcterms:W3CDTF">2007-05-24T14:12:30Z</dcterms:modified>
  <cp:revision>6</cp:revision>
  <dc:subject/>
  <dc:title>Presentación de PowerPoint</dc:title>
</cp:coreProperties>
</file>