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molotov%20-%20con%20todo%20respeto%20-%20da%20da%20da(2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04A-BAAD-4E61-8403-8317BE43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1B3-3B8F-4EA2-8A2C-86D38BC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6A9-BCFD-4C1E-A4C3-BB15A887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01F-1FD1-408C-9700-AD73419F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0B0-3A04-4D6D-A72D-924E28C4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B33-6172-4B32-B971-F23979D9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BE2-C810-46F4-B5FE-6A736DB7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A1F-CFCE-4936-BAE8-127D372E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069-F187-44F4-8FAA-58F8EEDE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F15-958C-413F-B0BC-3CF3C0D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B5E-9066-4883-A1C6-3C2DDD9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EB0-37B8-49F2-8679-08CE215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2515-F907-42D9-BCF6-24B523DB7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lotov%20-%20con%20todo%20respeto%20-%20da%20da%20da(2)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vert"/>
    <p:sndAc>
      <p:stSnd>
        <p:snd r:embed="rId2" name="molotov%20-%20con%20todo%20respeto%20-%20da%20da%20da(2)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457200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Llegan dos mujeres al cielo y una le pregunta a la otr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Cómo te moriste 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Congelad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Ay!!! que horror!! debe ser horrible morir congelada!!!, qué sentiste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476280"/>
            <a:ext cx="33526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Al comienzo es muy feo, primero dan escalofríos, despué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los dolores en los dedos de las manos y pies, todo se v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congelando, después viene un sueño muy pesado, y perdí l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conciencia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Y tú cómo morist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87200"/>
            <a:ext cx="381024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Yo? de un ataque cardíaco, estaba desconfiando de m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arido, creí que me engañaba, un día llegué más temprano d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trabajar, corrí hasta el dormitorio y él estaba acostado en la cam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viendo televisión. Desconfiad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corrí al sótano para asegurarme de que no tenía 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ninguna mujer escondi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25360"/>
            <a:ext cx="3975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pero no había nadie, corrí hasta el segundo piso, per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tampoco encontré a nadie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después subí hasta el desván, y al ir subiendo las escaleras, me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dio un ataque cardíaco, y caí muert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81200"/>
            <a:ext cx="3975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Mujer 2:</a:t>
            </a: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- Mirá que sos Boluda! 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Kristen ITC"/>
                <a:ea typeface="Tahoma"/>
              </a:rPr>
              <a:t>si hubieras buscado en el refrigerador, las dos estaríamos vivas........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5480" y="5029200"/>
            <a:ext cx="14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Snap ITC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8:20:10Z</dcterms:created>
  <dc:creator>Cadenas</dc:creator>
  <dc:description/>
  <dc:language>en-US</dc:language>
  <cp:lastModifiedBy>Silvia1</cp:lastModifiedBy>
  <dcterms:modified xsi:type="dcterms:W3CDTF">2007-05-24T14:12:30Z</dcterms:modified>
  <cp:revision>6</cp:revision>
  <dc:subject/>
  <dc:title>Presentación de PowerPoint</dc:title>
</cp:coreProperties>
</file>