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PLUGIN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Agnus%20Deiw.wav" ContentType="audio/x-wav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1598-AB4D-4C2F-805C-AEEFD710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7C3-0AC8-44E3-97C4-8E73A0CD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662A-66F0-4819-9C5E-098A7042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F3D-8494-4716-96E4-3D1620E4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0D3-60C9-4C7C-B9B4-5F1D7F32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A795-76AF-45D4-B26B-0C3E3ED4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7B4-6455-4B3C-8CB6-A2840588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E889-AE90-4B5B-940F-A763691F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E980-D04E-4CC0-8963-00A845AD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122-D592-43E3-9843-8269D0F8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EA02-F265-4FB5-AD78-207047B6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B46-FCC0-4DA7-8832-C82679F6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4CF0-BEE9-46F1-813F-A999D0D79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audio" Target="../media/Agnus%20Deiw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3680" y="476280"/>
            <a:ext cx="4307040" cy="5837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103640" y="476280"/>
            <a:ext cx="4716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 Black"/>
              </a:rPr>
              <a:t>DOMING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4788000" y="3357720"/>
            <a:ext cx="4176720" cy="2228040"/>
          </a:xfrm>
          <a:prstGeom prst="rect">
            <a:avLst/>
          </a:prstGeom>
          <a:solidFill>
            <a:srgbClr val="fef6d2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000000"/>
                </a:solidFill>
                <a:latin typeface="Times New Roman"/>
              </a:rPr>
              <a:t>Acompañemos el “Cordero de Dios” (Fauré) en el camino hacia la Cruz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62520" y="2421000"/>
            <a:ext cx="1695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iclo  B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67320" y="1773360"/>
            <a:ext cx="2355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cc9900"/>
                </a:solidFill>
                <a:latin typeface="Arial Black"/>
              </a:rPr>
              <a:t>24 del añ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59280" y="6165720"/>
            <a:ext cx="5935680" cy="502920"/>
            <a:chOff x="3059280" y="6165720"/>
            <a:chExt cx="5935680" cy="502920"/>
          </a:xfrm>
        </p:grpSpPr>
        <p:sp>
          <p:nvSpPr>
            <p:cNvPr id="48" name=""/>
            <p:cNvSpPr/>
            <p:nvPr/>
          </p:nvSpPr>
          <p:spPr>
            <a:xfrm>
              <a:off x="3545640" y="6165720"/>
              <a:ext cx="544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48300"/>
                  </a:solidFill>
                  <a:latin typeface="Arial"/>
                </a:rPr>
                <a:t>Monjas de Sant Benet de Montserr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3059280" y="6165720"/>
              <a:ext cx="484920" cy="502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  <p:sndAc>
      <p:stSnd>
        <p:snd r:embed="rId6" name="Agnus%20Dei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333360"/>
            <a:ext cx="8839440" cy="62661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 les prohibió terminantemente decírselo a nadie. Y empezó a instruirlos: "El Hijo del hombre tiene que padecer mucho, tiene que ser condenado por los ancianos, sumos sacerdotes y escribas, ser ejecutado y resucitar a los tres días."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63640" y="1052640"/>
            <a:ext cx="6858000" cy="5140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5877000"/>
            <a:ext cx="80647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Sabemos morir, si sabemos VIVI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89000"/>
            <a:ext cx="68421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orqué eres Dios, vas LIBREMENTE a la mue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95280" y="457200"/>
            <a:ext cx="6624720" cy="496980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 lo explicaba con toda claridad.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277920"/>
            <a:ext cx="9144000" cy="6302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4000" y="5967360"/>
            <a:ext cx="8569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paso final depende del prim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89000"/>
            <a:ext cx="86421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Hay que entender con claridad donde lleva el corriente de la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228600"/>
            <a:ext cx="8686800" cy="618804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tonces Pedro se lo llevó aparte y se puso a increparlo. Jesús se volvió y, de cara a los discípulos, increpó a Pedro: "¡Quítate de mi vista, Satanás! ¡Tú piensas como los hombres, no como Dios!"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791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43280" y="5300640"/>
            <a:ext cx="42498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Dios os lanza hacia lo Nue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60280"/>
            <a:ext cx="741672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enéis miedo cuando pensáis “como los hombres”</a:t>
            </a: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0"/>
            <a:ext cx="8991720" cy="62661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pués llamó a la gente y a sus discípulos, y les dijo: "El que quiera venirse conmigo, que se niegue a sí mismo, que cargue con su cruz y me siga. Mirad, el que quiera salvar su vida la perderá; pero el que pierda su vida por mí y por el Evangelio la salvará."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7416720" cy="5043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35280" y="5373720"/>
            <a:ext cx="6984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No sabéis que al final la reencontraréis toda ente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260280"/>
            <a:ext cx="53276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No retengáis la vida, dejad que cor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1197000"/>
            <a:ext cx="6121440" cy="398088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eñor, haz que te reconozcamos no sólo de palabra sino recorriendo el mismo camino que a Ti </a:t>
            </a:r>
            <a:br>
              <a:rPr sz="3500"/>
            </a:b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te llevó al AMOR tot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57340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620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620640"/>
            <a:ext cx="7129440" cy="11610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e pps se ha reducido de peso con  PPTminimiz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32000" y="2205000"/>
            <a:ext cx="6696000" cy="393444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n los milagros del principio,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Mc quiere que reconozcamos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Jesús como MESIAS.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Él ahora anuncia que es un Mesías sufr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093000"/>
            <a:ext cx="561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Imágenes de Cesarea de Feli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37600" y="476280"/>
            <a:ext cx="5250960" cy="11912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Empieza la 2ª parte del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evangelio de MAR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7597800" y="0"/>
            <a:ext cx="242697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5640" y="404640"/>
            <a:ext cx="7704000" cy="100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Cesarea de Felipe, lugar antiguo de culto a Baal y a los dioses griegos y romano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8611 3.48128E-006 L 0.86215 3.48128E-006 E">
                                      <p:cBhvr>
                                        <p:cTn id="28" dur="1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80880"/>
            <a:ext cx="8458200" cy="603612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s-ES" sz="6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c 8, 27-35 En aquel tiempo, Jesús y sus discípulos se dirigieron a las aldeas de Cesarea de Felipe;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4581360"/>
            <a:ext cx="52563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i te confesamos Salvador, tendremos coraje para segui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246240"/>
            <a:ext cx="73436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on los discípulos, preparas en secreto la CONFESIÓN</a:t>
            </a: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28600"/>
            <a:ext cx="8209080" cy="65847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r el camino, preguntó a sus discípulos: "¿Quién dice la gente que soy yo?"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los le contestaron: "Unos, Juan Bautista; otros, Elías; y otros, uno de los profetas."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08000" y="1433520"/>
            <a:ext cx="669960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5896080"/>
            <a:ext cx="8640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aber quien eres TU, comprome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7840" y="189000"/>
            <a:ext cx="7489800" cy="19224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Hasta ahora mandabas callar a los que te conocían, ahora provocas la reve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4360" y="692280"/>
            <a:ext cx="7777080" cy="48945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 les preguntó: "Y vosotros, ¿quién decís que soy?" Pedro le contestó: "Tú eres el Mesías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619280" y="260280"/>
            <a:ext cx="7345440" cy="70344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escubrirte es descubrir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71640" y="4676760"/>
            <a:ext cx="612144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Dios no ha dado ningún otro nombre que pueda salvarnos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   Acts 4:12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6035760"/>
            <a:ext cx="19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ltares de los di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3:35:40Z</dcterms:created>
  <dc:creator>Regina</dc:creator>
  <dc:description/>
  <dc:language>en-US</dc:language>
  <cp:lastModifiedBy>Usuario</cp:lastModifiedBy>
  <dcterms:modified xsi:type="dcterms:W3CDTF">2009-09-10T15:04:01Z</dcterms:modified>
  <cp:revision>217</cp:revision>
  <dc:subject/>
  <dc:title>evangeli</dc:title>
</cp:coreProperties>
</file>