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PLUGIN.WAV" ContentType="audio/x-wav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Agnus%20Deiw.wav" ContentType="audio/x-wav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C2F3-84B3-498D-B2D4-064B6C0A4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EDC2-0E68-4E8D-BC9B-5DF121558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E13A-18C7-49A8-9A6D-B8BF299A3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0E76-6131-474B-B4E9-D5851B626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D630-0034-429A-85D3-30FA0D2D5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EC62-5DD5-4205-9146-D47955B50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1F46-D49C-4525-8E28-CC358025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6BA4-0349-4E9B-A487-68AD90A9B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05A2-9953-441D-9844-ADC5E8FCB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D2D0-0A1E-43E6-8B0F-4DBB2754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2F63-1D40-4D17-B496-02631A77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96F3-CFCA-4B74-9C70-6BBDCDAF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26803-FDF7-4FB3-A773-A1BE0F781F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audio" Target="../media/Agnus%20Deiw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enedictinescat.com/montserrat" TargetMode="External"/><Relationship Id="rId3" Type="http://schemas.openxmlformats.org/officeDocument/2006/relationships/hyperlink" Target="http://www.benedictinescat.com/montserrat" TargetMode="External"/><Relationship Id="rId4" Type="http://schemas.openxmlformats.org/officeDocument/2006/relationships/hyperlink" Target="http://www.benedictinescat.com/montserrat" TargetMode="External"/><Relationship Id="rId5" Type="http://schemas.openxmlformats.org/officeDocument/2006/relationships/hyperlink" Target="http://www.benedictinescat.com/montserrat" TargetMode="External"/><Relationship Id="rId6" Type="http://schemas.openxmlformats.org/officeDocument/2006/relationships/hyperlink" Target="http://www.benedictinescat.com/montserrat" TargetMode="External"/><Relationship Id="rId7" Type="http://schemas.openxmlformats.org/officeDocument/2006/relationships/hyperlink" Target="http://www.benedictinescat.com/montserrat" TargetMode="External"/><Relationship Id="rId8" Type="http://schemas.openxmlformats.org/officeDocument/2006/relationships/hyperlink" Target="http://www.benedictinescat.com/montserrat" TargetMode="External"/><Relationship Id="rId9" Type="http://schemas.openxmlformats.org/officeDocument/2006/relationships/audio" Target="../media/PLUGIN.WAV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93680" y="476280"/>
            <a:ext cx="4307040" cy="5837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103640" y="476280"/>
            <a:ext cx="471636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Arial Black"/>
              </a:rPr>
              <a:t>DOMING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4788000" y="3357720"/>
            <a:ext cx="4176720" cy="2228040"/>
          </a:xfrm>
          <a:prstGeom prst="rect">
            <a:avLst/>
          </a:prstGeom>
          <a:solidFill>
            <a:srgbClr val="fef6d2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500" spc="-1" strike="noStrike">
                <a:solidFill>
                  <a:srgbClr val="000000"/>
                </a:solidFill>
                <a:latin typeface="Times New Roman"/>
              </a:rPr>
              <a:t>Acompañemos el “Cordero de Dios” (Fauré) en el camino hacia la Cruz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62520" y="2421000"/>
            <a:ext cx="16956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ffffff"/>
                </a:solidFill>
                <a:latin typeface="Arial Black"/>
              </a:rPr>
              <a:t>Ciclo  B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67320" y="1773360"/>
            <a:ext cx="23554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cc9900"/>
                </a:solidFill>
                <a:latin typeface="Arial Black"/>
              </a:rPr>
              <a:t>24 del año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059280" y="6165720"/>
            <a:ext cx="5935680" cy="502920"/>
            <a:chOff x="3059280" y="6165720"/>
            <a:chExt cx="5935680" cy="502920"/>
          </a:xfrm>
        </p:grpSpPr>
        <p:sp>
          <p:nvSpPr>
            <p:cNvPr id="48" name=""/>
            <p:cNvSpPr/>
            <p:nvPr/>
          </p:nvSpPr>
          <p:spPr>
            <a:xfrm>
              <a:off x="3545640" y="6165720"/>
              <a:ext cx="544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c48300"/>
                  </a:solidFill>
                  <a:latin typeface="Arial"/>
                </a:rPr>
                <a:t>Monjas de Sant Benet de Montserr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" name="" descr=""/>
            <p:cNvPicPr/>
            <p:nvPr/>
          </p:nvPicPr>
          <p:blipFill>
            <a:blip r:embed="rId5"/>
            <a:stretch/>
          </p:blipFill>
          <p:spPr>
            <a:xfrm>
              <a:off x="3059280" y="6165720"/>
              <a:ext cx="484920" cy="5029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  <p:sndAc>
      <p:stSnd>
        <p:snd r:embed="rId6" name="Agnus%20Dei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52280" y="333360"/>
            <a:ext cx="8839440" cy="626616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Él les prohibió terminantemente decírselo a nadie. Y empezó a instruirlos: "El Hijo del hombre tiene que padecer mucho, tiene que ser condenado por los ancianos, sumos sacerdotes y escribas, ser ejecutado y resucitar a los tres días."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763640" y="1052640"/>
            <a:ext cx="6858000" cy="5140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900000" y="5877000"/>
            <a:ext cx="8064720" cy="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Arial"/>
              </a:rPr>
              <a:t>Sabemos morir, si sabemos VIVIR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189000"/>
            <a:ext cx="6842160" cy="1312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Porqué eres Dios, vas LIBREMENTE a la muer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295280" y="457200"/>
            <a:ext cx="6624720" cy="496980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e lo explicaba con toda claridad.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277920"/>
            <a:ext cx="9144000" cy="63021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24000" y="5967360"/>
            <a:ext cx="85690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El paso final depende del prime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189000"/>
            <a:ext cx="8642160" cy="1312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Hay que entender con claridad donde lleva el corriente de la VI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8600" y="228600"/>
            <a:ext cx="8686800" cy="618804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ntonces Pedro se lo llevó aparte y se puso a increparlo. Jesús se volvió y, de cara a los discípulos, increpó a Pedro: "¡Quítate de mi vista, Satanás! ¡Tú piensas como los hombres, no como Dios!"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44280"/>
            <a:ext cx="9144000" cy="6791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643280" y="5300640"/>
            <a:ext cx="424980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Dios os lanza hacia lo Nue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260280"/>
            <a:ext cx="7416720" cy="1312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Tenéis miedo cuando pensáis “como los hombres”</a:t>
            </a:r>
            <a:r>
              <a:rPr b="1" lang="ca-E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52280" y="0"/>
            <a:ext cx="8991720" cy="626616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espués llamó a la gente y a sus discípulos, y les dijo: "El que quiera venirse conmigo, que se niegue a sí mismo, que cargue con su cruz y me siga. Mirad, el que quiera salvar su vida la perderá; pero el que pierda su vida por mí y por el Evangelio la salvará."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55640" y="1125360"/>
            <a:ext cx="7416720" cy="50436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835280" y="5373720"/>
            <a:ext cx="698472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¿No sabéis que al final la reencontraréis toda enter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260280"/>
            <a:ext cx="5327640" cy="1312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No retengáis la vida, dejad que cor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58920" y="1197000"/>
            <a:ext cx="6121440" cy="398088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ffffff"/>
                </a:solidFill>
                <a:latin typeface="Arial"/>
                <a:ea typeface="Times New Roman"/>
              </a:rPr>
              <a:t>Señor, haz que te reconozcamos no sólo de palabra sino recorriendo el mismo camino que a Ti </a:t>
            </a:r>
            <a:br>
              <a:rPr sz="3500"/>
            </a:br>
            <a:r>
              <a:rPr b="1" lang="es-ES" sz="3500" spc="-1" strike="noStrike">
                <a:solidFill>
                  <a:srgbClr val="ffffff"/>
                </a:solidFill>
                <a:latin typeface="Arial"/>
                <a:ea typeface="Times New Roman"/>
              </a:rPr>
              <a:t>te llevó al AMOR tot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4360" y="5734080"/>
            <a:ext cx="8137440" cy="642600"/>
          </a:xfrm>
          <a:prstGeom prst="rect">
            <a:avLst/>
          </a:prstGeom>
          <a:gradFill rotWithShape="0">
            <a:gsLst>
              <a:gs pos="0">
                <a:srgbClr val="bb4611"/>
              </a:gs>
              <a:gs pos="100000">
                <a:srgbClr val="56200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.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benedictinescat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.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com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/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montser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42920" y="620640"/>
            <a:ext cx="7129440" cy="1161000"/>
          </a:xfrm>
          <a:prstGeom prst="rect">
            <a:avLst/>
          </a:prstGeom>
          <a:solidFill>
            <a:srgbClr val="333333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ste pps se ha reducido de peso con  PPTminimize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LUG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332000" y="2205000"/>
            <a:ext cx="6696000" cy="3934440"/>
          </a:xfrm>
          <a:prstGeom prst="rect">
            <a:avLst/>
          </a:prstGeom>
          <a:solidFill>
            <a:srgbClr val="ffff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En los milagros del principio, 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Mc quiere que reconozcamos 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Jesús como MESIAS.</a:t>
            </a:r>
            <a:br>
              <a:rPr sz="3600"/>
            </a:b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Él ahora anuncia que es un Mesías sufrien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6093000"/>
            <a:ext cx="5616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Imágenes de Cesarea de Felip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37600" y="476280"/>
            <a:ext cx="5250960" cy="119124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Empieza la 2ª parte del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evangelio de MAR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-7597800" y="0"/>
            <a:ext cx="2426976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55640" y="404640"/>
            <a:ext cx="7704000" cy="100764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ffffff"/>
                </a:solidFill>
                <a:latin typeface="Arial"/>
              </a:rPr>
              <a:t>Cesarea de Felipe, lugar antiguo de culto a Baal y a los dioses griegos y romano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8611 3.48128E-006 L 0.86215 3.48128E-006 E">
                                      <p:cBhvr>
                                        <p:cTn id="28" dur="15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880" y="380880"/>
            <a:ext cx="8458200" cy="603612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1" lang="es-ES" sz="6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c 8, 27-35 En aquel tiempo, Jesús y sus discípulos se dirigieron a las aldeas de Cesarea de Felipe; 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95280" y="4581360"/>
            <a:ext cx="5256360" cy="19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Si te confesamos Salvador, tendremos coraje para seguir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76360" y="246240"/>
            <a:ext cx="7343640" cy="1312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Con los discípulos, preparas en secreto la CONFESIÓN</a:t>
            </a:r>
            <a:r>
              <a:rPr b="1" lang="ca-E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228600"/>
            <a:ext cx="8209080" cy="658476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or el camino, preguntó a sus discípulos: "¿Quién dice la gente que soy yo?"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llos le contestaron: "Unos, Juan Bautista; otros, Elías; y otros, uno de los profetas."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908000" y="1433520"/>
            <a:ext cx="6699600" cy="54244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79280" y="5896080"/>
            <a:ext cx="86407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Saber quien eres TU, comprome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7840" y="189000"/>
            <a:ext cx="7489800" cy="192240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Hasta ahora mandabas callar a los que te conocían, ahora provocas la revel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4360" y="692280"/>
            <a:ext cx="7777080" cy="489456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Él les preguntó: "Y vosotros, ¿quién decís que soy?" Pedro le contestó: "Tú eres el Mesías."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619280" y="260280"/>
            <a:ext cx="7345440" cy="70344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Descubrirte es descubrirn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71640" y="4676760"/>
            <a:ext cx="6121440" cy="19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Dios no ha dado ningún otro nombre que pueda salvarnos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   Acts 4:12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6035760"/>
            <a:ext cx="197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Altares de los di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9T13:35:40Z</dcterms:created>
  <dc:creator>Regina</dc:creator>
  <dc:description/>
  <dc:language>en-US</dc:language>
  <cp:lastModifiedBy>Usuario</cp:lastModifiedBy>
  <dcterms:modified xsi:type="dcterms:W3CDTF">2009-09-10T15:04:01Z</dcterms:modified>
  <cp:revision>217</cp:revision>
  <dc:subject/>
  <dc:title>evangeli</dc:title>
</cp:coreProperties>
</file>