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01%20MAMA%20VIEJA.wav" ContentType="audio/x-wav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B299-0BB8-45B4-BC5F-DBCF41F79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9EA9-AFC5-4E45-B679-025738001C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0682-7033-4F1C-BA20-23203A8C39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F6E7-3163-48F7-87D5-5DD2C28377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271E-AEFC-443C-81DE-46AB57154F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3AC5-CF9F-4C1A-A1E6-A03455FCCE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0911-C11F-4C2A-8370-BDFDD26B9A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C39E-1489-4F75-9674-E741254C37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75A2-05FC-4BE2-AFDB-8B339492A0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BEDC-ACE2-4B08-916C-358F6BF623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C31E-57C7-4B4A-81CB-E4CDFCCBBA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E217-3BD7-40AD-92BB-58A6673F80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DD9C-331A-4A30-8046-70D5A150CC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C43D-B667-47CA-B869-812E202B5E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4270-2EEB-4899-95DE-92F83843D9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869E-14A2-4D53-B088-57A98E5134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DF85-DED5-4CF2-A1E3-5EE951A17A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4EB9-492B-4184-A5D9-AB22A75BA2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E4BD-B1B4-48E9-99B5-106B72F7B9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A72-5E77-4A77-B68F-D8A4C1EA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E1D-C3D7-4DE3-A089-12D3F06C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E9D-1D1E-4BF4-ABB8-53AEB28E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C45-28D9-4BA3-B39B-5165A77D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58C0-F8C9-4C8F-86F8-8BF78441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6676-7BF2-4272-AE8E-A34638CE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EB8B-D864-4615-8F6E-EE74CAF4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EFF3-94AF-4C43-BF59-E31F80C0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0AE6-0CD0-472E-849A-CBFB00AE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EAB8-0549-4749-9A4A-483DCE7F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0E1F-A2CE-40BF-B112-EFA63387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8D9-7E78-450B-86B9-2AC84F0A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9217-631D-49BF-B275-A7C796A4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E24D-A3D8-4A01-A1BC-CD9063D2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1397-558A-4BA0-9D5C-D7BB1B68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CE6A-63C5-4C6C-AE65-496DAD77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FAEB-6728-4E1B-B34D-68B81C31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3AB-51A8-443F-B6AD-BFD64FA1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C1A-165C-4E33-869F-7FAA5566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06C-1431-493D-A92D-58624B94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C10-04C5-4A0A-99A5-4FE34570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80D4-CAE2-4561-94A1-0C731686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D0A-9DF2-4DC9-A1E6-B8B97B18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1C8-FBE7-452B-BF25-8CE783E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68D7-3306-4ABA-90B4-FD64F5DA2940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1CA5-ED9F-4AD2-BBC7-80CBB214880E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audio" Target="../media/01%20MAMA%20VIEJA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219320" y="57150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Para que los buenos ami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disfruten de estos reales pensami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457200" y="457200"/>
            <a:ext cx="3048120" cy="21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YA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SOY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VIEJO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3"/>
    <p:sndAc>
      <p:stSnd>
        <p:snd r:embed="rId8" name="01%20MAMA%20VIEJ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6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3 Rectángulo"/>
          <p:cNvSpPr/>
          <p:nvPr/>
        </p:nvSpPr>
        <p:spPr>
          <a:xfrm>
            <a:off x="5410080" y="190512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o decir “No” y querer decir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o decir “Si”   y querer decirlo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4 Rectángulo"/>
          <p:cNvSpPr/>
          <p:nvPr/>
        </p:nvSpPr>
        <p:spPr>
          <a:xfrm>
            <a:off x="4876920" y="434340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vas envejeciendo, es más fácil ser positiv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preocupas menos          de lo que las otras personas puedan pensar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6 Imagen" descr="+++000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50000"/>
          </a:xfrm>
          <a:prstGeom prst="rect">
            <a:avLst/>
          </a:prstGeom>
          <a:ln w="0">
            <a:noFill/>
          </a:ln>
        </p:spPr>
      </p:pic>
      <p:sp>
        <p:nvSpPr>
          <p:cNvPr id="124" name="7 Rectángulo"/>
          <p:cNvSpPr/>
          <p:nvPr/>
        </p:nvSpPr>
        <p:spPr>
          <a:xfrm>
            <a:off x="380880" y="1066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ta me he ganado el derecho de estar equivocad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8 Rectángulo" descr=""/>
          <p:cNvPicPr/>
          <p:nvPr/>
        </p:nvPicPr>
        <p:blipFill>
          <a:blip r:embed="rId2"/>
          <a:stretch/>
        </p:blipFill>
        <p:spPr>
          <a:xfrm>
            <a:off x="281160" y="3651120"/>
            <a:ext cx="4937040" cy="1165320"/>
          </a:xfrm>
          <a:prstGeom prst="rect">
            <a:avLst/>
          </a:prstGeom>
          <a:ln w="0">
            <a:noFill/>
          </a:ln>
        </p:spPr>
      </p:pic>
      <p:pic>
        <p:nvPicPr>
          <p:cNvPr id="126" name="9 Rectángulo" descr=""/>
          <p:cNvPicPr/>
          <p:nvPr/>
        </p:nvPicPr>
        <p:blipFill>
          <a:blip r:embed="rId3"/>
          <a:stretch/>
        </p:blipFill>
        <p:spPr>
          <a:xfrm>
            <a:off x="298440" y="2584440"/>
            <a:ext cx="4707000" cy="671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3 Imagen" descr="+++000-3+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457200" y="111960"/>
            <a:ext cx="8381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gusta ser la persona en la que me he converti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oy a vivir para siempre…pero mientras esté aquí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erderé tiempo en lamentar de lo que pudo s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reocuparme de lo que será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8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3581280" y="4456080"/>
            <a:ext cx="5257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ré postre todos los días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i así lo dese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8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80880" y="161640"/>
            <a:ext cx="784872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 sencillament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 generosament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blar amablement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resto… dejárselo A Dios</a:t>
            </a: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533520" y="3049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Qué bello es contemplar las flores y aspirar su fragancia en los ratos de nuestra vejez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609480" y="228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¡Que bellas son las maripos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vuelan de flor en flo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5 Imagen" descr="+++000-3+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Rectangle 10" descr=""/>
          <p:cNvPicPr/>
          <p:nvPr/>
        </p:nvPicPr>
        <p:blipFill>
          <a:blip r:embed="rId2"/>
          <a:stretch/>
        </p:blipFill>
        <p:spPr>
          <a:xfrm>
            <a:off x="219240" y="3724200"/>
            <a:ext cx="7572240" cy="294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6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5181480" y="220968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¡¡¡¡Sonrían cada mañana porque Dios se ha despertad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que t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ha colgado el Sol en tus ventanas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7 CuadroTexto"/>
          <p:cNvSpPr/>
          <p:nvPr/>
        </p:nvSpPr>
        <p:spPr>
          <a:xfrm>
            <a:off x="7618680" y="647712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ares As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7000">
    <p:wheel spokes="3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3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152280" y="694440"/>
            <a:ext cx="40388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otro día una perso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ven me pregunt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sentía ser viejo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sorprendió much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no me considero vi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4 Rectángulo"/>
          <p:cNvSpPr/>
          <p:nvPr/>
        </p:nvSpPr>
        <p:spPr>
          <a:xfrm>
            <a:off x="457200" y="44956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 soy ahora, probablemente por primera vez en mi vida, la persona que siempre quise s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457200" y="3048120"/>
            <a:ext cx="3733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Hacerse viejo,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he decidido,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es un regalo.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3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7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0" y="271800"/>
            <a:ext cx="9144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Algunas veces me desespero de mi cuerpo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las arrugas, las ojeras, las canas y la calvicie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a menudo me sorprendo de la persona vieja que vive en mi espej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5105520" y="281952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No cambiaría mis sorprendentes amig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ni mi maravillosa vi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por menos can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un cuerpo musculoso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5 Rectángulo"/>
          <p:cNvSpPr/>
          <p:nvPr/>
        </p:nvSpPr>
        <p:spPr>
          <a:xfrm>
            <a:off x="4800600" y="5334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Al envejec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me he vuelto amable conmi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menos crítico de mí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6 Rectángulo"/>
          <p:cNvSpPr/>
          <p:nvPr/>
        </p:nvSpPr>
        <p:spPr>
          <a:xfrm>
            <a:off x="38088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Pero no me preocupo de estas cosas por mucho tiemp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7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3809880" y="389520"/>
            <a:ext cx="51055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he convertido en mi mejor amig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e regaño por comer esa galleta extra, o por  no hacer mi cama o por comprar ese juego de jardí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necesita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8 Rectángulo"/>
          <p:cNvSpPr/>
          <p:nvPr/>
        </p:nvSpPr>
        <p:spPr>
          <a:xfrm>
            <a:off x="44956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y en mi derec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er un poco desordena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vagante y oler las flores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9 Rectángulo"/>
          <p:cNvSpPr/>
          <p:nvPr/>
        </p:nvSpPr>
        <p:spPr>
          <a:xfrm>
            <a:off x="4267080" y="449568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visto a muchos amig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se de este mundo muy pronto, antes de que entendier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libertad que vi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hacerse vi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4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0" y="213480"/>
            <a:ext cx="9144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A quién le interesa si escojo leer o jugar en la computadora          hasta las 4 de la mañana y luego dormir hasta el medio dí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ilaré conmigo a esos maravillosos acordes de los 50´s y 60´s              y si deseo en ese momento llorar por algún amor perdido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5 Rectángulo"/>
          <p:cNvSpPr/>
          <p:nvPr/>
        </p:nvSpPr>
        <p:spPr>
          <a:xfrm>
            <a:off x="1534680" y="5486400"/>
            <a:ext cx="19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lo haré!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3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2743200" y="233640"/>
            <a:ext cx="6172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inaré por la playa sin un traje de baño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sar de las miradas de compas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s que usan bikini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4 Rectángulo"/>
          <p:cNvSpPr/>
          <p:nvPr/>
        </p:nvSpPr>
        <p:spPr>
          <a:xfrm>
            <a:off x="220968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Ellos también se harán viej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(si tienen suerte).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5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715000" y="1226520"/>
            <a:ext cx="31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é que algunas veces soy olvidadizo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me acuerdo de las cosas importan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3 Rectángulo"/>
          <p:cNvSpPr/>
          <p:nvPr/>
        </p:nvSpPr>
        <p:spPr>
          <a:xfrm>
            <a:off x="4572000" y="3886200"/>
            <a:ext cx="434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avés de los añ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 corazón se ha ro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Cómo no puede romper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razón cuando pier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alguien queri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cuando sufre un niñ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cuando muere tu mascota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5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304920" y="1224360"/>
            <a:ext cx="4114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el corazón ro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o que nos da la fuerz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ndimiento y compas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6 Rectángulo"/>
          <p:cNvSpPr/>
          <p:nvPr/>
        </p:nvSpPr>
        <p:spPr>
          <a:xfrm>
            <a:off x="228600" y="30481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orazón que nunca se ha roto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nca sabrá de la felici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ser imperfecto.</a:t>
            </a: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6 Imagen" descr="+++000-3+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228600" y="2370600"/>
            <a:ext cx="43434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y bendito por haber vivido lo suficiente para que mis cabellos se vuelvan gris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conservar la sonri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mi juventu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228600" y="4699080"/>
            <a:ext cx="44956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tos no se han reí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tantos han muer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de que sus cabel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volvieran platead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1:24:22Z</dcterms:created>
  <dc:creator>Amalia</dc:creator>
  <dc:description/>
  <dc:language>en-US</dc:language>
  <cp:lastModifiedBy>FARES ASAD</cp:lastModifiedBy>
  <dcterms:modified xsi:type="dcterms:W3CDTF">2010-12-03T16:37:53Z</dcterms:modified>
  <cp:revision>80</cp:revision>
  <dc:subject/>
  <dc:title>Un Regalo para ti</dc:title>
</cp:coreProperties>
</file>