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01%20MAMA%20VIEJA.wav" ContentType="audio/x-wav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5EA6-FDF0-4D9F-AD16-DD60C422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4C94-CE75-41F8-8226-534D2B677F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3069-F848-4CD1-9276-1C8ADADF16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44E0-7E26-496C-B8A1-7864CAAF2F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2E85-8F9C-41DE-B44B-D22BC167D4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A0F-966C-45ED-A7D0-6D9975FBA6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AC9A-EAAE-4A6A-9CC0-3B0FB37512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065F-C498-47EA-ADF5-E0250CDAE3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3C92-E724-43C9-B1E7-FDFAEF709F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28DB-2375-4433-9778-5FCCCC0ABE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5373-92CE-4DC4-AE7E-87D54A765F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0397-5336-4B46-943F-01F2C30E14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1C5E-E61F-433C-8F52-164BAECF5F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838D-88F1-467C-B55E-29DFAD0AB8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2447-7F77-4BA5-A42A-0A3183AC3D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96B8-8F03-4922-A2BD-4F5A9BB26B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67F6-83FC-4DE5-873F-0F67748314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6C6F-0189-4B38-AFC5-A7336FD080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064A-2E64-4B77-BCC9-BA5672A42D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A24-1593-4409-85EE-301BE93F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70D-9F7C-487C-89F6-2E084A03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FA9-7B6B-4EC1-9933-91B69AB2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2C3-791B-4ED6-BA3E-E619521F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54DB-17BF-4E08-A0F0-825B37F7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48C9-F326-4F13-A726-5BDA8353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FA63-7CDB-4F22-9BB7-27AE2422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44B5-A991-47E2-999D-7DB5811C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F634-A2B4-4FB7-B913-072B98DA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4673-0449-4C4C-B1C2-1D40351A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8C4A-7CDE-4943-8822-928859B1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F97-0476-452C-A5CF-A7D43FAD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3E70-D788-4096-B67F-3AE0A865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B2BB-A6B3-4FD0-850C-D51701D2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771E-DE55-4E3C-B2C6-6C472FF8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C1C1-603C-418B-B16B-C9F1DBB5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17B7-13CB-47FE-847F-C6ECADB9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550-E1DE-48EF-9B5D-4C3846AA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F29-2BA1-4AD9-BB0C-CF223399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828-B432-442B-9F47-CDD5D3F7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EDD-8D1D-4CF2-B8D3-3D4B07EB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FDD-AE0E-43E2-A2D9-876CBAD6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026-9EC1-450A-8FC6-55998933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AEB-54A4-4561-B4C9-D285F8DB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7AB4-9081-4368-9D4A-E23051DE95F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851E-A55D-4F73-B406-CD54935E7579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../media/01%20MAMA%20VIEJA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219320" y="57150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Para que los buenos ami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disfruten de estos reales pensami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457200" y="457200"/>
            <a:ext cx="3048120" cy="21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YA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SOY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VIEJO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3"/>
    <p:sndAc>
      <p:stSnd>
        <p:snd r:embed="rId8" name="01%20MAMA%20VIEJ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6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3 Rectángulo"/>
          <p:cNvSpPr/>
          <p:nvPr/>
        </p:nvSpPr>
        <p:spPr>
          <a:xfrm>
            <a:off x="5410080" y="19051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No” y querer decir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Si”   y querer decirlo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4 Rectángulo"/>
          <p:cNvSpPr/>
          <p:nvPr/>
        </p:nvSpPr>
        <p:spPr>
          <a:xfrm>
            <a:off x="4876920" y="434340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vas envejeciendo, es más fácil ser positiv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preocupas menos          de lo que las otras personas puedan pensar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6 Imagen" descr="+++000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0000"/>
          </a:xfrm>
          <a:prstGeom prst="rect">
            <a:avLst/>
          </a:prstGeom>
          <a:ln w="0">
            <a:noFill/>
          </a:ln>
        </p:spPr>
      </p:pic>
      <p:sp>
        <p:nvSpPr>
          <p:cNvPr id="124" name="7 Rectángulo"/>
          <p:cNvSpPr/>
          <p:nvPr/>
        </p:nvSpPr>
        <p:spPr>
          <a:xfrm>
            <a:off x="380880" y="1066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ta me he ganado el derecho de estar equivocad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8 Rectángulo" descr=""/>
          <p:cNvPicPr/>
          <p:nvPr/>
        </p:nvPicPr>
        <p:blipFill>
          <a:blip r:embed="rId2"/>
          <a:stretch/>
        </p:blipFill>
        <p:spPr>
          <a:xfrm>
            <a:off x="281160" y="3651120"/>
            <a:ext cx="4937040" cy="1165320"/>
          </a:xfrm>
          <a:prstGeom prst="rect">
            <a:avLst/>
          </a:prstGeom>
          <a:ln w="0">
            <a:noFill/>
          </a:ln>
        </p:spPr>
      </p:pic>
      <p:pic>
        <p:nvPicPr>
          <p:cNvPr id="126" name="9 Rectángulo" descr=""/>
          <p:cNvPicPr/>
          <p:nvPr/>
        </p:nvPicPr>
        <p:blipFill>
          <a:blip r:embed="rId3"/>
          <a:stretch/>
        </p:blipFill>
        <p:spPr>
          <a:xfrm>
            <a:off x="298440" y="2584440"/>
            <a:ext cx="4707000" cy="671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3 Imagen" descr="+++000-3+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457200" y="111960"/>
            <a:ext cx="8381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gusta ser la persona en la que me he convert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oy a vivir para siempre…pero mientras esté aquí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erderé tiempo en lamentar de lo que pudo s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eocuparme de lo que será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8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3581280" y="4456080"/>
            <a:ext cx="5257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é postre todos los días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i así lo dese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8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80880" y="161640"/>
            <a:ext cx="784872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sencillament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generosamen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blar amablemen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resto… dejárselo A Dios</a:t>
            </a: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33520" y="3049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Qué bello es contemplar las flores y aspirar su fragancia en los ratos de nuestra vejez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609480" y="228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¡Que bellas son las maripos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vuelan de flor en fl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5 Imagen" descr="+++000-3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Rectangle 10" descr=""/>
          <p:cNvPicPr/>
          <p:nvPr/>
        </p:nvPicPr>
        <p:blipFill>
          <a:blip r:embed="rId2"/>
          <a:stretch/>
        </p:blipFill>
        <p:spPr>
          <a:xfrm>
            <a:off x="219240" y="3724200"/>
            <a:ext cx="7572240" cy="294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6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5181480" y="220968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¡¡¡¡Sonrían cada mañana porque Dios se ha desperta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que t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ha colgado el Sol en tus ventanas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7 CuadroTexto"/>
          <p:cNvSpPr/>
          <p:nvPr/>
        </p:nvSpPr>
        <p:spPr>
          <a:xfrm>
            <a:off x="7618680" y="64771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ares As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7000">
    <p:wheel spokes="3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3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52280" y="694440"/>
            <a:ext cx="40388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otro día una perso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ven me pregun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sentía ser viejo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sorprendió much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no me considero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4 Rectángulo"/>
          <p:cNvSpPr/>
          <p:nvPr/>
        </p:nvSpPr>
        <p:spPr>
          <a:xfrm>
            <a:off x="457200" y="44956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 soy ahora, probablemente por primera vez en mi vida, la persona que siempre quise s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457200" y="3048120"/>
            <a:ext cx="3733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Hacerse viejo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he decidido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es un regalo.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3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7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271800"/>
            <a:ext cx="914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gunas veces me desespero de mi cuerpo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las arrugas, las ojeras, las canas y la calvicie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a menudo me sorprendo de la persona vieja que vive en mi espej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5105520" y="281952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No cambiaría mis sorprendente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ni mi maravillosa vi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por menos can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un cuerpo musculos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5 Rectángulo"/>
          <p:cNvSpPr/>
          <p:nvPr/>
        </p:nvSpPr>
        <p:spPr>
          <a:xfrm>
            <a:off x="480060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 envejec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me he vuelto amable conmi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menos crítico de mí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6 Rectángulo"/>
          <p:cNvSpPr/>
          <p:nvPr/>
        </p:nvSpPr>
        <p:spPr>
          <a:xfrm>
            <a:off x="38088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Pero no me preocupo de estas cosas por mucho tiemp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7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3809880" y="389520"/>
            <a:ext cx="51055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he convertido en mi mejor am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e regaño por comer esa galleta extra, o por  no hacer mi cama o por comprar ese juego de jard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necesita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8 Rectángulo"/>
          <p:cNvSpPr/>
          <p:nvPr/>
        </p:nvSpPr>
        <p:spPr>
          <a:xfrm>
            <a:off x="44956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y en mi 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er un poco desordena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vagante y oler las flores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9 Rectángulo"/>
          <p:cNvSpPr/>
          <p:nvPr/>
        </p:nvSpPr>
        <p:spPr>
          <a:xfrm>
            <a:off x="4267080" y="449568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visto a mucho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se de este mundo muy pronto, antes de que entendier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ibertad que v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hacerse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4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0" y="213480"/>
            <a:ext cx="9144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A quién le interesa si escojo leer o jugar en la computadora          hasta las 4 de la mañana y luego dormir hasta el medio dí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ilaré conmigo a esos maravillosos acordes de los 50´s y 60´s              y si deseo en ese momento llorar por algún amor perdido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5 Rectángulo"/>
          <p:cNvSpPr/>
          <p:nvPr/>
        </p:nvSpPr>
        <p:spPr>
          <a:xfrm>
            <a:off x="1534680" y="5486400"/>
            <a:ext cx="19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lo haré!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3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743200" y="233640"/>
            <a:ext cx="6172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inaré por la playa sin un traje de baño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sar de las miradas de compas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s que usan bikini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4 Rectángulo"/>
          <p:cNvSpPr/>
          <p:nvPr/>
        </p:nvSpPr>
        <p:spPr>
          <a:xfrm>
            <a:off x="220968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Ellos también se harán viej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(si tienen suerte).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5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715000" y="1226520"/>
            <a:ext cx="31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é que algunas veces soy olvidadiz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me acuerdo de las cosas importa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3 Rectángulo"/>
          <p:cNvSpPr/>
          <p:nvPr/>
        </p:nvSpPr>
        <p:spPr>
          <a:xfrm>
            <a:off x="4572000" y="3886200"/>
            <a:ext cx="434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avés de los añ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 corazón se ha ro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Cómo no puede romp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razón cuando pier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alguien queri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uando sufre un niñ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uando muere tu mascota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5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304920" y="1224360"/>
            <a:ext cx="4114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el corazón ro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o que nos da la fuerz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ndimiento y compas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6 Rectángulo"/>
          <p:cNvSpPr/>
          <p:nvPr/>
        </p:nvSpPr>
        <p:spPr>
          <a:xfrm>
            <a:off x="228600" y="30481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orazón que nunca se ha roto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nca sabrá de la felici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ser imperfecto.</a:t>
            </a: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6 Imagen" descr="+++000-3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28600" y="2370600"/>
            <a:ext cx="43434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y bendito por haber vivido lo suficiente para que mis cabellos se vuelvan gris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conservar la sonri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i juventu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28600" y="4699080"/>
            <a:ext cx="44956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os no se han reí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tantos han muer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de que sus cabel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volvieran platead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1:24:22Z</dcterms:created>
  <dc:creator>Amalia</dc:creator>
  <dc:description/>
  <dc:language>en-US</dc:language>
  <cp:lastModifiedBy>FARES ASAD</cp:lastModifiedBy>
  <dcterms:modified xsi:type="dcterms:W3CDTF">2010-12-03T16:37:53Z</dcterms:modified>
  <cp:revision>80</cp:revision>
  <dc:subject/>
  <dc:title>Un Regalo para ti</dc:title>
</cp:coreProperties>
</file>