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AmazingGrace_Mantovani.wav" ContentType="audio/x-wav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C22A-2955-4BCB-AD27-127F0E3F0DA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B13B-AE6B-4D86-8E5C-0E85F0414C0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21F8-2D72-419C-8BD3-1A8203D18E6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0272-85CC-4E49-9EF8-017A52A6F79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877F-A17F-46CE-835B-57DFFF860D4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9149-35FD-4365-B80A-6214B576E6F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2C4B-AE86-4987-B2C0-D6D456015CE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BC4D-107C-47DF-9D3A-775B7D9C748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43F0-EEAF-4AA9-8033-76A8BD91A91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35F5-7DA7-4979-BF1E-E216ABDDAAA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BE5D-7894-40A9-998A-2C58E78668B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199F-8A00-4887-B023-097D8DF3A4C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ABAF-AA73-4CA9-BEC7-1E276DAA9B4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59FE-B479-418E-AFB8-BA43AF88D60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4081-063D-49F3-8408-5F2FEA12911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974F-F20D-46B5-B851-A2BBB9519A7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CC76-4A0C-4988-8C25-2519BA26179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C57-6366-4894-A03C-2BEA52EE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C58A-E924-43F4-A788-AE965F96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8ED1-C452-4E83-8AFA-52EA951C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4035-16EF-47C1-B3C5-61D44951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E9D-D00E-44D4-85CC-72A53952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654E-6E9A-4C12-B03F-69155AFE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30B5-A5FF-491D-80F1-873A1748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6AD-075B-419B-B21C-F90C39A7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9AD6-C234-4DB2-91B3-F1803D32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FDD-1AC0-48D2-9462-22C7CBED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48B-AEBC-41CD-A3D8-C5DCE3D1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5BE3-994A-417A-9687-656745B0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D1EB-86F5-43A4-BB46-376EC727E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mazingGrace_Mantovani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8221;http://www.connectionworld.org/wp-content/uploads/aquadom11.jpg&#8221;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ache.gawker.com/assets/images/4/2008/02/AquaDom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6/AquaDom_Berlin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1557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Stencil"/>
              </a:rPr>
              <a:t>TE GUSTAN LOS ACUARIO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60721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ddd"/>
                </a:solidFill>
                <a:latin typeface="Times New Roman"/>
              </a:rPr>
              <a:t>Click para avanz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0" y="3792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6d6f5"/>
                </a:solidFill>
                <a:latin typeface="Times New Roman"/>
                <a:ea typeface="Times New Roman"/>
              </a:rPr>
              <a:t>Ve este que te enví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7 Conector recto"/>
          <p:cNvSpPr/>
          <p:nvPr/>
        </p:nvSpPr>
        <p:spPr>
          <a:xfrm>
            <a:off x="1908000" y="2637000"/>
            <a:ext cx="5857920" cy="144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  <p:sndAc>
      <p:stSnd>
        <p:snd r:embed="rId1" name="AmazingGrace_Mantovani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8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4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0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f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6300720" y="333360"/>
            <a:ext cx="25909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Ahora este atractivo funciona en un hotel de lujo, donde los huéspe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disfrutan la vista paradisíaca del fabuloso acuari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Image Hosted by ImageShack.us"/>
          <p:cNvPicPr/>
          <p:nvPr/>
        </p:nvPicPr>
        <p:blipFill>
          <a:blip r:embed="rId1"/>
          <a:srcRect l="0" t="18142" r="0" b="0"/>
          <a:stretch/>
        </p:blipFill>
        <p:spPr>
          <a:xfrm>
            <a:off x="324000" y="404640"/>
            <a:ext cx="5673600" cy="6193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5 Rectángulo"/>
          <p:cNvSpPr/>
          <p:nvPr/>
        </p:nvSpPr>
        <p:spPr>
          <a:xfrm>
            <a:off x="179280" y="4941720"/>
            <a:ext cx="352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Un 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espacio para eventos de belleza o de enlace…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681800" cy="32785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74" name="" descr="Hochzeit im AquaDom"/>
          <p:cNvPicPr/>
          <p:nvPr/>
        </p:nvPicPr>
        <p:blipFill>
          <a:blip r:embed="rId2"/>
          <a:stretch/>
        </p:blipFill>
        <p:spPr>
          <a:xfrm>
            <a:off x="3995640" y="4005360"/>
            <a:ext cx="4762440" cy="26953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3054240" cy="43624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slow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395280" y="60213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iños se integran al paisaje submar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5256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georga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2360" y="189000"/>
            <a:ext cx="8640720" cy="63356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0" b="15579"/>
          <a:stretch/>
        </p:blipFill>
        <p:spPr>
          <a:xfrm>
            <a:off x="250920" y="189000"/>
            <a:ext cx="8642160" cy="5832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179280" y="6029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Vista superior del elev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4 CuadroTexto"/>
          <p:cNvSpPr/>
          <p:nvPr/>
        </p:nvSpPr>
        <p:spPr>
          <a:xfrm>
            <a:off x="0" y="692280"/>
            <a:ext cx="914400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600" spc="-1" strike="noStrike">
                <a:solidFill>
                  <a:srgbClr val="92d050"/>
                </a:solidFill>
                <a:latin typeface="Times New Roman"/>
              </a:rPr>
              <a:t>F  I N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3 CuadroTexto"/>
          <p:cNvSpPr/>
          <p:nvPr/>
        </p:nvSpPr>
        <p:spPr>
          <a:xfrm>
            <a:off x="0" y="53578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99ccff"/>
                </a:solidFill>
                <a:latin typeface="Times New Roman"/>
              </a:rPr>
              <a:t>Música: Amazing Grace - Montov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1197000"/>
            <a:ext cx="39243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00"/>
                </a:solidFill>
                <a:latin typeface="Times New Roman"/>
              </a:rPr>
              <a:t>El AquaD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ffff00"/>
                </a:solidFill>
                <a:latin typeface="Times New Roman"/>
              </a:rPr>
              <a:t>En el Hotel Radiss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Times New Roman"/>
              </a:rPr>
              <a:t>de Berl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Times New Roman"/>
              </a:rPr>
              <a:t>El mayor acuario cilíndr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ffff00"/>
                </a:solidFill>
                <a:latin typeface="Times New Roman"/>
              </a:rPr>
              <a:t>del mund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11640" y="404640"/>
            <a:ext cx="4619520" cy="59058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324000" y="5013360"/>
            <a:ext cx="453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Construido en acrí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ultra resistent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fundido “in loc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AquaDom 11">
            <a:hlinkClick r:id="rId1"/>
          </p:cNvPr>
          <p:cNvPicPr/>
          <p:nvPr/>
        </p:nvPicPr>
        <p:blipFill>
          <a:blip r:embed="rId2"/>
          <a:srcRect l="0" t="0" r="0" b="29330"/>
          <a:stretch/>
        </p:blipFill>
        <p:spPr>
          <a:xfrm>
            <a:off x="324000" y="404640"/>
            <a:ext cx="4292280" cy="43196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076720" y="836640"/>
            <a:ext cx="3775320" cy="54658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89000"/>
            <a:ext cx="8280360" cy="5688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8" name="Text Box 3"/>
          <p:cNvSpPr/>
          <p:nvPr/>
        </p:nvSpPr>
        <p:spPr>
          <a:xfrm>
            <a:off x="684360" y="60786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En el interior del cilindro hay un elevador panorá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6093000"/>
            <a:ext cx="90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Que da a los usuarios la impresión de estar subme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Inside Aquadom tank, Radisson SAS Berlin por Yamazaki-kun.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53546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slow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5 Rectángulo"/>
          <p:cNvSpPr/>
          <p:nvPr/>
        </p:nvSpPr>
        <p:spPr>
          <a:xfrm>
            <a:off x="826920" y="602136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O a bordo de un submarin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File:AquaDom Berl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89000"/>
            <a:ext cx="7770600" cy="5715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468360" y="609300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El mantenimiento interno es efectuado por buzo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Fishtank"/>
          <p:cNvPicPr/>
          <p:nvPr/>
        </p:nvPicPr>
        <p:blipFill>
          <a:blip r:embed="rId1"/>
          <a:srcRect l="0" t="7126" r="0" b="0"/>
          <a:stretch/>
        </p:blipFill>
        <p:spPr>
          <a:xfrm>
            <a:off x="466560" y="192240"/>
            <a:ext cx="8209080" cy="5661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slow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1332000" y="602136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imes New Roman"/>
              </a:rPr>
              <a:t>…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y el cuidado de los peces tambi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8332" r="0" b="7199"/>
          <a:stretch/>
        </p:blipFill>
        <p:spPr>
          <a:xfrm>
            <a:off x="755640" y="258840"/>
            <a:ext cx="7704000" cy="5824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ransition spd="slow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5651640" y="3860640"/>
            <a:ext cx="349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osee bombas poderosísimas y controladas por computadora para mantener ma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8 millones de lit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e agua sa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340600" cy="63374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751360" y="260280"/>
            <a:ext cx="2853000" cy="3384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slow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00:21:49Z</dcterms:created>
  <dc:creator>Carlos Rangel</dc:creator>
  <dc:description/>
  <dc:language>en-US</dc:language>
  <cp:lastModifiedBy>Mito</cp:lastModifiedBy>
  <dcterms:modified xsi:type="dcterms:W3CDTF">2010-05-04T12:11:29Z</dcterms:modified>
  <cp:revision>88</cp:revision>
  <dc:subject/>
  <dc:title>2005 NBC Photo's</dc:title>
</cp:coreProperties>
</file>