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AmazingGrace_Mantovani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B70B-551C-47F6-9D4C-8C65A2472D5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F067-0B74-491E-8CB1-669EC94C820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284A-B7F2-4913-A58C-07FF4455D25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EE68-35B8-47BF-8386-496DC86FB77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2E0B-0E9B-4F8E-BAF5-480EA3DFE73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5FFB-533D-4206-85F4-6A84CD89398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5F7A-C05E-4B53-89FA-72ADD8F3D73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2335-042F-497B-A44B-37E6212D6C5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8648-9920-4A91-B0D1-81BC1BEFBB2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F16A-1339-4C9E-8253-28ECE5152B9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0FB3-19D7-4E67-9C18-FE93C4C105D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34ED-4664-4912-B327-F4D928A6C9C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03FA-F67B-4B4E-AB12-11E159DCEDE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EC85-D375-47AF-BD63-3752AF4753A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AC44-AC66-4CDE-BE97-AE17920B500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9A61-EF4C-45F6-B91D-5D2234907E1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2E53-BDE0-4013-B9A3-C29246FA5CB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C1C-99DF-45A4-B19B-4D38D183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6AC-B295-4FAB-BCB5-AD55DFC4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F1D-02BA-4AB7-A92E-8A795673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533-B985-495A-97C0-B2FAC4BC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4BA-010A-423B-B4B6-DF3215A0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257-B9E8-409B-88CE-48D4952A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C9C-31AF-4A75-9829-2C52B042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A13-A0B6-41EB-9459-F8A263A5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F6C-1E2A-49C7-8208-61BF2501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52B-324D-4D7C-BA63-7346617A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BCF-8940-4FD5-9C23-AF795124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EAA-EC27-40EF-8E91-F752457B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D8F2-25AB-49CD-ABB7-1E84E94B7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mazingGrace_Mantovani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8221;http://www.connectionworld.org/wp-content/uploads/aquadom11.jpg&#8221;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ache.gawker.com/assets/images/4/2008/02/AquaDom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6/AquaDom_Berli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1557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Stencil"/>
              </a:rPr>
              <a:t>TE GUSTAN LOS ACUARI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6072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Times New Roman"/>
              </a:rPr>
              <a:t>Click para avanz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3792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d6f5"/>
                </a:solidFill>
                <a:latin typeface="Times New Roman"/>
                <a:ea typeface="Times New Roman"/>
              </a:rPr>
              <a:t>Ve este que te enví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7 Conector recto"/>
          <p:cNvSpPr/>
          <p:nvPr/>
        </p:nvSpPr>
        <p:spPr>
          <a:xfrm>
            <a:off x="1908000" y="2637000"/>
            <a:ext cx="5857920" cy="14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AmazingGrace_Mantovan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8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4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f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6300720" y="333360"/>
            <a:ext cx="25909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hora este atractivo funciona en un hotel de lujo, donde los huéspe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disfrutan la vista paradisíaca del fabuloso acuari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Image Hosted by ImageShack.us"/>
          <p:cNvPicPr/>
          <p:nvPr/>
        </p:nvPicPr>
        <p:blipFill>
          <a:blip r:embed="rId1"/>
          <a:srcRect l="0" t="18142" r="0" b="0"/>
          <a:stretch/>
        </p:blipFill>
        <p:spPr>
          <a:xfrm>
            <a:off x="324000" y="404640"/>
            <a:ext cx="5673600" cy="6193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5 Rectángulo"/>
          <p:cNvSpPr/>
          <p:nvPr/>
        </p:nvSpPr>
        <p:spPr>
          <a:xfrm>
            <a:off x="179280" y="4941720"/>
            <a:ext cx="35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Un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espacio para eventos de belleza o de enlace…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681800" cy="32785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74" name="" descr="Hochzeit im AquaDom"/>
          <p:cNvPicPr/>
          <p:nvPr/>
        </p:nvPicPr>
        <p:blipFill>
          <a:blip r:embed="rId2"/>
          <a:stretch/>
        </p:blipFill>
        <p:spPr>
          <a:xfrm>
            <a:off x="3995640" y="4005360"/>
            <a:ext cx="4762440" cy="26953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3054240" cy="4362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95280" y="6021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iños se integran al paisaje subma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256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georga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8640720" cy="6335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15579"/>
          <a:stretch/>
        </p:blipFill>
        <p:spPr>
          <a:xfrm>
            <a:off x="250920" y="189000"/>
            <a:ext cx="8642160" cy="5832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79280" y="6029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Vista superior del elev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CuadroTexto"/>
          <p:cNvSpPr/>
          <p:nvPr/>
        </p:nvSpPr>
        <p:spPr>
          <a:xfrm>
            <a:off x="0" y="69228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600" spc="-1" strike="noStrike">
                <a:solidFill>
                  <a:srgbClr val="92d050"/>
                </a:solidFill>
                <a:latin typeface="Times New Roman"/>
              </a:rPr>
              <a:t>F  I 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3 CuadroTexto"/>
          <p:cNvSpPr/>
          <p:nvPr/>
        </p:nvSpPr>
        <p:spPr>
          <a:xfrm>
            <a:off x="0" y="5357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99ccff"/>
                </a:solidFill>
                <a:latin typeface="Times New Roman"/>
              </a:rPr>
              <a:t>Música: Amazing Grace - Montov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1197000"/>
            <a:ext cx="39243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00"/>
                </a:solidFill>
                <a:latin typeface="Times New Roman"/>
              </a:rPr>
              <a:t>El AquaD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En el Hotel Radiss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de Berl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El mayor acuario cilíndr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del mun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619520" cy="59058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24000" y="5013360"/>
            <a:ext cx="45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Construido en acrí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ultra resistent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undido “in loc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AquaDom 11">
            <a:hlinkClick r:id="rId1"/>
          </p:cNvPr>
          <p:cNvPicPr/>
          <p:nvPr/>
        </p:nvPicPr>
        <p:blipFill>
          <a:blip r:embed="rId2"/>
          <a:srcRect l="0" t="0" r="0" b="29330"/>
          <a:stretch/>
        </p:blipFill>
        <p:spPr>
          <a:xfrm>
            <a:off x="324000" y="404640"/>
            <a:ext cx="4292280" cy="4319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76720" y="836640"/>
            <a:ext cx="3775320" cy="5465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7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89000"/>
            <a:ext cx="8280360" cy="568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8" name="Text Box 3"/>
          <p:cNvSpPr/>
          <p:nvPr/>
        </p:nvSpPr>
        <p:spPr>
          <a:xfrm>
            <a:off x="684360" y="60786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n el interior del cilindro hay un elevador panorá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609300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Que da a los usuarios la impresión de estar subme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Inside Aquadom tank, Radisson SAS Berlin por Yamazaki-kun.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5354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Rectángulo"/>
          <p:cNvSpPr/>
          <p:nvPr/>
        </p:nvSpPr>
        <p:spPr>
          <a:xfrm>
            <a:off x="826920" y="60213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O a bordo de un submari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File:AquaDom Ber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89000"/>
            <a:ext cx="7770600" cy="5715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468360" y="6093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El mantenimiento interno es efectuado por buzo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Fishtank"/>
          <p:cNvPicPr/>
          <p:nvPr/>
        </p:nvPicPr>
        <p:blipFill>
          <a:blip r:embed="rId1"/>
          <a:srcRect l="0" t="7126" r="0" b="0"/>
          <a:stretch/>
        </p:blipFill>
        <p:spPr>
          <a:xfrm>
            <a:off x="466560" y="192240"/>
            <a:ext cx="8209080" cy="5661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1332000" y="602136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…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y el cuidado de los peces tambi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8332" r="0" b="7199"/>
          <a:stretch/>
        </p:blipFill>
        <p:spPr>
          <a:xfrm>
            <a:off x="755640" y="258840"/>
            <a:ext cx="7704000" cy="5824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5651640" y="3860640"/>
            <a:ext cx="34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osee bombas poderosísimas y controladas por computadora para mantener m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8 millones de li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e agua sa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340600" cy="63374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51360" y="260280"/>
            <a:ext cx="2853000" cy="3384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slow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0:21:49Z</dcterms:created>
  <dc:creator>Carlos Rangel</dc:creator>
  <dc:description/>
  <dc:language>en-US</dc:language>
  <cp:lastModifiedBy>Mito</cp:lastModifiedBy>
  <dcterms:modified xsi:type="dcterms:W3CDTF">2010-05-04T12:11:29Z</dcterms:modified>
  <cp:revision>88</cp:revision>
  <dc:subject/>
  <dc:title>2005 NBC Photo's</dc:title>
</cp:coreProperties>
</file>