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Carros%20de%20fuego.wav" ContentType="audio/x-wav"/>
  <Override PartName="/ppt/media/image23.jpeg" ContentType="image/jpeg"/>
  <Override PartName="/ppt/media/image36.jpeg" ContentType="image/jpeg"/>
  <Override PartName="/ppt/media/image2.jpeg" ContentType="image/jpeg"/>
  <Override PartName="/ppt/media/cinema.wav" ContentType="audio/x-wav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79C-B0FC-4298-9E4E-BA348F9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EE4-12A5-4F92-BF81-B712F98C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F91-8200-42B5-8300-BD7940E8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3CA-A64E-4AD2-B209-F00D611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05B-9C9F-45DD-A9F9-9A4E907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9ED-A57B-4446-8695-9646085D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C21-B561-4222-8DBB-55F7161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A72-8383-478A-9F2A-6BE230B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36B-9B97-4DA2-9942-46B6021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8C5-2731-4A4A-B672-5FEACC6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52A-A00E-4D3D-9C02-92F5983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DC4-479E-4161-9FE7-94E33E9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4F9E-0EE0-4068-BF5F-8E32E0AA752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ine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rros%20de%20fuego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4"/>
          <p:cNvSpPr/>
          <p:nvPr/>
        </p:nvSpPr>
        <p:spPr>
          <a:xfrm>
            <a:off x="0" y="21337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De GROOTSTE standbeelden van d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es PLUS GRANDES statues du m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The BIGGEST statue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Die GRÖßTEN Statuen der W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as estatuas MÁS GRANDES d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Arial"/>
              </a:rPr>
              <a:t>Le statue PIÙ GRANDI de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zoom dir="out"/>
    <p:sndAc>
      <p:stSnd>
        <p:snd r:embed="rId2" name="cine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-stairs-up-to-big-budda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tat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41363408_e85276ae18_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olledellamaddalen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angelofthenort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153725543_7e68218d45_oMALEY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tatue_of_Liberty,_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bea2ou7"/>
          <p:cNvPicPr/>
          <p:nvPr/>
        </p:nvPicPr>
        <p:blipFill>
          <a:blip r:embed="rId1"/>
          <a:stretch/>
        </p:blipFill>
        <p:spPr>
          <a:xfrm>
            <a:off x="197964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opia di DCP_6066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2595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8825827357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5-big-buddah-sidewa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  <p:sndAc>
      <p:stSnd>
        <p:snd r:embed="rId2" name="Carros%20de%20fuego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ngers-punta-deles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4-8-08-sam-houston-statue-736888"/>
          <p:cNvPicPr/>
          <p:nvPr/>
        </p:nvPicPr>
        <p:blipFill>
          <a:blip r:embed="rId1"/>
          <a:stretch/>
        </p:blipFill>
        <p:spPr>
          <a:xfrm>
            <a:off x="199548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3756749814_135e3437e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148007647VIJOFr_fs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king_fou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Shi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Schwarze_Madonna_von_Saint-Jean_Cap_Ferrat_2007"/>
          <p:cNvPicPr/>
          <p:nvPr/>
        </p:nvPicPr>
        <p:blipFill>
          <a:blip r:embed="rId1"/>
          <a:stretch/>
        </p:blipFill>
        <p:spPr>
          <a:xfrm>
            <a:off x="1979640" y="0"/>
            <a:ext cx="5186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eshan_buddha_statue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11buddhav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50059411Lord%20Shiva%20at%20Haridw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hinggis-statu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4f29f770361a95c584757cb0d0b452f0_2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ris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MG_24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azy_Hors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attambang-Stat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motherland-ukraine"/>
          <p:cNvPicPr/>
          <p:nvPr/>
        </p:nvPicPr>
        <p:blipFill>
          <a:blip r:embed="rId1"/>
          <a:stretch/>
        </p:blipFill>
        <p:spPr>
          <a:xfrm>
            <a:off x="0" y="0"/>
            <a:ext cx="54658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therland-ukraine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8" descr="lenin-group-shot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thiruvalluvar_statue_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mmagin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kstvak 4"/>
          <p:cNvSpPr/>
          <p:nvPr/>
        </p:nvSpPr>
        <p:spPr>
          <a:xfrm>
            <a:off x="0" y="1268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EI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E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800" spc="-1" strike="noStrike">
                <a:solidFill>
                  <a:srgbClr val="ffff00"/>
                </a:solidFill>
                <a:latin typeface="Arial"/>
              </a:rPr>
              <a:t>F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9_10809_77d2b0b39a3c5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Immagine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61175962_523f64aecc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800px-Dean_Franklin_-_06_04_03_Mount_Rushmore_Monument_(by-sa)-3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348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2835642"/>
          <p:cNvPicPr/>
          <p:nvPr/>
        </p:nvPicPr>
        <p:blipFill>
          <a:blip r:embed="rId1"/>
          <a:stretch/>
        </p:blipFill>
        <p:spPr>
          <a:xfrm>
            <a:off x="147636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1:14:10Z</dcterms:created>
  <dc:creator>vigi</dc:creator>
  <dc:description/>
  <dc:language>en-US</dc:language>
  <cp:lastModifiedBy>fredje</cp:lastModifiedBy>
  <dcterms:modified xsi:type="dcterms:W3CDTF">2010-07-02T03:43:18Z</dcterms:modified>
  <cp:revision>66</cp:revision>
  <dc:subject/>
  <dc:title>Diapositiva 1</dc:title>
</cp:coreProperties>
</file>