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Carros%20de%20fuego.wav" ContentType="audio/x-wav"/>
  <Override PartName="/ppt/media/image23.jpeg" ContentType="image/jpeg"/>
  <Override PartName="/ppt/media/image36.jpeg" ContentType="image/jpeg"/>
  <Override PartName="/ppt/media/image2.jpeg" ContentType="image/jpeg"/>
  <Override PartName="/ppt/media/cinema.wav" ContentType="audio/x-wav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4D2-7DF3-4B62-9CE9-E2702B22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8DB-7ED2-4817-9250-4E47351C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21B-DE4B-48D7-93CB-8474A5D4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B98-4E09-4869-89CE-FAD38D6A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26E-9995-4780-A02A-634DCCB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618-E4C1-498D-BE7A-77676D0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2F2-E2D2-461C-9618-C93F8B0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A9D-BAF3-4880-81F9-71D90D27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77E-C14A-4193-ACCD-C440969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1E0-4A71-4A5F-A6A9-6127E44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81B-7C47-4E12-8AA7-604EEB7E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11B-0704-47A6-BC9E-9F9C407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CF2B-4350-444E-84CF-E2E4D81A93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ine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rros%20de%20fuego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4"/>
          <p:cNvSpPr/>
          <p:nvPr/>
        </p:nvSpPr>
        <p:spPr>
          <a:xfrm>
            <a:off x="0" y="2133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De GROOTSTE standbeelden van de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Les PLUS GRANDES statues du m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The BIGGEST statue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Die GRÖßTEN Statuen der W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Las estatuas MÁS GRANDES d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Le statue PIÙ GRANDI de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zoom dir="out"/>
    <p:sndAc>
      <p:stSnd>
        <p:snd r:embed="rId2" name="cine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-stairs-up-to-big-budda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tatu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041363408_e85276ae18_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olledellamaddalen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angelofthenort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153725543_7e68218d45_oMALEY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tatue_of_Liberty,_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bea2ou7"/>
          <p:cNvPicPr/>
          <p:nvPr/>
        </p:nvPicPr>
        <p:blipFill>
          <a:blip r:embed="rId1"/>
          <a:stretch/>
        </p:blipFill>
        <p:spPr>
          <a:xfrm>
            <a:off x="197964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opia di DCP_6066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2595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8825827357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5-big-buddah-sidewa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  <p:sndAc>
      <p:stSnd>
        <p:snd r:embed="rId2" name="Carros%20de%20fuego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ngers-punta-deles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-8-08-sam-houston-statue-736888"/>
          <p:cNvPicPr/>
          <p:nvPr/>
        </p:nvPicPr>
        <p:blipFill>
          <a:blip r:embed="rId1"/>
          <a:stretch/>
        </p:blipFill>
        <p:spPr>
          <a:xfrm>
            <a:off x="199548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3756749814_135e3437e9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148007647VIJOFr_fs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king_fou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Shi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Schwarze_Madonna_von_Saint-Jean_Cap_Ferrat_2007"/>
          <p:cNvPicPr/>
          <p:nvPr/>
        </p:nvPicPr>
        <p:blipFill>
          <a:blip r:embed="rId1"/>
          <a:stretch/>
        </p:blipFill>
        <p:spPr>
          <a:xfrm>
            <a:off x="1979640" y="0"/>
            <a:ext cx="5186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leshan_buddha_statue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011buddhav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250059411Lord%20Shiva%20at%20Haridw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hinggis-statu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4f29f770361a95c584757cb0d0b452f0_2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ris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MG_24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azy_Hors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attambang-Statu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motherland-ukraine"/>
          <p:cNvPicPr/>
          <p:nvPr/>
        </p:nvPicPr>
        <p:blipFill>
          <a:blip r:embed="rId1"/>
          <a:stretch/>
        </p:blipFill>
        <p:spPr>
          <a:xfrm>
            <a:off x="0" y="0"/>
            <a:ext cx="54658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therland-ukraine"/>
          <p:cNvPicPr/>
          <p:nvPr/>
        </p:nvPicPr>
        <p:blipFill>
          <a:blip r:embed="rId2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8" name="Picture 8" descr="lenin-group-shot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thiruvalluvar_statue_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magine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kstvak 4"/>
          <p:cNvSpPr/>
          <p:nvPr/>
        </p:nvSpPr>
        <p:spPr>
          <a:xfrm>
            <a:off x="0" y="1268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EI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E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F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9_10809_77d2b0b39a3c5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Immagine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61175962_523f64aecc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800px-Dean_Franklin_-_06_04_03_Mount_Rushmore_Monument_(by-sa)-3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348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2835642"/>
          <p:cNvPicPr/>
          <p:nvPr/>
        </p:nvPicPr>
        <p:blipFill>
          <a:blip r:embed="rId1"/>
          <a:stretch/>
        </p:blipFill>
        <p:spPr>
          <a:xfrm>
            <a:off x="147636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1:14:10Z</dcterms:created>
  <dc:creator>vigi</dc:creator>
  <dc:description/>
  <dc:language>en-US</dc:language>
  <cp:lastModifiedBy>fredje</cp:lastModifiedBy>
  <dcterms:modified xsi:type="dcterms:W3CDTF">2010-07-02T03:43:18Z</dcterms:modified>
  <cp:revision>66</cp:revision>
  <dc:subject/>
  <dc:title>Diapositiva 1</dc:title>
</cp:coreProperties>
</file>