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es%20Chariots%20de%20feu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43C-0559-4FF4-819C-6AA4B780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DE6-BC09-496E-AC93-C909663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7C7-A8DF-4FC0-B725-FA71A0B8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C96-6B42-4D29-AB4B-8A0B21D7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8DF-B83D-4436-B787-01A82B4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164-B709-4578-9E63-0C3C637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05C-6A6A-4CDD-8BED-A052996D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BEF-DD46-492E-8FDF-820E2EE4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0A4-5375-4E11-B4E7-F572B230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628-FDB4-4A1C-A028-E814C47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E43-D043-4637-9C0A-ADE00BE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96F-9582-4B8A-8C3F-08BD688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BB0C-1567-42BB-9D25-D0FE74D4806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s%20Chariots%20de%20f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cran"/>
          <p:cNvPicPr/>
          <p:nvPr/>
        </p:nvPicPr>
        <p:blipFill>
          <a:blip r:embed="rId1"/>
          <a:stretch/>
        </p:blipFill>
        <p:spPr>
          <a:xfrm>
            <a:off x="-304920" y="-60480"/>
            <a:ext cx="9753840" cy="5268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231560" y="1384200"/>
            <a:ext cx="496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Cuando le pedís algo a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sabés dónde será procesado tu ped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88400" y="3871800"/>
            <a:ext cx="314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No ? Entonces seguim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es%20Chariots%20de%20fe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707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Google09"/>
          <p:cNvPicPr/>
          <p:nvPr/>
        </p:nvPicPr>
        <p:blipFill>
          <a:blip r:embed="rId1"/>
          <a:stretch/>
        </p:blipFill>
        <p:spPr>
          <a:xfrm>
            <a:off x="-547560" y="-2516040"/>
            <a:ext cx="10239120" cy="10180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857240" y="3860640"/>
            <a:ext cx="59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Robot de salvaguarda y restauración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Saca y pone discos duros sólid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Google10"/>
          <p:cNvPicPr/>
          <p:nvPr/>
        </p:nvPicPr>
        <p:blipFill>
          <a:blip r:embed="rId1"/>
          <a:stretch/>
        </p:blipFill>
        <p:spPr>
          <a:xfrm>
            <a:off x="-642960" y="-657360"/>
            <a:ext cx="10239480" cy="5805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28800" y="3789360"/>
            <a:ext cx="59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Tanques de agua de refrigeración del air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cran"/>
          <p:cNvPicPr/>
          <p:nvPr/>
        </p:nvPicPr>
        <p:blipFill>
          <a:blip r:embed="rId1"/>
          <a:stretch/>
        </p:blipFill>
        <p:spPr>
          <a:xfrm>
            <a:off x="-304920" y="-60480"/>
            <a:ext cx="9753840" cy="5268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204200" y="1384200"/>
            <a:ext cx="731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Ahora cuando uses Google o Youtube ya sab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un poco más sobre lo que ponés en acción cuando ingres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tu pedid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film-spiderman-00015"/>
          <p:cNvPicPr/>
          <p:nvPr/>
        </p:nvPicPr>
        <p:blipFill>
          <a:blip r:embed="rId2"/>
          <a:stretch/>
        </p:blipFill>
        <p:spPr>
          <a:xfrm>
            <a:off x="7236000" y="2575080"/>
            <a:ext cx="1676160" cy="148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37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aGoogle01"/>
          <p:cNvPicPr/>
          <p:nvPr/>
        </p:nvPicPr>
        <p:blipFill>
          <a:blip r:embed="rId1"/>
          <a:stretch/>
        </p:blipFill>
        <p:spPr>
          <a:xfrm>
            <a:off x="-547560" y="-165240"/>
            <a:ext cx="10239120" cy="5478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161000" y="4254480"/>
            <a:ext cx="708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El centro de tratamiento de datos está en Dalles,Ore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En las márgenes del rio Columbia, donde los func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Practican rafting, windsurf, pesca o caminatas para despej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aGoogle02"/>
          <p:cNvPicPr/>
          <p:nvPr/>
        </p:nvPicPr>
        <p:blipFill>
          <a:blip r:embed="rId1"/>
          <a:stretch/>
        </p:blipFill>
        <p:spPr>
          <a:xfrm>
            <a:off x="-547560" y="-264960"/>
            <a:ext cx="10239120" cy="567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23680" y="250920"/>
            <a:ext cx="61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Dispone de 10700 m2 para la sala de máqu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donde cada m2 fue optimizad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ofrecer los mejores servicios de búsque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solicitados a Google ó Youtube de manera mas rápida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Google03"/>
          <p:cNvPicPr/>
          <p:nvPr/>
        </p:nvPicPr>
        <p:blipFill>
          <a:blip r:embed="rId1"/>
          <a:stretch/>
        </p:blipFill>
        <p:spPr>
          <a:xfrm>
            <a:off x="-552600" y="-468360"/>
            <a:ext cx="10249200" cy="608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571840" y="3503520"/>
            <a:ext cx="542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Las computadoras se calie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y por tanto tienen que ser refrige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Esta sala colorida señ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líneas en verde, aire fresco y los otros, diferentes grados de aire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Google04"/>
          <p:cNvPicPr/>
          <p:nvPr/>
        </p:nvPicPr>
        <p:blipFill>
          <a:blip r:embed="rId1"/>
          <a:stretch/>
        </p:blipFill>
        <p:spPr>
          <a:xfrm>
            <a:off x="-547560" y="-260280"/>
            <a:ext cx="10239120" cy="566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928960" y="4681440"/>
            <a:ext cx="40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omic Sans MS"/>
              </a:rPr>
              <a:t>Esta es la sala de servi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Google06"/>
          <p:cNvPicPr/>
          <p:nvPr/>
        </p:nvPicPr>
        <p:blipFill>
          <a:blip r:embed="rId1"/>
          <a:stretch/>
        </p:blipFill>
        <p:spPr>
          <a:xfrm>
            <a:off x="-547560" y="-407880"/>
            <a:ext cx="10239120" cy="596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76720" y="4362480"/>
            <a:ext cx="67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Atras de los servidores están los ventiladores de circul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La luz verde es de los LEDs de las tarjetas de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Google05"/>
          <p:cNvPicPr/>
          <p:nvPr/>
        </p:nvPicPr>
        <p:blipFill>
          <a:blip r:embed="rId1"/>
          <a:stretch/>
        </p:blipFill>
        <p:spPr>
          <a:xfrm>
            <a:off x="-547560" y="-65160"/>
            <a:ext cx="10239120" cy="5278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279080" y="3816360"/>
            <a:ext cx="774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En esta sala es donde los datos son procesados para el mundo ent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La iluminación es apagada cuando el local es desocupado. Los L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iluminam esta sala como para la fiesta de Navida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Google07"/>
          <p:cNvPicPr/>
          <p:nvPr/>
        </p:nvPicPr>
        <p:blipFill>
          <a:blip r:embed="rId1"/>
          <a:stretch/>
        </p:blipFill>
        <p:spPr>
          <a:xfrm>
            <a:off x="-547560" y="-260280"/>
            <a:ext cx="10239120" cy="566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275840" y="3979800"/>
            <a:ext cx="63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Los routers son interconectados por fibra óptica ama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(200,000 veces más rápida que las conexiones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rápidas de internet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Google08"/>
          <p:cNvPicPr/>
          <p:nvPr/>
        </p:nvPicPr>
        <p:blipFill>
          <a:blip r:embed="rId1"/>
          <a:stretch/>
        </p:blipFill>
        <p:spPr>
          <a:xfrm>
            <a:off x="-547560" y="-100080"/>
            <a:ext cx="10239120" cy="534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0" y="407520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Línea de paneles de conex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de los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6:57:07Z</dcterms:created>
  <dc:creator>Donacibelle</dc:creator>
  <dc:description/>
  <dc:language>en-US</dc:language>
  <cp:lastModifiedBy>WinuE</cp:lastModifiedBy>
  <dcterms:modified xsi:type="dcterms:W3CDTF">2013-03-25T14:41:50Z</dcterms:modified>
  <cp:revision>51</cp:revision>
  <dc:subject/>
  <dc:title>Diapositive 1</dc:title>
</cp:coreProperties>
</file>