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41.jpeg" ContentType="image/jpeg"/>
  <Override PartName="/ppt/media/%C3%A1rabe.wav" ContentType="audio/x-wav"/>
  <Override PartName="/ppt/media/image14.jpeg" ContentType="image/jpeg"/>
  <Override PartName="/ppt/media/image21.jpeg" ContentType="image/jpeg"/>
  <Override PartName="/ppt/media/image15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8.jpeg" ContentType="image/jpeg"/>
  <Override PartName="/ppt/media/image59.jpeg" ContentType="image/jpeg"/>
  <Override PartName="/ppt/media/image42.jpeg" ContentType="image/jpeg"/>
  <Override PartName="/ppt/media/image19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108394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FC8-7BDE-4F4F-A79F-01A84AEE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921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01480" y="4167360"/>
            <a:ext cx="921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091-30F4-4730-ABD5-DC371F93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12180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01480" y="416736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21800" y="416736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60A-07F6-4938-975F-3F8D11A6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16200" y="201780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630920" y="201780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01480" y="416736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516200" y="416736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630920" y="416736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1972-2E78-4F72-B0A3-2E6E180B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7517-C9C9-4479-8FCE-B4701E2E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01480" y="2017800"/>
            <a:ext cx="9212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5E47-7EDD-4796-AC54-57AE7E88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921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3BEC-0832-4B99-AE81-2D86676E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449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21800" y="2017800"/>
            <a:ext cx="449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A874-58FC-412A-A780-EA1BD268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478D-28F6-4A64-BBB4-3CDB8823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363680" y="214200"/>
            <a:ext cx="923760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55E8-0F51-47AB-A29B-2688CECF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21800" y="2017800"/>
            <a:ext cx="449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1480" y="416736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42CC-7468-44FF-AB5E-454697DD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01480" y="2017800"/>
            <a:ext cx="9212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991-2800-40FD-89B1-9CE920F8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449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180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1800" y="416736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DA95-53A8-4301-B8BE-B5CB021C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12180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01480" y="4167360"/>
            <a:ext cx="921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CAA5-C99A-4C28-B8E6-D1B6999D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921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401480" y="4167360"/>
            <a:ext cx="921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FD73-5638-4AA2-923D-8D46653A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12180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01480" y="416736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121800" y="416736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8440-029B-4EE6-AE21-C2F04D97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6200" y="201780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30920" y="201780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401480" y="416736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516200" y="416736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7630920" y="4167360"/>
            <a:ext cx="296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064A-8EEA-4A03-BAF2-814FAEDF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921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133-74E6-4C30-8CBB-003EF7C8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449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121800" y="2017800"/>
            <a:ext cx="449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B74-4A2B-4D72-A762-3E6E3242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526-D9E8-48FD-9FF1-98971F9D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63680" y="214200"/>
            <a:ext cx="923760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74B-0054-456B-AB22-C6ACDFD5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121800" y="2017800"/>
            <a:ext cx="449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1480" y="416736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065-0E74-47BC-A6DE-BB2289FF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449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2180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1800" y="416736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3C6-32FB-43A9-99F4-33AB1974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148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1800" y="2017800"/>
            <a:ext cx="4495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1480" y="4167360"/>
            <a:ext cx="921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731-F865-4996-9F03-045AE1F4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098720"/>
            <a:ext cx="519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47880" y="1098720"/>
            <a:ext cx="39024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41520" y="1521000"/>
            <a:ext cx="5000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079640" y="1521000"/>
            <a:ext cx="436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0840" y="1447920"/>
            <a:ext cx="66348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03240" y="990720"/>
            <a:ext cx="3816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25600" y="1781280"/>
            <a:ext cx="975024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3680" y="214200"/>
            <a:ext cx="9237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01480" y="2017800"/>
            <a:ext cx="921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378080" y="6243480"/>
            <a:ext cx="22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335480" y="6243480"/>
            <a:ext cx="343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46600" y="6243480"/>
            <a:ext cx="225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AD2D-F7A4-46CE-A0C1-A90ECA0A8C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10677240" cy="1052640"/>
            <a:chOff x="0" y="2438280"/>
            <a:chExt cx="1067724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344160" y="2546280"/>
              <a:ext cx="842400" cy="474840"/>
              <a:chOff x="344160" y="2546280"/>
              <a:chExt cx="84240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344160" y="2546280"/>
                <a:ext cx="518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97760" y="2546280"/>
                <a:ext cx="3888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91040" y="2968560"/>
              <a:ext cx="874440" cy="474840"/>
              <a:chOff x="491040" y="2968560"/>
              <a:chExt cx="8744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91040" y="2968560"/>
                <a:ext cx="49932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28080" y="2968560"/>
                <a:ext cx="4374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66420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2400" y="2438280"/>
              <a:ext cx="3744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74400" y="3260520"/>
              <a:ext cx="1030284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4680" y="1676160"/>
            <a:ext cx="921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1174320" y="6248520"/>
            <a:ext cx="225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4064040" y="6248520"/>
            <a:ext cx="343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8127720" y="6248520"/>
            <a:ext cx="225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7CD0-2B99-4D80-B28E-9FDCCB60A4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541800" y="1604520"/>
            <a:ext cx="9755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&#225;rabe.wav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2000" y="1142640"/>
            <a:ext cx="923796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0000"/>
                </a:solidFill>
                <a:latin typeface="Arial"/>
                <a:cs typeface="Arial"/>
              </a:rPr>
              <a:t>شاهدوا كنوز الملك النمرود الذي حكم العراق </a:t>
            </a:r>
            <a:br>
              <a:rPr sz="3200"/>
            </a:br>
            <a:r>
              <a:rPr b="0" lang="ar-AE" sz="3200" spc="-1" strike="noStrike">
                <a:solidFill>
                  <a:srgbClr val="ff0000"/>
                </a:solidFill>
                <a:latin typeface="Arial"/>
                <a:cs typeface="Arial"/>
              </a:rPr>
              <a:t>وكان هو الذي حاجج سيدنا ابراهيم عليه الصلاة والسلام..</a:t>
            </a:r>
            <a:br>
              <a:rPr sz="3200"/>
            </a:br>
            <a:br>
              <a:rPr sz="3200"/>
            </a:br>
            <a:r>
              <a:rPr b="0" lang="ar-AE" sz="3200" spc="-1" strike="noStrike">
                <a:solidFill>
                  <a:srgbClr val="ff3399"/>
                </a:solidFill>
                <a:latin typeface="Arial"/>
                <a:cs typeface="Arial"/>
              </a:rPr>
              <a:t>كانت موضوعة في اسفل مبنى البنك المركزي العراقي </a:t>
            </a:r>
            <a:br>
              <a:rPr sz="3200"/>
            </a:br>
            <a:r>
              <a:rPr b="0" lang="ar-AE" sz="3200" spc="-1" strike="noStrike">
                <a:solidFill>
                  <a:srgbClr val="ff3399"/>
                </a:solidFill>
                <a:latin typeface="Arial"/>
                <a:cs typeface="Arial"/>
              </a:rPr>
              <a:t>حيث امر الرئيس الراحل صدام حسين بحفظها بعناية فائقة </a:t>
            </a:r>
            <a:br>
              <a:rPr sz="3200"/>
            </a:br>
            <a:r>
              <a:rPr b="0" lang="ar-AE" sz="3200" spc="-1" strike="noStrike">
                <a:solidFill>
                  <a:srgbClr val="ff3399"/>
                </a:solidFill>
                <a:latin typeface="Arial"/>
                <a:cs typeface="Arial"/>
              </a:rPr>
              <a:t>كي تسلم من ايدي العابثين والمخربين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333399"/>
                </a:solidFill>
                <a:latin typeface="Arial"/>
                <a:ea typeface="Arial"/>
              </a:rPr>
              <a:t> , طبعا بعد ما وصل العلوج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rial"/>
              </a:rPr>
              <a:t>مع أعوانهم لم يتركو شيئا لم يعبثو به ومن ضمنها متحف العراق و كنوز الملك النمرود!!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  <p:sndAc>
      <p:stSnd>
        <p:snd r:embed="rId1" name="%C3%A1rab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64480" y="1447920"/>
            <a:ext cx="3973320" cy="2819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08720" y="0"/>
            <a:ext cx="1355760" cy="99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31320" y="457200"/>
            <a:ext cx="1806480" cy="160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86640" y="380880"/>
            <a:ext cx="1354320" cy="1067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502320" y="990720"/>
            <a:ext cx="1806480" cy="160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450720" y="990720"/>
            <a:ext cx="1804680" cy="160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9:36:23Z</dcterms:created>
  <dc:creator>....</dc:creator>
  <dc:description/>
  <dc:language>en-US</dc:language>
  <cp:lastModifiedBy>XP</cp:lastModifiedBy>
  <dcterms:modified xsi:type="dcterms:W3CDTF">2011-02-17T11:23:10Z</dcterms:modified>
  <cp:revision>9</cp:revision>
  <dc:subject/>
  <dc:title>Slide 1</dc:title>
</cp:coreProperties>
</file>