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%C3%A1rabe.wav" ContentType="audio/x-wav"/>
  <Override PartName="/ppt/media/image14.jpeg" ContentType="image/jpeg"/>
  <Override PartName="/ppt/media/image21.jpeg" ContentType="image/jpeg"/>
  <Override PartName="/ppt/media/image15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5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108394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851-C038-4F4E-A099-05A9236F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01480" y="416736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0AA-BE17-4EBD-B668-1209F18C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180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EF8-9514-4FE9-B5B4-015422DE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1620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3092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0148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1620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63092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D4C-17AB-4802-A1B3-1F363807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0182-ED14-4504-B733-8E8CD852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B8F4-433F-415C-B27A-4B14860E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972C-4EF8-451B-885E-678027DF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3A40-65B9-45A5-B50A-12CB5094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D054-086E-4EC4-9EB0-2F783B09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63680" y="214200"/>
            <a:ext cx="923760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3DCA-70A6-4C36-8F93-14FC4BB6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6675-D691-4790-8B3B-5794583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28F-7514-4147-B610-192695B6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80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74FC-D074-48DE-82D7-371977F6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1022-0653-49CA-B39C-8386EBC8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01480" y="416736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AFE1-61D1-40E7-B4D1-6D8B1A0F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12180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FC5D-224B-47F0-9244-C90E379F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3092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0148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51620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763092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9E64-6AA4-4A2F-A10C-94364180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E1E-2BCD-4659-9ED2-8093AD74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073-1E5C-4D2F-B145-CB9C5AF0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47F-9E31-44C3-BEDD-CD4B326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63680" y="214200"/>
            <a:ext cx="923760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4FE-E280-45D2-A2AC-82683307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B80-70FC-436C-AE9A-3EC4145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180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3D9-D5F1-411C-8CBE-BB48AD65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999-69AA-46B9-A69E-D0EBFE88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098720"/>
            <a:ext cx="519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47880" y="1098720"/>
            <a:ext cx="390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1520" y="1521000"/>
            <a:ext cx="5000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79640" y="1521000"/>
            <a:ext cx="436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0840" y="1447920"/>
            <a:ext cx="66348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3240" y="990720"/>
            <a:ext cx="3816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25600" y="1781280"/>
            <a:ext cx="975024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378080" y="6243480"/>
            <a:ext cx="22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335480" y="6243480"/>
            <a:ext cx="343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46600" y="6243480"/>
            <a:ext cx="225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2473-87F0-40CD-8CDC-81A1120B3A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10677240" cy="1052640"/>
            <a:chOff x="0" y="2438280"/>
            <a:chExt cx="1067724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44160" y="2546280"/>
              <a:ext cx="842400" cy="474840"/>
              <a:chOff x="344160" y="2546280"/>
              <a:chExt cx="84240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44160" y="2546280"/>
                <a:ext cx="518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97760" y="2546280"/>
                <a:ext cx="3888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91040" y="2968560"/>
              <a:ext cx="874440" cy="474840"/>
              <a:chOff x="491040" y="2968560"/>
              <a:chExt cx="8744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91040" y="2968560"/>
                <a:ext cx="49932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28080" y="2968560"/>
                <a:ext cx="4374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66420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2400" y="2438280"/>
              <a:ext cx="3744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74400" y="3260520"/>
              <a:ext cx="103028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4680" y="1676160"/>
            <a:ext cx="921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174320" y="6248520"/>
            <a:ext cx="225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4064040" y="6248520"/>
            <a:ext cx="343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8127720" y="6248520"/>
            <a:ext cx="225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6F7F-A418-4031-84E2-D9F2885C20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541800" y="1604520"/>
            <a:ext cx="9755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&#225;rabe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000" y="1142640"/>
            <a:ext cx="923796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0000"/>
                </a:solidFill>
                <a:latin typeface="Arial"/>
                <a:cs typeface="Arial"/>
              </a:rPr>
              <a:t>شاهدوا كنوز الملك النمرود الذي حكم العراق </a:t>
            </a:r>
            <a:br>
              <a:rPr sz="3200"/>
            </a:br>
            <a:r>
              <a:rPr b="0" lang="ar-AE" sz="3200" spc="-1" strike="noStrike">
                <a:solidFill>
                  <a:srgbClr val="ff0000"/>
                </a:solidFill>
                <a:latin typeface="Arial"/>
                <a:cs typeface="Arial"/>
              </a:rPr>
              <a:t>وكان هو الذي حاجج سيدنا ابراهيم عليه الصلاة والسلام..</a:t>
            </a:r>
            <a:br>
              <a:rPr sz="3200"/>
            </a:br>
            <a:br>
              <a:rPr sz="3200"/>
            </a:br>
            <a:r>
              <a:rPr b="0" lang="ar-AE" sz="3200" spc="-1" strike="noStrike">
                <a:solidFill>
                  <a:srgbClr val="ff3399"/>
                </a:solidFill>
                <a:latin typeface="Arial"/>
                <a:cs typeface="Arial"/>
              </a:rPr>
              <a:t>كانت موضوعة في اسفل مبنى البنك المركزي العراقي </a:t>
            </a:r>
            <a:br>
              <a:rPr sz="3200"/>
            </a:br>
            <a:r>
              <a:rPr b="0" lang="ar-AE" sz="3200" spc="-1" strike="noStrike">
                <a:solidFill>
                  <a:srgbClr val="ff3399"/>
                </a:solidFill>
                <a:latin typeface="Arial"/>
                <a:cs typeface="Arial"/>
              </a:rPr>
              <a:t>حيث امر الرئيس الراحل صدام حسين بحفظها بعناية فائقة </a:t>
            </a:r>
            <a:br>
              <a:rPr sz="3200"/>
            </a:br>
            <a:r>
              <a:rPr b="0" lang="ar-AE" sz="3200" spc="-1" strike="noStrike">
                <a:solidFill>
                  <a:srgbClr val="ff3399"/>
                </a:solidFill>
                <a:latin typeface="Arial"/>
                <a:cs typeface="Arial"/>
              </a:rPr>
              <a:t>كي تسلم من ايدي العابثين والمخربين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Arial"/>
              </a:rPr>
              <a:t> , طبعا بعد ما وصل العلو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rial"/>
              </a:rPr>
              <a:t>مع أعوانهم لم يتركو شيئا لم يعبثو به ومن ضمنها متحف العراق و كنوز الملك النمرود!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  <p:sndAc>
      <p:stSnd>
        <p:snd r:embed="rId1" name="%C3%A1rab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64480" y="1447920"/>
            <a:ext cx="3973320" cy="2819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08720" y="0"/>
            <a:ext cx="1355760" cy="99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31320" y="457200"/>
            <a:ext cx="180648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86640" y="380880"/>
            <a:ext cx="1354320" cy="1067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02320" y="990720"/>
            <a:ext cx="180648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450720" y="990720"/>
            <a:ext cx="180468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36:23Z</dcterms:created>
  <dc:creator>....</dc:creator>
  <dc:description/>
  <dc:language>en-US</dc:language>
  <cp:lastModifiedBy>XP</cp:lastModifiedBy>
  <dcterms:modified xsi:type="dcterms:W3CDTF">2011-02-17T11:23:10Z</dcterms:modified>
  <cp:revision>9</cp:revision>
  <dc:subject/>
  <dc:title>Slide 1</dc:title>
</cp:coreProperties>
</file>