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2ED00-1A48-49F8-9FBB-B57BD7816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7A74-56D3-4B45-BCE7-2A34C4CBA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25D6-A6EE-42FD-A7F9-0641CF989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FF866-14EF-4F97-AB51-A849EF14F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001E-993A-4398-B395-E1FFC9471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29D7-5B7B-4402-B6E6-685FDEF97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9734-E3BF-4B3F-91E6-3A637F01F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EA58-3FCE-45BF-ABEB-33F89FEEE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6801-C1ED-4674-8ADB-09188979A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17CB-6796-42C0-83BC-39A899AE2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41180-BAFD-4F18-9B0D-7140F9ED8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40ADC-2EFE-4278-BCC2-83D2A3DD1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56C3A-6583-422A-9390-E75C00047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CA14D-A96F-4689-8523-89BB46700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03CB9-C069-4A47-AE99-C6F0780BA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8E824-677C-4236-9C02-C00B94A1B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16F02-49D3-4CBD-BEB4-EC2B70819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6268C-8AAC-49E5-A8BA-54AA87037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D11F3-F777-4CE9-94F8-18A9BCEE7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C482C-F025-4E8E-99FD-42CB99304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160FA-DC4C-4167-B4C0-A3C59D134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97F09-AE7D-4847-A1B6-FE7F91860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570B9-738A-4D14-B3D0-616BDC471C3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500040" y="500040"/>
            <a:ext cx="8001000" cy="58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33cc"/>
                </a:solidFill>
                <a:latin typeface="Albertus Extra Bold"/>
              </a:rPr>
              <a:t>TAREK EL AISSAMI</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cc"/>
                </a:solidFill>
                <a:latin typeface="Albertus Extra Bold"/>
              </a:rPr>
              <a:t>Escrito por Anavel Munceles</a:t>
            </a:r>
            <a:endParaRPr b="0" lang="en-US" sz="2800" spc="-1" strike="noStrike">
              <a:solidFill>
                <a:srgbClr val="000000"/>
              </a:solidFill>
              <a:latin typeface="Arial"/>
            </a:endParaRPr>
          </a:p>
        </p:txBody>
      </p:sp>
      <p:pic>
        <p:nvPicPr>
          <p:cNvPr id="49" name="Picture 6" descr="http://www.soberania.org/Images/tarek_al_aisami_1.jpg"/>
          <p:cNvPicPr/>
          <p:nvPr/>
        </p:nvPicPr>
        <p:blipFill>
          <a:blip r:embed="rId1"/>
          <a:stretch/>
        </p:blipFill>
        <p:spPr>
          <a:xfrm>
            <a:off x="3000240" y="1357200"/>
            <a:ext cx="2928960" cy="4394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3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 dur="30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13" end="13"/>
                                            </p:txEl>
                                          </p:spTgt>
                                        </p:tgtEl>
                                        <p:attrNameLst>
                                          <p:attrName>style.visibility</p:attrName>
                                        </p:attrNameLst>
                                      </p:cBhvr>
                                      <p:to>
                                        <p:strVal val="visible"/>
                                      </p:to>
                                    </p:set>
                                    <p:anim calcmode="lin" valueType="num">
                                      <p:cBhvr additive="base">
                                        <p:cTn id="13" dur="3000" fill="hold"/>
                                        <p:tgtEl>
                                          <p:spTgt spid="48">
                                            <p:txEl>
                                              <p:pRg st="13" end="13"/>
                                            </p:txEl>
                                          </p:spTgt>
                                        </p:tgtEl>
                                        <p:attrNameLst>
                                          <p:attrName>ppt_x</p:attrName>
                                        </p:attrNameLst>
                                      </p:cBhvr>
                                      <p:tavLst>
                                        <p:tav tm="0">
                                          <p:val>
                                            <p:strVal val="#ppt_x"/>
                                          </p:val>
                                        </p:tav>
                                        <p:tav tm="100000">
                                          <p:val>
                                            <p:strVal val="#ppt_x"/>
                                          </p:val>
                                        </p:tav>
                                      </p:tavLst>
                                    </p:anim>
                                    <p:anim calcmode="lin" valueType="num">
                                      <p:cBhvr additive="base">
                                        <p:cTn id="14" dur="3000" fill="hold"/>
                                        <p:tgtEl>
                                          <p:spTgt spid="4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5"/>
          <p:cNvSpPr/>
          <p:nvPr/>
        </p:nvSpPr>
        <p:spPr>
          <a:xfrm>
            <a:off x="357120" y="642960"/>
            <a:ext cx="8393040" cy="55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33cc"/>
                </a:solidFill>
                <a:latin typeface="Albertus Extra Bold"/>
              </a:rPr>
              <a:t>El Sr. El Aissami es un venezolano descendiente de sirios, quien antes de ser nombrado Ministro del Interior y Justicia, ocupaba el cargo de Vice Ministro de Seguridad Públic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33cc"/>
                </a:solidFill>
                <a:latin typeface="Albertus Extra Bold"/>
              </a:rPr>
              <a:t>Su padre, Carlos Aissami, es el jefe de la sección venezolana del partido político Baath de Irak. Antes de la invasión a Irak, sostuvo una conferencia de prensa en la que se denominó a sí mismo un Talibán, y se refirió a Osama Bin Laden, como "el gran Mujahedeen, el Sheik Osama bin Laden". El tío abuelo de Shibli El Aissami era un ideólogo sobresaliente y fue el asistente al Secretario General del partido en Bagdad durante el régimen de Saddam Husse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33cc"/>
                </a:solidFill>
                <a:latin typeface="Albertus Extra Bold"/>
              </a:rPr>
              <a:t>Se averiguó que en el 2003, El Aissami fue encargado, junto con otro líder estudiantil radical de la Universidad de los Andes en la ciudad de Mérida, Hugo Cabezas, de la Dirección de la Onidex (Oficina Nacional de Identificación y Extranjería). El nombramiento resultó sorprendente precisamente debido a sus conexiones con los movimientos guerrilleros en la Universidad de Los Andes (UL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0">
                                            <p:txEl>
                                              <p:pRg st="0" end="0"/>
                                            </p:txEl>
                                          </p:spTgt>
                                        </p:tgtEl>
                                        <p:attrNameLst>
                                          <p:attrName>style.visibility</p:attrName>
                                        </p:attrNameLst>
                                      </p:cBhvr>
                                      <p:to>
                                        <p:strVal val="visible"/>
                                      </p:to>
                                    </p:set>
                                    <p:anim calcmode="lin" valueType="num">
                                      <p:cBhvr additive="base">
                                        <p:cTn id="21" dur="3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22" dur="30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0">
                                            <p:txEl>
                                              <p:pRg st="2" end="2"/>
                                            </p:txEl>
                                          </p:spTgt>
                                        </p:tgtEl>
                                        <p:attrNameLst>
                                          <p:attrName>style.visibility</p:attrName>
                                        </p:attrNameLst>
                                      </p:cBhvr>
                                      <p:to>
                                        <p:strVal val="visible"/>
                                      </p:to>
                                    </p:set>
                                    <p:anim calcmode="lin" valueType="num">
                                      <p:cBhvr additive="base">
                                        <p:cTn id="27" dur="3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28" dur="30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0">
                                            <p:txEl>
                                              <p:pRg st="4" end="4"/>
                                            </p:txEl>
                                          </p:spTgt>
                                        </p:tgtEl>
                                        <p:attrNameLst>
                                          <p:attrName>style.visibility</p:attrName>
                                        </p:attrNameLst>
                                      </p:cBhvr>
                                      <p:to>
                                        <p:strVal val="visible"/>
                                      </p:to>
                                    </p:set>
                                    <p:anim calcmode="lin" valueType="num">
                                      <p:cBhvr additive="base">
                                        <p:cTn id="33" dur="30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34" dur="30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5"/>
          <p:cNvSpPr/>
          <p:nvPr/>
        </p:nvSpPr>
        <p:spPr>
          <a:xfrm>
            <a:off x="642960" y="928800"/>
            <a:ext cx="7715160" cy="49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33cc"/>
                </a:solidFill>
                <a:latin typeface="Albertus Extra Bold"/>
              </a:rPr>
              <a:t>Han surgido evidencias de que durante ese tiempo, ambos emitieron ilegalmente pasaportes venezolanos y documentos de identidad a miembros del Hezbollah y del Hamas. El Sr. Cabezas es ahora Gobernador del Estado Trujillo electo en las elecciones que se celebraron el 23 de noviembre del 2008, y es miembro fundador de Utopía, un grupo armado que tiene nexos con el </a:t>
            </a:r>
            <a:r>
              <a:rPr b="1" i="1" lang="es-ES" sz="2000" spc="-1" strike="noStrike">
                <a:solidFill>
                  <a:srgbClr val="ff0000"/>
                </a:solidFill>
                <a:latin typeface="Albertus Extra Bold"/>
              </a:rPr>
              <a:t>Frente de Liberación Bolivariana</a:t>
            </a:r>
            <a:r>
              <a:rPr b="1" i="1" lang="es-ES" sz="2000" spc="-1" strike="noStrike">
                <a:solidFill>
                  <a:srgbClr val="0033cc"/>
                </a:solidFill>
                <a:latin typeface="Albertus Extra Bold"/>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33cc"/>
                </a:solidFill>
                <a:latin typeface="Albertus Extra Bold"/>
              </a:rPr>
              <a:t>Siendo un líder estudiantil de la ULA, El Aissami tenía el control político de los dormitorios de la ULA, que se utilizaban para esconder vehículos robados y el tráfico de drogas, y se las ingeniaban para esconder a guerrilleros en los dormitorios. Según esos informes, de las 1.122 personas que habitaban las residencias universitarias en un momento dado, sólo 387 eran estudiantes y más de 500 no tenían nada que ver con la univers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1">
                                            <p:txEl>
                                              <p:pRg st="0" end="0"/>
                                            </p:txEl>
                                          </p:spTgt>
                                        </p:tgtEl>
                                        <p:attrNameLst>
                                          <p:attrName>style.visibility</p:attrName>
                                        </p:attrNameLst>
                                      </p:cBhvr>
                                      <p:to>
                                        <p:strVal val="visible"/>
                                      </p:to>
                                    </p:set>
                                    <p:anim calcmode="lin" valueType="num">
                                      <p:cBhvr additive="base">
                                        <p:cTn id="41" dur="3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42" dur="3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1">
                                            <p:txEl>
                                              <p:pRg st="2" end="2"/>
                                            </p:txEl>
                                          </p:spTgt>
                                        </p:tgtEl>
                                        <p:attrNameLst>
                                          <p:attrName>style.visibility</p:attrName>
                                        </p:attrNameLst>
                                      </p:cBhvr>
                                      <p:to>
                                        <p:strVal val="visible"/>
                                      </p:to>
                                    </p:set>
                                    <p:anim calcmode="lin" valueType="num">
                                      <p:cBhvr additive="base">
                                        <p:cTn id="47" dur="3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48" dur="30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5"/>
          <p:cNvSpPr/>
          <p:nvPr/>
        </p:nvSpPr>
        <p:spPr>
          <a:xfrm>
            <a:off x="500040" y="357120"/>
            <a:ext cx="8072640" cy="631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33cc"/>
                </a:solidFill>
                <a:latin typeface="Albertus Extra Bold"/>
              </a:rPr>
              <a:t>La periodista venezolana Patricia Poleo, quién se dedica mayormente a la investigación, declara que el Sr. Aissami junto con otros afiliados al Hezbollah, tales como Gahzi Nasserddine, actualmente el Encargado de Negocios en la Embajada de Venezuela en Damasco, y su hermano, Ghasan Atef Salameh Nasserddi, están encargados de reclutar árabes venezolanos afiliados al </a:t>
            </a:r>
            <a:r>
              <a:rPr b="1" i="1" lang="es-ES" sz="1700" spc="-1" strike="noStrike">
                <a:solidFill>
                  <a:srgbClr val="ff0000"/>
                </a:solidFill>
                <a:latin typeface="Albertus Extra Bold"/>
              </a:rPr>
              <a:t>Partido Socialista Unido de Venezuela, PSUV, el Partido Socialista de Chávez</a:t>
            </a:r>
            <a:r>
              <a:rPr b="1" i="1" lang="es-ES" sz="1700" spc="-1" strike="noStrike">
                <a:solidFill>
                  <a:srgbClr val="0033cc"/>
                </a:solidFill>
                <a:latin typeface="Albertus Extra Bold"/>
              </a:rPr>
              <a:t>, para ser enviados al Sur del Líbano para recibir entrenamiento de combate en los campos del Hezbollah, y así prepararlos para la guerra asimétrica contra los Estados Unidos de Norte América.</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33cc"/>
                </a:solidFill>
                <a:latin typeface="Albertus Extra Bold"/>
              </a:rPr>
              <a:t>Una vez de regreso en Venezuela son recibidos por los miembros radicales del </a:t>
            </a:r>
            <a:r>
              <a:rPr b="1" i="1" lang="es-ES" sz="1700" spc="-1" strike="noStrike">
                <a:solidFill>
                  <a:srgbClr val="ff0000"/>
                </a:solidFill>
                <a:latin typeface="Albertus Extra Bold"/>
              </a:rPr>
              <a:t>Partido Socialista de Venezuela afiliado a la UNEFA </a:t>
            </a:r>
            <a:r>
              <a:rPr b="1" i="1" lang="es-ES" sz="1700" spc="-1" strike="noStrike">
                <a:solidFill>
                  <a:srgbClr val="0033cc"/>
                </a:solidFill>
                <a:latin typeface="Albertus Extra Bold"/>
              </a:rPr>
              <a:t>(la universidad regentada por las Fuerzas Armadas) y la Universidad Bolivariana de Venezuela, para continuar su entrenamiento en armamento, explosivos y municiones. Los campos de entrenamiento están ubicados en los Estados Monagas, Miranda, Falcón, Yaracuy y Trujillo, y específicamente en El Páramo de Tuñame, Yumare, Maturín, Los Teques, El Jarillo, Churuguara y Sierra de San Luis.</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33cc"/>
                </a:solidFill>
                <a:latin typeface="Albertus Extra Bold"/>
              </a:rPr>
              <a:t>Estos grupos e individuos son supervisados por la Organización del Hezbollah en Venezuela, junto con los iraquíes de Al-Qaeda que viven actualmente en el país, y por los del Frente Democrático de Palestina, encabezados por Salid Ahmed Rahman, cuyas oficinas están ubicadas en el Parque Central de Caraca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2">
                                            <p:txEl>
                                              <p:pRg st="0" end="0"/>
                                            </p:txEl>
                                          </p:spTgt>
                                        </p:tgtEl>
                                        <p:attrNameLst>
                                          <p:attrName>style.visibility</p:attrName>
                                        </p:attrNameLst>
                                      </p:cBhvr>
                                      <p:to>
                                        <p:strVal val="visible"/>
                                      </p:to>
                                    </p:set>
                                    <p:anim calcmode="lin" valueType="num">
                                      <p:cBhvr additive="base">
                                        <p:cTn id="55" dur="3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56" dur="3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2">
                                            <p:txEl>
                                              <p:pRg st="2" end="2"/>
                                            </p:txEl>
                                          </p:spTgt>
                                        </p:tgtEl>
                                        <p:attrNameLst>
                                          <p:attrName>style.visibility</p:attrName>
                                        </p:attrNameLst>
                                      </p:cBhvr>
                                      <p:to>
                                        <p:strVal val="visible"/>
                                      </p:to>
                                    </p:set>
                                    <p:anim calcmode="lin" valueType="num">
                                      <p:cBhvr additive="base">
                                        <p:cTn id="61" dur="3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62" dur="30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2">
                                            <p:txEl>
                                              <p:pRg st="4" end="4"/>
                                            </p:txEl>
                                          </p:spTgt>
                                        </p:tgtEl>
                                        <p:attrNameLst>
                                          <p:attrName>style.visibility</p:attrName>
                                        </p:attrNameLst>
                                      </p:cBhvr>
                                      <p:to>
                                        <p:strVal val="visible"/>
                                      </p:to>
                                    </p:set>
                                    <p:anim calcmode="lin" valueType="num">
                                      <p:cBhvr additive="base">
                                        <p:cTn id="67" dur="3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68" dur="30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5"/>
          <p:cNvSpPr/>
          <p:nvPr/>
        </p:nvSpPr>
        <p:spPr>
          <a:xfrm>
            <a:off x="357120" y="642960"/>
            <a:ext cx="839304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3cc"/>
                </a:solidFill>
                <a:latin typeface="Albertus Extra Bold"/>
              </a:rPr>
              <a:t>Desde que </a:t>
            </a:r>
            <a:r>
              <a:rPr b="1" i="1" lang="es-ES" sz="2400" spc="-1" strike="noStrike">
                <a:solidFill>
                  <a:srgbClr val="ff0000"/>
                </a:solidFill>
                <a:latin typeface="Albertus Extra Bold"/>
              </a:rPr>
              <a:t>Chávez</a:t>
            </a:r>
            <a:r>
              <a:rPr b="1" i="1" lang="es-ES" sz="2400" spc="-1" strike="noStrike">
                <a:solidFill>
                  <a:srgbClr val="0033cc"/>
                </a:solidFill>
                <a:latin typeface="Albertus Extra Bold"/>
              </a:rPr>
              <a:t> asumió la presidencia, el Hezbollah, el Hamas y Al-Qaeda han utilizado a Venezuela como trampolín para llegar a otros países Latino American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3cc"/>
                </a:solidFill>
                <a:latin typeface="Albertus Extra Bold"/>
              </a:rPr>
              <a:t>Hay información de que un grupo de activistas iraquíes pertenecientes a Al-Qaeda se encuentra actualmente en Caracas. Se trata de: Mohammed Adnan Yasin, Falh Ami Taha y Muhi Alwan Mohammed Al Qais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3cc"/>
                </a:solidFill>
                <a:latin typeface="Albertus Extra Bold"/>
              </a:rPr>
              <a:t>Todos llegaron a Caracas con visas temporales otorgadas y aprobadas por los jefes de Onidex (Cabezas y El Aissami) y se supone que son sumamente peligrosos. Ellos supervisan las actividades de estas organizaciones terroristas en la región tri-fronteriza, así como en Nicaragua y Argenti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3">
                                            <p:txEl>
                                              <p:pRg st="0" end="0"/>
                                            </p:txEl>
                                          </p:spTgt>
                                        </p:tgtEl>
                                        <p:attrNameLst>
                                          <p:attrName>style.visibility</p:attrName>
                                        </p:attrNameLst>
                                      </p:cBhvr>
                                      <p:to>
                                        <p:strVal val="visible"/>
                                      </p:to>
                                    </p:set>
                                    <p:anim calcmode="lin" valueType="num">
                                      <p:cBhvr additive="base">
                                        <p:cTn id="75" dur="3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76" dur="30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3">
                                            <p:txEl>
                                              <p:pRg st="2" end="2"/>
                                            </p:txEl>
                                          </p:spTgt>
                                        </p:tgtEl>
                                        <p:attrNameLst>
                                          <p:attrName>style.visibility</p:attrName>
                                        </p:attrNameLst>
                                      </p:cBhvr>
                                      <p:to>
                                        <p:strVal val="visible"/>
                                      </p:to>
                                    </p:set>
                                    <p:anim calcmode="lin" valueType="num">
                                      <p:cBhvr additive="base">
                                        <p:cTn id="81" dur="3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82" dur="30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3">
                                            <p:txEl>
                                              <p:pRg st="4" end="4"/>
                                            </p:txEl>
                                          </p:spTgt>
                                        </p:tgtEl>
                                        <p:attrNameLst>
                                          <p:attrName>style.visibility</p:attrName>
                                        </p:attrNameLst>
                                      </p:cBhvr>
                                      <p:to>
                                        <p:strVal val="visible"/>
                                      </p:to>
                                    </p:set>
                                    <p:anim calcmode="lin" valueType="num">
                                      <p:cBhvr additive="base">
                                        <p:cTn id="87" dur="3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88" dur="30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5"/>
          <p:cNvSpPr/>
          <p:nvPr/>
        </p:nvSpPr>
        <p:spPr>
          <a:xfrm>
            <a:off x="571680" y="642960"/>
            <a:ext cx="8072280" cy="527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lbertus Extra Bold"/>
              </a:rPr>
              <a:t>Otros miembros del Hezbollah en Venezuela, con este mismo tipo de visas son: el libanés experto en explosivos Abdul Ghani Suleiman Wanked, la mano derecha de Hassan Nasrallah; Rada Ramel Assad, nacido en Barranquilla, Colombia y Abouchanab Daichoum Dani, quien organiza el grup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33cc"/>
                </a:solidFill>
                <a:latin typeface="Albertus Extra Bold"/>
              </a:rPr>
              <a:t>Debemos estar muy alertas sobre lo que sucede en Venezuela. Los medios independientes han alertado que el </a:t>
            </a:r>
            <a:r>
              <a:rPr b="1" i="1" lang="es-ES" sz="2000" spc="-1" strike="noStrike">
                <a:solidFill>
                  <a:srgbClr val="ff0000"/>
                </a:solidFill>
                <a:latin typeface="Albertus Extra Bold"/>
              </a:rPr>
              <a:t>régimen de Chávez</a:t>
            </a:r>
            <a:r>
              <a:rPr b="1" i="1" lang="es-ES" sz="2000" spc="-1" strike="noStrike">
                <a:solidFill>
                  <a:srgbClr val="0033cc"/>
                </a:solidFill>
                <a:latin typeface="Albertus Extra Bold"/>
              </a:rPr>
              <a:t> ha estado emitiendo documentos de identidad a los radicales islámicos, lo cual les permite operar y desplazarse con libertad hacia otros país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33cc"/>
                </a:solidFill>
                <a:latin typeface="Albertus Extra Bold"/>
              </a:rPr>
              <a:t>Resulta sumamente preocupante y peligroso que un radical como lo es El Aissami sea el encargado de emitir cédulas de identidad y pasaportes, ya que con ello se logran las metas de los presidentes de Irán y de Venezuela en su esfuerzo mancomunado para radicalizar y crear redes terroristas en la reg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4">
                                            <p:txEl>
                                              <p:pRg st="0" end="0"/>
                                            </p:txEl>
                                          </p:spTgt>
                                        </p:tgtEl>
                                        <p:attrNameLst>
                                          <p:attrName>style.visibility</p:attrName>
                                        </p:attrNameLst>
                                      </p:cBhvr>
                                      <p:to>
                                        <p:strVal val="visible"/>
                                      </p:to>
                                    </p:set>
                                    <p:anim calcmode="lin" valueType="num">
                                      <p:cBhvr additive="base">
                                        <p:cTn id="95" dur="3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96" dur="30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4">
                                            <p:txEl>
                                              <p:pRg st="2" end="2"/>
                                            </p:txEl>
                                          </p:spTgt>
                                        </p:tgtEl>
                                        <p:attrNameLst>
                                          <p:attrName>style.visibility</p:attrName>
                                        </p:attrNameLst>
                                      </p:cBhvr>
                                      <p:to>
                                        <p:strVal val="visible"/>
                                      </p:to>
                                    </p:set>
                                    <p:anim calcmode="lin" valueType="num">
                                      <p:cBhvr additive="base">
                                        <p:cTn id="101" dur="3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102" dur="30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4">
                                            <p:txEl>
                                              <p:pRg st="4" end="4"/>
                                            </p:txEl>
                                          </p:spTgt>
                                        </p:tgtEl>
                                        <p:attrNameLst>
                                          <p:attrName>style.visibility</p:attrName>
                                        </p:attrNameLst>
                                      </p:cBhvr>
                                      <p:to>
                                        <p:strVal val="visible"/>
                                      </p:to>
                                    </p:set>
                                    <p:anim calcmode="lin" valueType="num">
                                      <p:cBhvr additive="base">
                                        <p:cTn id="107" dur="3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108" dur="30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357120" y="285840"/>
            <a:ext cx="8393040" cy="61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lbertus Extra Bold"/>
              </a:rPr>
              <a:t>Otros artículos escritos por el personal de The America's Report que se refieren a este artículo son: “The Iranian threat already in the US' backyard”, del 14 de febrero del 2008 por Nicole M. Ferrand; “Latin America's radical grassroots”, por Luis Fleischman y Nicole M.Ferrand del 27 de marzo del 2007; “The Radical Grassroots in Latin America II”, por Luis Fleischman y Nicole M. Ferrand del 11 de abril del 2007; “The Latin American Radical Grassroots II”, por Luis Fleischman y Nicole M. Ferr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lbertus Extra Bold"/>
              </a:rPr>
              <a:t>FUENTE: Soberania.org </a:t>
            </a:r>
            <a:br>
              <a:rPr sz="2000"/>
            </a:br>
            <a:r>
              <a:rPr b="1" i="1" lang="en-US" sz="2000" spc="-1" strike="noStrike">
                <a:solidFill>
                  <a:srgbClr val="0033cc"/>
                </a:solidFill>
                <a:latin typeface="Albertus Extra Bold"/>
              </a:rPr>
              <a:t>Nicole M. Ferr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33cc"/>
                </a:solidFill>
                <a:latin typeface="Albertus Extra Bold"/>
              </a:rPr>
              <a:t>*Nicole M. Ferrand es la editora de “The Americas Report” del Menges hemispheric Security Project. Es Economista y graduada de la Universidad de Columbia en Ciencias Políticas con conocimientos de Leyes de la Universidad Peruana, UNIFE y de Finanzas Empresariales de la Universidad de Georgetown. Artículo originalmente publicado en idioma inglés en: themengesproject.blogspot.com </a:t>
            </a:r>
            <a:br>
              <a:rPr sz="2000"/>
            </a:br>
            <a:r>
              <a:rPr b="1" i="1" lang="es-ES" sz="2000" spc="-1" strike="noStrike">
                <a:solidFill>
                  <a:srgbClr val="0033cc"/>
                </a:solidFill>
                <a:latin typeface="Albertus Extra Bold"/>
              </a:rPr>
              <a:t>http://www.canaldenoticia.com/quien-es-tarek-el-aissam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55">
                                            <p:txEl>
                                              <p:pRg st="0" end="0"/>
                                            </p:txEl>
                                          </p:spTgt>
                                        </p:tgtEl>
                                        <p:attrNameLst>
                                          <p:attrName>style.visibility</p:attrName>
                                        </p:attrNameLst>
                                      </p:cBhvr>
                                      <p:to>
                                        <p:strVal val="visible"/>
                                      </p:to>
                                    </p:set>
                                    <p:anim calcmode="lin" valueType="num">
                                      <p:cBhvr additive="base">
                                        <p:cTn id="115" dur="3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16" dur="3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55">
                                            <p:txEl>
                                              <p:pRg st="2" end="2"/>
                                            </p:txEl>
                                          </p:spTgt>
                                        </p:tgtEl>
                                        <p:attrNameLst>
                                          <p:attrName>style.visibility</p:attrName>
                                        </p:attrNameLst>
                                      </p:cBhvr>
                                      <p:to>
                                        <p:strVal val="visible"/>
                                      </p:to>
                                    </p:set>
                                    <p:anim calcmode="lin" valueType="num">
                                      <p:cBhvr additive="base">
                                        <p:cTn id="121" dur="3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122" dur="3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55">
                                            <p:txEl>
                                              <p:pRg st="4" end="4"/>
                                            </p:txEl>
                                          </p:spTgt>
                                        </p:tgtEl>
                                        <p:attrNameLst>
                                          <p:attrName>style.visibility</p:attrName>
                                        </p:attrNameLst>
                                      </p:cBhvr>
                                      <p:to>
                                        <p:strVal val="visible"/>
                                      </p:to>
                                    </p:set>
                                    <p:anim calcmode="lin" valueType="num">
                                      <p:cBhvr additive="base">
                                        <p:cTn id="127" dur="3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128" dur="30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5"/>
          <p:cNvSpPr/>
          <p:nvPr/>
        </p:nvSpPr>
        <p:spPr>
          <a:xfrm>
            <a:off x="500040" y="571680"/>
            <a:ext cx="8001000" cy="58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33cc"/>
                </a:solidFill>
                <a:latin typeface="Albertus Extra Bold"/>
              </a:rPr>
              <a:t>Se ubicó muy bien y apoyado por </a:t>
            </a:r>
            <a:r>
              <a:rPr b="1" i="1" lang="es-ES" sz="3600" spc="-1" strike="noStrike">
                <a:solidFill>
                  <a:srgbClr val="ff0000"/>
                </a:solidFill>
                <a:latin typeface="Albertus Extra Bold"/>
              </a:rPr>
              <a:t>Chávez y su régime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33cc"/>
                </a:solidFill>
                <a:latin typeface="Albertus Extra Bold"/>
              </a:rPr>
              <a:t>“</a:t>
            </a:r>
            <a:r>
              <a:rPr b="1" i="1" lang="es-ES" sz="3600" spc="-1" strike="noStrike">
                <a:solidFill>
                  <a:srgbClr val="0033cc"/>
                </a:solidFill>
                <a:latin typeface="Albertus Extra Bold"/>
              </a:rPr>
              <a:t>MIENTRAS </a:t>
            </a:r>
            <a:r>
              <a:rPr b="1" i="1" lang="es-ES" sz="3600" spc="-1" strike="noStrike">
                <a:solidFill>
                  <a:srgbClr val="ff0000"/>
                </a:solidFill>
                <a:latin typeface="Albertus Extra Bold"/>
              </a:rPr>
              <a:t>CHÁVEZ</a:t>
            </a:r>
            <a:r>
              <a:rPr b="1" i="1" lang="es-ES" sz="3600" spc="-1" strike="noStrike">
                <a:solidFill>
                  <a:srgbClr val="0033cc"/>
                </a:solidFill>
                <a:latin typeface="Albertus Extra Bold"/>
              </a:rPr>
              <a:t> SIGA MANDANDO, DESDE AQUÍ AYUDO A MI GENTE”</a:t>
            </a:r>
            <a:endParaRPr b="0" lang="en-US" sz="3600" spc="-1" strike="noStrike">
              <a:solidFill>
                <a:srgbClr val="000000"/>
              </a:solidFill>
              <a:latin typeface="Arial"/>
            </a:endParaRPr>
          </a:p>
        </p:txBody>
      </p:sp>
      <p:pic>
        <p:nvPicPr>
          <p:cNvPr id="57" name="Picture 5" descr="http://www.soberania.org/Images/tarek_el_aissami_1.jpg"/>
          <p:cNvPicPr/>
          <p:nvPr/>
        </p:nvPicPr>
        <p:blipFill>
          <a:blip r:embed="rId1"/>
          <a:stretch/>
        </p:blipFill>
        <p:spPr>
          <a:xfrm>
            <a:off x="2571840" y="2071800"/>
            <a:ext cx="3625920" cy="242892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56">
                                            <p:txEl>
                                              <p:pRg st="0" end="0"/>
                                            </p:txEl>
                                          </p:spTgt>
                                        </p:tgtEl>
                                        <p:attrNameLst>
                                          <p:attrName>style.visibility</p:attrName>
                                        </p:attrNameLst>
                                      </p:cBhvr>
                                      <p:to>
                                        <p:strVal val="visible"/>
                                      </p:to>
                                    </p:set>
                                    <p:anim calcmode="lin" valueType="num">
                                      <p:cBhvr additive="base">
                                        <p:cTn id="135" dur="3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36" dur="30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56">
                                            <p:txEl>
                                              <p:pRg st="10" end="10"/>
                                            </p:txEl>
                                          </p:spTgt>
                                        </p:tgtEl>
                                        <p:attrNameLst>
                                          <p:attrName>style.visibility</p:attrName>
                                        </p:attrNameLst>
                                      </p:cBhvr>
                                      <p:to>
                                        <p:strVal val="visible"/>
                                      </p:to>
                                    </p:set>
                                    <p:anim calcmode="lin" valueType="num">
                                      <p:cBhvr additive="base">
                                        <p:cTn id="141" dur="3000" fill="hold"/>
                                        <p:tgtEl>
                                          <p:spTgt spid="56">
                                            <p:txEl>
                                              <p:pRg st="10" end="10"/>
                                            </p:txEl>
                                          </p:spTgt>
                                        </p:tgtEl>
                                        <p:attrNameLst>
                                          <p:attrName>ppt_x</p:attrName>
                                        </p:attrNameLst>
                                      </p:cBhvr>
                                      <p:tavLst>
                                        <p:tav tm="0">
                                          <p:val>
                                            <p:strVal val="#ppt_x"/>
                                          </p:val>
                                        </p:tav>
                                        <p:tav tm="100000">
                                          <p:val>
                                            <p:strVal val="#ppt_x"/>
                                          </p:val>
                                        </p:tav>
                                      </p:tavLst>
                                    </p:anim>
                                    <p:anim calcmode="lin" valueType="num">
                                      <p:cBhvr additive="base">
                                        <p:cTn id="142" dur="3000" fill="hold"/>
                                        <p:tgtEl>
                                          <p:spTgt spid="56">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571680" y="1150920"/>
            <a:ext cx="7929360" cy="1922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33cc"/>
                </a:solidFill>
                <a:latin typeface="Albertus Extra Bold"/>
              </a:rPr>
              <a:t>Es necesario, que Venezuela sepa quien es el Ministro del Interior y Justicia que tenemos.</a:t>
            </a:r>
            <a:endParaRPr b="0" lang="en-US" sz="4000" spc="-1" strike="noStrike">
              <a:solidFill>
                <a:srgbClr val="000000"/>
              </a:solidFill>
              <a:latin typeface="Arial"/>
            </a:endParaRPr>
          </a:p>
        </p:txBody>
      </p:sp>
      <p:sp>
        <p:nvSpPr>
          <p:cNvPr id="59" name="Rectangle 6"/>
          <p:cNvSpPr/>
          <p:nvPr/>
        </p:nvSpPr>
        <p:spPr>
          <a:xfrm>
            <a:off x="714240" y="3929040"/>
            <a:ext cx="7572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33cc"/>
                </a:solidFill>
                <a:latin typeface="Albertus Extra Bold"/>
              </a:rPr>
              <a:t>Reenvíalo, con copia oculta borrando al remiten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7">
                                  <p:stCondLst>
                                    <p:cond delay="0"/>
                                  </p:stCondLst>
                                  <p:iterate type="lt">
                                    <p:tmAbs val="40"/>
                                  </p:iterate>
                                  <p:childTnLst>
                                    <p:set>
                                      <p:cBhvr>
                                        <p:cTn id="148" dur="1" fill="hold">
                                          <p:stCondLst>
                                            <p:cond delay="0"/>
                                          </p:stCondLst>
                                        </p:cTn>
                                        <p:tgtEl>
                                          <p:spTgt spid="58"/>
                                        </p:tgtEl>
                                        <p:attrNameLst>
                                          <p:attrName>style.visibility</p:attrName>
                                        </p:attrNameLst>
                                      </p:cBhvr>
                                      <p:to>
                                        <p:strVal val="visible"/>
                                      </p:to>
                                    </p:set>
                                    <p:anim calcmode="discrete" valueType="clr">
                                      <p:cBhvr additive="repl">
                                        <p:cTn id="149" dur="80"/>
                                        <p:tgtEl>
                                          <p:spTgt spid="58"/>
                                        </p:tgtEl>
                                        <p:attrNameLst>
                                          <p:attrName>style.color</p:attrName>
                                        </p:attrNameLst>
                                      </p:cBhvr>
                                      <p:tavLst>
                                        <p:tav tm="0">
                                          <p:val>
                                            <p:strVal val="rgb(-103,51,51)"/>
                                          </p:val>
                                        </p:tav>
                                        <p:tav tm="50000">
                                          <p:val>
                                            <p:strVal val="rgb(-103,-103,0)"/>
                                          </p:val>
                                        </p:tav>
                                      </p:tavLst>
                                    </p:anim>
                                    <p:anim calcmode="discrete" valueType="clr">
                                      <p:cBhvr additive="repl">
                                        <p:cTn id="150" dur="80"/>
                                        <p:tgtEl>
                                          <p:spTgt spid="58"/>
                                        </p:tgtEl>
                                        <p:attrNameLst>
                                          <p:attrName>fillcolor</p:attrName>
                                        </p:attrNameLst>
                                      </p:cBhvr>
                                      <p:tavLst>
                                        <p:tav tm="0">
                                          <p:val>
                                            <p:strVal val="rgb(-103,51,51)"/>
                                          </p:val>
                                        </p:tav>
                                        <p:tav tm="50000">
                                          <p:val>
                                            <p:strVal val="rgb(-103,-103,0)"/>
                                          </p:val>
                                        </p:tav>
                                      </p:tavLst>
                                    </p:anim>
                                    <p:set>
                                      <p:cBhvr>
                                        <p:cTn id="151" dur="80"/>
                                        <p:tgtEl>
                                          <p:spTgt spid="58"/>
                                        </p:tgtEl>
                                        <p:attrNameLst>
                                          <p:attrName>fill.type</p:attrName>
                                        </p:attrNameLst>
                                      </p:cBhvr>
                                      <p:to>
                                        <p:strVal val="solid"/>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7" presetSubtype="10">
                                  <p:stCondLst>
                                    <p:cond delay="0"/>
                                  </p:stCondLst>
                                  <p:childTnLst>
                                    <p:set>
                                      <p:cBhvr>
                                        <p:cTn id="155" dur="1" fill="hold">
                                          <p:stCondLst>
                                            <p:cond delay="0"/>
                                          </p:stCondLst>
                                        </p:cTn>
                                        <p:tgtEl>
                                          <p:spTgt spid="59"/>
                                        </p:tgtEl>
                                        <p:attrNameLst>
                                          <p:attrName>style.visibility</p:attrName>
                                        </p:attrNameLst>
                                      </p:cBhvr>
                                      <p:to>
                                        <p:strVal val="visible"/>
                                      </p:to>
                                    </p:set>
                                    <p:anim calcmode="lin" valueType="num">
                                      <p:cBhvr additive="repl">
                                        <p:cTn id="156" dur="2000" fill="hold"/>
                                        <p:tgtEl>
                                          <p:spTgt spid="59"/>
                                        </p:tgtEl>
                                        <p:attrNameLst>
                                          <p:attrName>ppt_w</p:attrName>
                                        </p:attrNameLst>
                                      </p:cBhvr>
                                      <p:tavLst>
                                        <p:tav tm="0">
                                          <p:val>
                                            <p:fltVal val="0"/>
                                          </p:val>
                                        </p:tav>
                                        <p:tav tm="100000">
                                          <p:val>
                                            <p:strVal val="#ppt_w"/>
                                          </p:val>
                                        </p:tav>
                                      </p:tavLst>
                                    </p:anim>
                                    <p:anim calcmode="lin" valueType="num">
                                      <p:cBhvr additive="repl">
                                        <p:cTn id="157" dur="2000" fill="hold"/>
                                        <p:tgtEl>
                                          <p:spTgt spid="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6T03:05:08Z</dcterms:created>
  <dc:creator>Anonimo</dc:creator>
  <dc:description/>
  <dc:language>en-US</dc:language>
  <cp:lastModifiedBy>Dr. Betulio Vergel</cp:lastModifiedBy>
  <dcterms:modified xsi:type="dcterms:W3CDTF">2009-12-10T04:52:47Z</dcterms:modified>
  <cp:revision>75</cp:revision>
  <dc:subject/>
  <dc:title>Tarek El Aisssami</dc:title>
</cp:coreProperties>
</file>