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D8FB-BAEF-47A2-821F-1439EA7530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800E-F5F8-4F70-9BB8-E6E6D7A698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AEB3-61F2-448A-A136-190732328F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1BAC-57D0-4767-85A2-54ABD59B4E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351-1EDE-4465-B5B3-455B2707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547-8F5D-40F3-A6A6-106747C1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918-5E38-4C98-879A-C79E81AB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9B7-B674-4B4D-9B1B-C03FF796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393-F175-4090-B961-07BEEDF7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D35-F3B3-47B6-9F6F-1F8D7AE8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A42-1D8E-4BF4-A1CA-128F6465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F61-F3A3-4206-8877-74F4701D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4DF-ABA0-4C11-8768-DCB027DF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D82-756C-42FC-9BDB-551B18FD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2CB-FA11-4967-95E7-341247C1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DA1-DB4D-49B8-AD2E-C2B28E0D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36C2-BF66-4502-AFD2-AF39B898804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es.wikipedia.org/wiki/1207" TargetMode="External"/><Relationship Id="rId3" Type="http://schemas.openxmlformats.org/officeDocument/2006/relationships/hyperlink" Target="http://es.wikipedia.org/wiki/1880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es.wikipedia.org/wiki/Agust&#237;n_de_Canterbury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828800" y="656748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udio:-The White Cliffs of Dover - Jack Million Band (lib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Eliza\Escritorio\unesco.gif"/>
          <p:cNvPicPr/>
          <p:nvPr/>
        </p:nvPicPr>
        <p:blipFill>
          <a:blip r:embed="rId2"/>
          <a:stretch/>
        </p:blipFill>
        <p:spPr>
          <a:xfrm>
            <a:off x="2438280" y="1752480"/>
            <a:ext cx="4264200" cy="33372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143000" y="457200"/>
            <a:ext cx="7058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3399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trimonio de la Humanidad</a:t>
            </a:r>
            <a:endParaRPr b="0" lang="en-US" sz="2400" spc="1" strike="noStrike">
              <a:ln w="22320">
                <a:solidFill>
                  <a:srgbClr val="3399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3124080" y="5562720"/>
            <a:ext cx="30196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3399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ino Unido</a:t>
            </a:r>
            <a:endParaRPr b="0" lang="en-US" sz="2400" spc="1" strike="noStrike">
              <a:ln w="25560">
                <a:solidFill>
                  <a:srgbClr val="3399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25560">
                <a:solidFill>
                  <a:srgbClr val="3399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Eliza\Escritorio\Nueva carpeta\800px-Causeway-code_poet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0" y="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Calzada del Giga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3808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Área que contiene unas 40.000 columnas de basalto provenientes del enfriamiento relativamente rápido de la lava en un cráter que ocurrió hace unos 60 millones de añ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Eliza\Escritorio\Nueva carpeta\Yard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457200" y="0"/>
            <a:ext cx="403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astillo de Durh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457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l castillo fue originalmente construido en el siglo XI como muestra del poder de los reyes normandos en el norte de Inglaterra. Hoy funciona University Colle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Eliza\Escritorio\Nueva carpeta\779px-Canterbury_Cathedral_-_Portal_Nave_Cross-spir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4876920" y="0"/>
            <a:ext cx="396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atedral de Canterbu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2514600" y="38088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s una de las más antiguas y famosas estructuras cristianas en Ingla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Eliza\Escritorio\Nueva carpeta\800px-Chesters-milecastle-bathhou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5335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ilurn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Fue una de las fortalezas erigidas en la muralla de Adriano,data del año 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Eliza\Escritorio\Nueva carpeta\800px-EdinburghgeorgeI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3886200" y="228600"/>
            <a:ext cx="434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iudad vieja de Edimbur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33520" y="63244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Ha conservado su planta medieval y muchos edificios de la época de la reform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Eliza\Escritorio\Nueva carpeta\800px-Conwy_Castle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5638680" y="0"/>
            <a:ext cx="3124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astillo de Conw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457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Se encuentra en la localidad de Conwy, en la costa norte de Gales. Fue construido entre 1283 y 1289 como parte de la segunda campaña del Rey Eduardo I de Inglaterra en Gal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Eliza\Escritorio\Nueva carpeta\800px-Durham_Kathedrale_Nahaufnahm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0" y="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Catedral de Durh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5335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 catedral fue fundada en 10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Eliza\Escritorio\Nueva carpeta\800px-Ironbridge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4724280" y="0"/>
            <a:ext cx="396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Garganta de Ironbri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295280" y="83808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s una profunda garganta formada por el río Severn .El puente fue construido en 177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Eliza\Escritorio\Nueva carpeta\4147810-Royal_Naval_College_July_2008-Greenwich.jpg"/>
          <p:cNvPicPr/>
          <p:nvPr/>
        </p:nvPicPr>
        <p:blipFill>
          <a:blip r:embed="rId1"/>
          <a:stretch/>
        </p:blipFill>
        <p:spPr>
          <a:xfrm>
            <a:off x="1066680" y="609480"/>
            <a:ext cx="7112160" cy="5334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02" name="Rectangle 3"/>
          <p:cNvSpPr/>
          <p:nvPr/>
        </p:nvSpPr>
        <p:spPr>
          <a:xfrm>
            <a:off x="2819520" y="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Greenwich (Londr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28600" y="61722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s muy conocido por su historia marítima y por ser la localización del Tiempo Medio de Greenw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Eliza\Escritorio\Nueva carpeta\Iglesia San Martin de Canterbury Inglaterra.jpg"/>
          <p:cNvPicPr/>
          <p:nvPr/>
        </p:nvPicPr>
        <p:blipFill>
          <a:blip r:embed="rId1"/>
          <a:stretch/>
        </p:blipFill>
        <p:spPr>
          <a:xfrm>
            <a:off x="0" y="1219320"/>
            <a:ext cx="5464080" cy="41036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105" name="Picture 3" descr="C:\Documents and Settings\Eliza\Escritorio\Nueva carpeta\450px-St_Martins_Church_graveyard.JPG"/>
          <p:cNvPicPr/>
          <p:nvPr/>
        </p:nvPicPr>
        <p:blipFill>
          <a:blip r:embed="rId2"/>
          <a:stretch/>
        </p:blipFill>
        <p:spPr>
          <a:xfrm>
            <a:off x="5029200" y="380880"/>
            <a:ext cx="4286160" cy="57150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106" name="Rectangle 4"/>
          <p:cNvSpPr/>
          <p:nvPr/>
        </p:nvSpPr>
        <p:spPr>
          <a:xfrm>
            <a:off x="0" y="228600"/>
            <a:ext cx="5486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Iglesia de San Martín -Canterbu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33520" y="579132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s la iglesia más antigua de Ingla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Eliza\Escritorio\Nueva carpeta\800px-Fountains_Abbey_view02_2005-08-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152280" y="579132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Abadía de Founta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52280" y="64008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(son las ruinas de un monasterio cisterciense, fundado en1132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Eliza\Escritorio\Nueva carpeta\506px-StMargaretsChurch.jpg"/>
          <p:cNvPicPr/>
          <p:nvPr/>
        </p:nvPicPr>
        <p:blipFill>
          <a:blip r:embed="rId1"/>
          <a:stretch/>
        </p:blipFill>
        <p:spPr>
          <a:xfrm>
            <a:off x="1981080" y="0"/>
            <a:ext cx="53434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1676520" y="6004080"/>
            <a:ext cx="6476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Iglesia de Santa Margarita (Westminst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057400" y="6400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Fue fundada en el siglo XII por los monjes benedictin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Eliza\Escritorio\Nueva carpeta\799px-Gad_cliff_dors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5867280" y="228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sta Jurási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571500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 extiende por 153 km de cost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Eliza\Escritorio\Nueva carpeta\liverpool1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895480" y="152280"/>
            <a:ext cx="198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iverp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63244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Fue fundada como villa en </a:t>
            </a:r>
            <a:r>
              <a:rPr b="0" lang="es-E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1207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y tuvo ese estatus hasta </a:t>
            </a:r>
            <a:r>
              <a:rPr b="0" lang="es-E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1880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, cuando recibió el título de ciuda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Eliza\Escritorio\Nueva carpeta\MaesHow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Documents and Settings\Eliza\Escritorio\Nueva carpeta\maeshowein34206304p.jpg"/>
          <p:cNvPicPr/>
          <p:nvPr/>
        </p:nvPicPr>
        <p:blipFill>
          <a:blip r:embed="rId2"/>
          <a:stretch/>
        </p:blipFill>
        <p:spPr>
          <a:xfrm>
            <a:off x="6400800" y="4648320"/>
            <a:ext cx="2438280" cy="2011320"/>
          </a:xfrm>
          <a:prstGeom prst="rect">
            <a:avLst/>
          </a:prstGeom>
          <a:ln w="41400">
            <a:solidFill>
              <a:srgbClr val="ffffff"/>
            </a:solidFill>
            <a:miter/>
          </a:ln>
        </p:spPr>
      </p:pic>
      <p:sp>
        <p:nvSpPr>
          <p:cNvPr id="119" name="Rectangle 4"/>
          <p:cNvSpPr/>
          <p:nvPr/>
        </p:nvSpPr>
        <p:spPr>
          <a:xfrm>
            <a:off x="304920" y="685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pilamiento de piedras del Neolítico y un enterramiento subterráneo situado en Esco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276720" y="0"/>
            <a:ext cx="182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Maeshow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Documents and Settings\Eliza\Escritorio\Nueva carpeta\800px-New_Lanark_Squa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152280" y="914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s un pueblo situado a la orilla del río Clyde,en Escocia. Fue fundado en178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2209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New Lana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nts and Settings\Eliza\Escritorio\Nueva carpeta\800px-Blenheim_Palace_IMG_36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Palacio de Blenhei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6521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s uno de los mayores palacios del país, se construyó entre 1705 y17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Eliza\Escritorio\Nueva carpeta\800px-Palace_of_Westminster,_London_-_Feb_2007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886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28" name="Rectangle 3"/>
          <p:cNvSpPr/>
          <p:nvPr/>
        </p:nvSpPr>
        <p:spPr>
          <a:xfrm>
            <a:off x="2819520" y="228600"/>
            <a:ext cx="3809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lacio de Westmins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362320" y="601992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l edificio es un ejemplo del estilo neogó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Documents and Settings\Eliza\Escritorio\Nueva carpeta\800px-Saltaire_from_Leeds_and_Liverpool_Ca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2362320" y="0"/>
            <a:ext cx="1752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Saltai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6156360"/>
            <a:ext cx="9144000" cy="7030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Pueblo modelo fundado en 1853 en la época victoriana es un punto trascendental de la ruta europea industri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Documents and Settings\Eliza\Escritorio\Nueva carpeta\800px-Stonehenge_Tot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3429000" y="2286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133720" y="6324480"/>
            <a:ext cx="556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Monumento megalítico, tipo crómlech, de la Edad de Bro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Eliza\Escritorio\Nueva carpeta\783px-Tower_of_london_from_swiss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2971800" y="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Torre de Lond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5715000"/>
            <a:ext cx="8305920" cy="5806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l complejo ha sido utilizado como fortaleza, armería, almacén del tesoro, palacio, palacio de detención, observatorio, refugio y prisión, especialmente para prisioneros de "clase alta"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Eliza\Escritorio\Nueva carpeta\Augustine_Abb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52280" y="0"/>
            <a:ext cx="3657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Abadía de San Agustí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0" y="5335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 fundada por San Agustín de</a:t>
            </a:r>
            <a:r>
              <a:rPr b="0" lang="es-E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anterbury alrededor del 5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Documents and Settings\Eliza\Escritorio\Nueva carpeta\800px-Kew_Gardens_Palm_House,_London_-_July_2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1981080" y="0"/>
            <a:ext cx="4496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Real Jardín Botánico de Ke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52280" y="60958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Posee con 120 hectáreas de extensión, es un centro puntero en la investigación botánic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8001000" y="5181480"/>
            <a:ext cx="8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iz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Eliza\Escritorio\Nueva carpeta\800px-WalesC00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3049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Acueducto de Pontcysyll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066680" y="632448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Culminado en 1805, es el acueducto más largo y alto en Gran Breta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Documents and Settings\Eliza\Escritorio\Nueva carpeta\hadrian's w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914400" y="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Muro de Adria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7621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ntigua construcción defensiva de la isla de, levantada entre los años 122-132 por orden del emperador romano Adriano para defender el territorio brita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Eliza\Escritorio\Nueva carpeta\800px-Ring_of_Brodgar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0" y="152280"/>
            <a:ext cx="3505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Anillo de Brodg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rquitectura neolítica construida alrededor del 2500 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Eliza\Escritorio\Nueva carpeta\800px-ASC_11_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228600" y="152280"/>
            <a:ext cx="198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Avebu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mplazamiento de un círculo de piedras datado hace más de 5.000 añ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Eliza\Escritorio\Nueva carpeta\787px-Royal.crescent.aerial.bath.ar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2362320" y="0"/>
            <a:ext cx="1523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Ba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609480"/>
            <a:ext cx="9144000" cy="5806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Ciudad del suroeste de Inglaterra, conocida por sus balnearios termales alimentados por tres manant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Eliza\Escritorio\Nueva carpeta\800px-Caernarfon_castle_interio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3049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Castillo de Caernarf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nstruido al norte del país de Gales, por el rey Eduardo I en el año 12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22:42:25Z</dcterms:created>
  <dc:creator>Usuario de Windows</dc:creator>
  <dc:description/>
  <dc:language>en-US</dc:language>
  <cp:lastModifiedBy>Usuario de Windows</cp:lastModifiedBy>
  <dcterms:modified xsi:type="dcterms:W3CDTF">2009-11-11T22:43:14Z</dcterms:modified>
  <cp:revision>1</cp:revision>
  <dc:subject/>
  <dc:title>Diapositiva 1</dc:title>
</cp:coreProperties>
</file>