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807-C3DD-4494-A744-2DB3CF6680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CDC1-7311-44C4-B270-18F6C044EE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328F-00C9-4B11-93F1-3A7B0832B4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80E8-24D9-4E53-BF46-62B4CF02F6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384-3CAD-4A1E-8C7E-6225A95C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140-14DE-49CF-9971-BE60CA33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814-669C-4386-BF48-61DB233E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7E3-682F-493B-B1AC-9A6F9217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AD1-6407-4974-B393-EE09DB2C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80D-A289-4B2D-B17B-E33C8FA8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746-8240-42FA-AEBB-21C0CF1A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7A5-C826-4C69-953C-D0BBE1D9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CAA-DB28-4490-A763-F5E8E3B3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8D9-0124-49EB-811B-A668EB4A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909-CB37-4BC6-A47C-35C3AD2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D98-96A9-4F22-B9FA-57EBB50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EB99-1C49-4E5B-A399-D70BC90E6A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es.wikipedia.org/wiki/1207" TargetMode="External"/><Relationship Id="rId3" Type="http://schemas.openxmlformats.org/officeDocument/2006/relationships/hyperlink" Target="http://es.wikipedia.org/wiki/1880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Agust&#237;n_de_Canterbury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828800" y="656748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dio:-The White Cliffs of Dover - Jack Million Band (lib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Eliza\Escritorio\unesco.gif"/>
          <p:cNvPicPr/>
          <p:nvPr/>
        </p:nvPicPr>
        <p:blipFill>
          <a:blip r:embed="rId2"/>
          <a:stretch/>
        </p:blipFill>
        <p:spPr>
          <a:xfrm>
            <a:off x="2438280" y="1752480"/>
            <a:ext cx="4264200" cy="3337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143000" y="457200"/>
            <a:ext cx="705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3399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trimonio de la Humanidad</a:t>
            </a:r>
            <a:endParaRPr b="0" lang="en-US" sz="2400" spc="1" strike="noStrike">
              <a:ln w="2232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124080" y="5562720"/>
            <a:ext cx="30196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3399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ino Unido</a:t>
            </a:r>
            <a:endParaRPr b="0" lang="en-US" sz="2400" spc="1" strike="noStrike">
              <a:ln w="2556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25560">
                <a:solidFill>
                  <a:srgbClr val="3399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Eliza\Escritorio\Nueva carpeta\800px-Causeway-code_poet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lzada del Gig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3808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Área que contiene unas 40.000 columnas de basalto provenientes del enfriamiento relativamente rápido de la lava en un cráter que ocurrió hace unos 60 millones de añ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Eliza\Escritorio\Nueva carpeta\Yard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57200" y="0"/>
            <a:ext cx="403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stillo de Durh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457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castillo fue originalmente construido en el siglo XI como muestra del poder de los reyes normandos en el norte de Inglaterra. Hoy funciona University Colle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Eliza\Escritorio\Nueva carpeta\779px-Canterbury_Cathedral_-_Portal_Nave_Cross-spir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876920" y="0"/>
            <a:ext cx="396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tedral de Canter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514600" y="3808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a de las más antiguas y famosas estructuras cristianas en Ingla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Eliza\Escritorio\Nueva carpeta\800px-Chesters-milecastle-bathho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5335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ilurn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una de las fortalezas erigidas en la muralla de Adriano,data del año 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Eliza\Escritorio\Nueva carpeta\800px-EdinburghgeorgeI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3886200" y="22860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iudad vieja de Edimbur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52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Ha conservado su planta medieval y muchos edificios de la época de la refor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Eliza\Escritorio\Nueva carpeta\800px-Conwy_Castle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638680" y="0"/>
            <a:ext cx="312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astillo de Conw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457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Se encuentra en la localidad de Conwy, en la costa norte de Gales. Fue construido entre 1283 y 1289 como parte de la segunda campaña del Rey Eduardo I de Inglaterra en Ga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Eliza\Escritorio\Nueva carpeta\800px-Durham_Kathedrale_Nahaufnah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tedral de Durh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5335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 catedral fue fundada en 10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Eliza\Escritorio\Nueva carpeta\800px-Ironbridge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4724280" y="0"/>
            <a:ext cx="396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Garganta de Ironbri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8380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a profunda garganta formada por el río Severn .El puente fue construido en 177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Eliza\Escritorio\Nueva carpeta\4147810-Royal_Naval_College_July_2008-Greenwich.jpg"/>
          <p:cNvPicPr/>
          <p:nvPr/>
        </p:nvPicPr>
        <p:blipFill>
          <a:blip r:embed="rId1"/>
          <a:stretch/>
        </p:blipFill>
        <p:spPr>
          <a:xfrm>
            <a:off x="1066680" y="609480"/>
            <a:ext cx="7112160" cy="533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281952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Greenwich (Londr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28600" y="6172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muy conocido por su historia marítima y por ser la localización del Tiempo Medio de Greenw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Eliza\Escritorio\Nueva carpeta\Iglesia San Martin de Canterbury Inglaterra.jpg"/>
          <p:cNvPicPr/>
          <p:nvPr/>
        </p:nvPicPr>
        <p:blipFill>
          <a:blip r:embed="rId1"/>
          <a:stretch/>
        </p:blipFill>
        <p:spPr>
          <a:xfrm>
            <a:off x="0" y="1219320"/>
            <a:ext cx="5464080" cy="4103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105" name="Picture 3" descr="C:\Documents and Settings\Eliza\Escritorio\Nueva carpeta\450px-St_Martins_Church_graveyard.JPG"/>
          <p:cNvPicPr/>
          <p:nvPr/>
        </p:nvPicPr>
        <p:blipFill>
          <a:blip r:embed="rId2"/>
          <a:stretch/>
        </p:blipFill>
        <p:spPr>
          <a:xfrm>
            <a:off x="5029200" y="380880"/>
            <a:ext cx="4286160" cy="57150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06" name="Rectangle 4"/>
          <p:cNvSpPr/>
          <p:nvPr/>
        </p:nvSpPr>
        <p:spPr>
          <a:xfrm>
            <a:off x="0" y="22860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Iglesia de San Martín -Canter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33520" y="579132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la iglesia más antigua de Ingla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Eliza\Escritorio\Nueva carpeta\800px-Fountains_Abbey_view02_2005-08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152280" y="579132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Abadía de Fount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640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(son las ruinas de un monasterio cisterciense, fundado en1132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Eliza\Escritorio\Nueva carpeta\506px-StMargaretsChurch.jpg"/>
          <p:cNvPicPr/>
          <p:nvPr/>
        </p:nvPicPr>
        <p:blipFill>
          <a:blip r:embed="rId1"/>
          <a:stretch/>
        </p:blipFill>
        <p:spPr>
          <a:xfrm>
            <a:off x="1981080" y="0"/>
            <a:ext cx="53434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676520" y="6004080"/>
            <a:ext cx="647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Iglesia de Santa Margarita (Westmins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57400" y="6400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fundada en el siglo XII por los monjes benedictin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Eliza\Escritorio\Nueva carpeta\799px-Gad_cliff_dors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867280" y="228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sta Jurásic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71500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 extiende por 153 km de cost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Eliza\Escritorio\Nueva carpeta\liverpool1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895480" y="152280"/>
            <a:ext cx="19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iverp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324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Fue fundada como villa en 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207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y tuvo ese estatus hasta 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880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, cuando recibió el título de ciud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Eliza\Escritorio\Nueva carpeta\MaesHow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Eliza\Escritorio\Nueva carpeta\maeshowein34206304p.jpg"/>
          <p:cNvPicPr/>
          <p:nvPr/>
        </p:nvPicPr>
        <p:blipFill>
          <a:blip r:embed="rId2"/>
          <a:stretch/>
        </p:blipFill>
        <p:spPr>
          <a:xfrm>
            <a:off x="6400800" y="4648320"/>
            <a:ext cx="2438280" cy="2011320"/>
          </a:xfrm>
          <a:prstGeom prst="rect">
            <a:avLst/>
          </a:prstGeom>
          <a:ln w="41400">
            <a:solidFill>
              <a:srgbClr val="ffffff"/>
            </a:solidFill>
            <a:miter/>
          </a:ln>
        </p:spPr>
      </p:pic>
      <p:sp>
        <p:nvSpPr>
          <p:cNvPr id="119" name="Rectangle 4"/>
          <p:cNvSpPr/>
          <p:nvPr/>
        </p:nvSpPr>
        <p:spPr>
          <a:xfrm>
            <a:off x="304920" y="685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pilamiento de piedras del Neolítico y un enterramiento subterráneo situado en Esco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276720" y="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Maeshow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Eliza\Escritorio\Nueva carpeta\800px-New_Lanark_Squa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5228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 pueblo situado a la orilla del río Clyde,en Escocia. Fue fundado en178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2209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New Lana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Eliza\Escritorio\Nueva carpeta\800px-Blenheim_Palace_IMG_36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Palacio de Blenhei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s uno de los mayores palacios del país, se construyó entre 1705 y17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Eliza\Escritorio\Nueva carpeta\800px-Palace_of_Westminster,_London_-_Feb_2007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886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8" name="Rectangle 3"/>
          <p:cNvSpPr/>
          <p:nvPr/>
        </p:nvSpPr>
        <p:spPr>
          <a:xfrm>
            <a:off x="2819520" y="2286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lacio de Westmin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2320" y="601992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edificio es un ejemplo del estilo neogó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Eliza\Escritorio\Nueva carpeta\800px-Saltaire_from_Leeds_and_Liverpool_Ca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2362320" y="0"/>
            <a:ext cx="1752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alta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6156360"/>
            <a:ext cx="9144000" cy="70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Pueblo modelo fundado en 1853 en la época victoriana es un punto trascendental de la ruta europea industr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Eliza\Escritorio\Nueva carpeta\800px-Stonehenge_Tot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429000" y="2286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33720" y="63244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Monumento megalítico, tipo crómlech, de la Edad de Bro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Eliza\Escritorio\Nueva carpeta\783px-Tower_of_london_from_swiss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971800" y="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orre de Lond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5715000"/>
            <a:ext cx="8305920" cy="580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El complejo ha sido utilizado como fortaleza, armería, almacén del tesoro, palacio, palacio de detención, observatorio, refugio y prisión, especialmente para prisioneros de "clase alta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Eliza\Escritorio\Nueva carpeta\Augustine_Abb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52280" y="0"/>
            <a:ext cx="365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badía de San Agustí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533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 fundada por San Agustín de</a:t>
            </a:r>
            <a:r>
              <a:rPr b="0" lang="es-E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nterbury alrededor del 5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Eliza\Escritorio\Nueva carpeta\800px-Kew_Gardens_Palm_House,_London_-_July_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1981080" y="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Real Jardín Botánico de Ke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52280" y="6095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Posee con 120 hectáreas de extensión, es un centro puntero en la investigación botánic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8001000" y="5181480"/>
            <a:ext cx="8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Eliza\Escritorio\Nueva carpeta\800px-WalesC00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304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cueducto de Pontcysyll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066680" y="632448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Culminado en 1805, es el acueducto más largo y alto en Gran Breta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Eliza\Escritorio\Nueva carpeta\hadrian's w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914400" y="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Muro de Adr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7621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ntigua construcción defensiva de la isla de, levantada entre los años 122-132 por orden del emperador romano Adriano para defender el territorio brita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Eliza\Escritorio\Nueva carpeta\800px-Ring_of_Brodgar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15228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nillo de Brodg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rquitectura neolítica construida alrededor del 2500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Eliza\Escritorio\Nueva carpeta\800px-ASC_11_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28600" y="152280"/>
            <a:ext cx="198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Avebu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plazamiento de un círculo de piedras datado hace más de 5.000 añ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Eliza\Escritorio\Nueva carpeta\787px-Royal.crescent.aerial.bath.ar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362320" y="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609480"/>
            <a:ext cx="9144000" cy="5806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Ciudad del suroeste de Inglaterra, conocida por sus balnearios termales alimentados por tres manant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Eliza\Escritorio\Nueva carpeta\800px-Caernarfon_castle_interi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304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Castillo de Caernarf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nstruido al norte del país de Gales, por el rey Eduardo I en el año 1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2:42:25Z</dcterms:created>
  <dc:creator>Usuario de Windows</dc:creator>
  <dc:description/>
  <dc:language>en-US</dc:language>
  <cp:lastModifiedBy>Usuario de Windows</cp:lastModifiedBy>
  <dcterms:modified xsi:type="dcterms:W3CDTF">2009-11-11T22:43:14Z</dcterms:modified>
  <cp:revision>1</cp:revision>
  <dc:subject/>
  <dc:title>Diapositiva 1</dc:title>
</cp:coreProperties>
</file>