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LUGIN.WAV" ContentType="audio/x-wav"/>
  <Override PartName="/ppt/media/image1.jpeg" ContentType="image/jpeg"/>
  <Override PartName="/ppt/media/image2.jpeg" ContentType="image/jpeg"/>
  <Override PartName="/ppt/media/Osanna%20de%20G.%20Dufayw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918-F513-4837-8AB7-687792D9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B2E-2C0F-4A91-8DBA-9D0F2FB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AEA-7C68-4770-A142-7243A026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BDA-2FC3-4233-BDA4-550D4C58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973-7E98-4D50-BF7A-CCC0C44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297-FEAD-4AF7-AFC0-B670357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8AE-2C8E-4583-85A4-469A20E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742-CE66-4C58-8CD2-B893CF83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BAA-60C6-4A1F-9BE6-F2DAF00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6AF-EF91-4519-913F-566B6AB5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1D4-4BB2-4E90-94A5-F8D6A3B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635-683F-45F1-B335-8D04956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CFC-7C90-4DB5-96B3-1FC91CFF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Osanna%20de%20G.%20Dufay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5 Imagen" descr="PASQcirist.jpg"/>
          <p:cNvPicPr/>
          <p:nvPr/>
        </p:nvPicPr>
        <p:blipFill>
          <a:blip r:embed="rId2"/>
          <a:stretch/>
        </p:blipFill>
        <p:spPr>
          <a:xfrm>
            <a:off x="-9360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142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4200" y="2714760"/>
            <a:ext cx="89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6000" y="328464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929120"/>
            <a:ext cx="942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0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928800" y="1000080"/>
            <a:ext cx="71992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5438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PASCUA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5438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71280" y="0"/>
            <a:ext cx="50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a620e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0" y="271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42960" y="328608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62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a62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1143000" y="5786280"/>
            <a:ext cx="744372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214880" y="88920"/>
            <a:ext cx="4857840" cy="55080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Pascua en el Sepulc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00040" y="71280"/>
            <a:ext cx="37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Osana de Duf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71280" y="4995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b2591"/>
                </a:solidFill>
                <a:latin typeface="Arial"/>
              </a:rPr>
              <a:t>HIJO, TODO L0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Osanna%20de%20G.%20Dufay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12" dur="1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0880" y="380880"/>
            <a:ext cx="8607600" cy="3749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quienes les perdonéis los pecados, les quedan perdonados; a quienes se los retengáis, les quedan retenidos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06Sionspirito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143680" y="182520"/>
            <a:ext cx="378612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Perdón para los de arriba y para los de abaj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5121360"/>
            <a:ext cx="5605200" cy="14043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a Pascua es PERDÓN sin lími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474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la alta, que recuerda la presencia del Espírit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28600" y="228600"/>
            <a:ext cx="867888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omás, uno de los Doce, llamado el Mellizo, no estaba con ellos cuando vino Jesús. Y los otros discípulos le decían: "Hemos visto al Señor." Pero él les contestó: "Si no veo en sus manos la señal de los clavos, si no meto el dedo en el agujero de los clavos y no meto la mano en su costado, no lo creo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resized_06SionentrataBig"/>
          <p:cNvPicPr/>
          <p:nvPr/>
        </p:nvPicPr>
        <p:blipFill>
          <a:blip r:embed="rId2"/>
          <a:stretch/>
        </p:blipFill>
        <p:spPr>
          <a:xfrm>
            <a:off x="144360" y="981000"/>
            <a:ext cx="6588360" cy="5788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04920" y="142920"/>
            <a:ext cx="8624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¿Crees cuando todo es oscur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" y="6019920"/>
            <a:ext cx="317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ffffff"/>
                </a:solidFill>
                <a:latin typeface="Arial Unicode MS"/>
              </a:rPr>
              <a:t>Entrada del 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286240" y="3786120"/>
            <a:ext cx="3633840" cy="27147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Creer sin 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ver abre  dimensiones inédita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228600" y="304920"/>
            <a:ext cx="864252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los ocho días, estaban otra vez dentro los discípulos y Tomás con ellos. Llegó Jesús, estando cerradas las puertas, se puso en medio y dijo: "Paz a vosotros." Luego dijo a Tomás: "Trae tu dedo, aquí tienes mis manos; trae tu mano y métela en mi costado; y no seas incrédulo, sino creyente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Ravagio"/>
          <p:cNvPicPr/>
          <p:nvPr/>
        </p:nvPicPr>
        <p:blipFill>
          <a:blip r:embed="rId2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858000" y="142920"/>
            <a:ext cx="2143080" cy="18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000000"/>
                </a:solidFill>
                <a:latin typeface="Arial Unicode MS"/>
              </a:rPr>
              <a:t>La FE cura herid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85960" y="5357880"/>
            <a:ext cx="7215120" cy="13892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ca mis heridas, sangrando en tantos hermanos...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111320" y="836640"/>
            <a:ext cx="6889680" cy="49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estó Tomás: "¡Señor mío y Dios mío!"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85840" y="142920"/>
            <a:ext cx="485784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 otro es tu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cenacle2wg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523880" y="5429160"/>
            <a:ext cx="74059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Yo estoy en todos los seres, por deformes que sea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85880" y="285840"/>
            <a:ext cx="7900920" cy="60361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le dijo: "¿Porque me has visto has creído? Dichosos los que crean sin haber visto."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perolllum1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13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5229360"/>
            <a:ext cx="4748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Mi luz es más real que la de los o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57120" y="571680"/>
            <a:ext cx="271476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lices los que CREÉIS aunque sea en medio de tinieb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33"/>
          <p:cNvSpPr/>
          <p:nvPr/>
        </p:nvSpPr>
        <p:spPr>
          <a:xfrm>
            <a:off x="380880" y="2857680"/>
            <a:ext cx="8543880" cy="291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8bd44"/>
                </a:solidFill>
                <a:latin typeface="Arial Unicode MS"/>
              </a:rPr>
              <a:t>Domingo 2: CREER sin ver</a:t>
            </a:r>
            <a:r>
              <a:rPr b="1" lang="es-ES" sz="3500" spc="-1" strike="noStrike">
                <a:solidFill>
                  <a:srgbClr val="e8bd44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e8bd44"/>
                </a:solidFill>
                <a:latin typeface="Arial Unicode MS"/>
              </a:rPr>
              <a:t>Jn20,19-3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3: RECONOCERLO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Lc 24, 35-4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4: el PASTOR nos ama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0,11-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5: permanecer en Él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5, 1-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6: dar la VIDA por los amigos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5, 9-1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34"/>
          <p:cNvSpPr/>
          <p:nvPr/>
        </p:nvSpPr>
        <p:spPr>
          <a:xfrm>
            <a:off x="1332000" y="260280"/>
            <a:ext cx="673236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UNA  PASCUA  DE  50  DÍ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30"/>
          <p:cNvSpPr/>
          <p:nvPr/>
        </p:nvSpPr>
        <p:spPr>
          <a:xfrm>
            <a:off x="324000" y="6165720"/>
            <a:ext cx="210492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CENÁCUL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357120" y="1643040"/>
            <a:ext cx="8572680" cy="1214640"/>
          </a:xfrm>
          <a:prstGeom prst="rect">
            <a:avLst/>
          </a:prstGeom>
          <a:gradFill rotWithShape="0">
            <a:gsLst>
              <a:gs pos="0">
                <a:srgbClr val="9c3300"/>
              </a:gs>
              <a:gs pos="100000">
                <a:srgbClr val="ff5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ía de PASCUA: </a:t>
            </a:r>
            <a:br>
              <a:rPr sz="3000"/>
            </a:br>
            <a:r>
              <a:rPr b="1" lang="ca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l Sepulcro sale la nueva Creación </a:t>
            </a:r>
            <a:r>
              <a:rPr b="1" lang="ca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20,1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11280" y="260280"/>
            <a:ext cx="822780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uchos otros signos, que no están escritos en este libro, hizo Jesús a la vista de los discípulos. Éstos se han escrito para que creáis que Jesús es el Mesías, el Hijo de Dios, y para que, creyendo, tengáis vida en su nombre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5 Imagen" descr="Imagen81.jpg"/>
          <p:cNvPicPr/>
          <p:nvPr/>
        </p:nvPicPr>
        <p:blipFill>
          <a:blip r:embed="rId2"/>
          <a:stretch/>
        </p:blipFill>
        <p:spPr>
          <a:xfrm>
            <a:off x="-285840" y="-268200"/>
            <a:ext cx="9786960" cy="7340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85840" y="1874880"/>
            <a:ext cx="32194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Guárdalos todos en el Cenáculo de tu corazón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5840" y="318960"/>
            <a:ext cx="621504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La RESURRECCIÓN es un milagro const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042920" y="981000"/>
            <a:ext cx="7128000" cy="46962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 Resucitado, haz que a través de la vida real descubramos los anchos horizontes </a:t>
            </a:r>
            <a:br>
              <a:rPr sz="4500"/>
            </a:br>
            <a:r>
              <a:rPr b="1" lang="es-ES" sz="4500" spc="-1" strike="noStrike">
                <a:solidFill>
                  <a:srgbClr val="ffffff"/>
                </a:solidFill>
                <a:latin typeface="Arial"/>
                <a:ea typeface="Times New Roman"/>
              </a:rPr>
              <a:t>de PASCU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611280" y="580536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resized_moliv4ct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0735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838080" y="260280"/>
            <a:ext cx="7766280" cy="1007640"/>
          </a:xfrm>
          <a:prstGeom prst="rect">
            <a:avLst/>
          </a:prstGeom>
          <a:solidFill>
            <a:srgbClr val="29292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El Cenáculo está en el lugar de la primera sinagoga convertida en Igles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7200" y="5105520"/>
            <a:ext cx="8426520" cy="119124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Aquí pasaron las dos apariciones del evangelio de h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 rot="20502000">
            <a:off x="826560" y="1915920"/>
            <a:ext cx="1584360" cy="576000"/>
          </a:xfrm>
          <a:prstGeom prst="rightArrow">
            <a:avLst>
              <a:gd name="adj1" fmla="val 50000"/>
              <a:gd name="adj2" fmla="val 68766"/>
            </a:avLst>
          </a:prstGeom>
          <a:solidFill>
            <a:srgbClr val="b09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380880"/>
            <a:ext cx="8425080" cy="44809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20,19-31 Al anochecer de aquel día, el primero de la semana, estaban los discípulos en una casa, con las puertas cerradas por miedo a los judío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06panSionBigwtt"/>
          <p:cNvPicPr/>
          <p:nvPr/>
        </p:nvPicPr>
        <p:blipFill>
          <a:blip r:embed="rId2"/>
          <a:stretch/>
        </p:blipFill>
        <p:spPr>
          <a:xfrm>
            <a:off x="-12566520" y="98280"/>
            <a:ext cx="3434688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52360" y="142920"/>
            <a:ext cx="48913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istas desde el Cenácul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57120" y="2786040"/>
            <a:ext cx="3348000" cy="37508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tengáis las puertas cerradas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jad entrar el aire fresco de Pasc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 rot="1812600">
            <a:off x="6011640" y="981000"/>
            <a:ext cx="1584360" cy="576360"/>
          </a:xfrm>
          <a:prstGeom prst="rightArrow">
            <a:avLst>
              <a:gd name="adj1" fmla="val 50000"/>
              <a:gd name="adj2" fmla="val 68723"/>
            </a:avLst>
          </a:prstGeom>
          <a:solidFill>
            <a:srgbClr val="b09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Cená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214880" y="5357880"/>
            <a:ext cx="442908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l mundo necesita el GOZO pascua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4653 0 L -1.38594 -0.01042 E">
                                      <p:cBhvr>
                                        <p:cTn id="101" dur="2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57120" y="357120"/>
            <a:ext cx="8496360" cy="521208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n esto entró Jesús, se puso en medio y les dijo: "Paz a vosotros." Y, diciendo esto, les enseñó las manos y el costado. Y los discípulos se llenaron de alegría al ver al Señ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85880" y="2357280"/>
            <a:ext cx="446400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pecho abierto habl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OR con que os he am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ristcreu8toctt"/>
          <p:cNvPicPr/>
          <p:nvPr/>
        </p:nvPicPr>
        <p:blipFill>
          <a:blip r:embed="rId2"/>
          <a:stretch/>
        </p:blipFill>
        <p:spPr>
          <a:xfrm>
            <a:off x="5857920" y="0"/>
            <a:ext cx="2398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42920" y="5214960"/>
            <a:ext cx="59292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Habéis descubierto el Amor en ésta pasc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609480" y="304920"/>
            <a:ext cx="8215560" cy="594324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repitió: "Paz a vosotros. Como el Padre me ha enviado así también os envió yo." Y, dicho esto, exhaló su aliento sobre ellos y les dijo: "Recibid el Espíritu Santo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resized_cenacampanartw"/>
          <p:cNvPicPr/>
          <p:nvPr/>
        </p:nvPicPr>
        <p:blipFill>
          <a:blip r:embed="rId2"/>
          <a:stretch/>
        </p:blipFill>
        <p:spPr>
          <a:xfrm>
            <a:off x="0" y="585720"/>
            <a:ext cx="9144000" cy="58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85840" y="5929200"/>
            <a:ext cx="79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 ras de tierra todo es mezqu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79280" y="44280"/>
            <a:ext cx="417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xterior del Cenácu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143680" y="160200"/>
            <a:ext cx="371448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mad altura para mirar las cosas desde Arri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4-07T18:54:46Z</dcterms:modified>
  <cp:revision>152</cp:revision>
  <dc:subject>stbenet@benedictinescat.com</dc:subject>
  <dc:title>evangelio</dc:title>
</cp:coreProperties>
</file>