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Ernesto%20CortazarSentiments%20-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5F6-F7E9-4FFC-B804-D21260B4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8F5-3DCF-4007-AB69-7C0F338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849-8885-43D2-ACF7-8392F75E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D46-A5B7-4259-AD9C-C38A6260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A5D-9AA6-4AB7-8213-3B5D8CF0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6F2-6F3E-42CD-8FF8-51A4C2F6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E0D-4168-4F4C-899F-9F35A84F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0B3-C81A-40A2-84D0-0F42C431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336-746C-4741-A44F-61F273F0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483-1F0B-423C-BB9C-BD27EFC3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EF4-29A8-4D30-ACCA-438C7061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26F-D1AE-46F6-8CE8-21BCB330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CFDA-C36A-4DA2-B9C8-86630BEC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rnesto%20CortazarSentiments%20-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2060640"/>
            <a:ext cx="62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n el transcurso de una cena de una ob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caridad, el padre de un niño minusvál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ronunció un discurso inolvidable</a:t>
            </a: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Es es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19640" y="537372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703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0800" y="333360"/>
            <a:ext cx="62532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paradoja de hoy es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tenemos la paciencia de construir grandes edificios pero no la paciencia suficiente para controlar su cól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nemos caminos anchos, pero puntos de vista estrecho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gastamos más, pero poseemos meno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bitamos casas más grandes, pero las familias son más pequeñas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ozamos de más comodidades, pero no tenemos tiempo libre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cumulamos más diplomas, pero damos prueba de menos lógica, menos discernimiento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multiplicamos los activos, pero disminuimos sus valores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29080" y="981000"/>
            <a:ext cx="6514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ciencia permite vivir más tiempo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iorizamos la cantidad sobre la calid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y para muchos de nosotros, la vida resu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iste y monótona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cimos el viaje ida y vuelta hacia la luna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nemos la dificultad en atravesar la calle para presentarse a su vecino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tecnología puede permitirnos compar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e "Diaporama" con todos aquellos 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 conocemos con una sencillez asomb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ero nos pertenece a nosotros decidir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remos compartir este bello texto y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alores que trans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51280" y="1484280"/>
            <a:ext cx="509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i no  reenvías esta presen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or lo menos a una persona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 que no comprendiste 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este mensaj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4653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Dios llene tu vida de abundantes bendi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3640" y="914400"/>
            <a:ext cx="5761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ecimos que Dios hace todo con perfección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¿ Dónde está la perfección en Shay, mi hi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i hijo no puede comprender las cosas como otros niños. Mi hijo no puede recordar como otros niño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¿ Dónde está pues la perfección de D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reo que creando a un niño retrasado como mi hijo, la perfección que busca Dios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ómo reaccionamos con este niño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He aquí una pequeña anécdota para ilustrar mis decla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609480"/>
            <a:ext cx="594360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Un día estabamos viendo a un grupo de jóvenes jugando beisbol. En eso Shay me dijo: " ¿ Piensas que me dejarían jugar? "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abía que Shay no era la clase de compañero de equipo que los chicos buscan normalmente, pero esperaba a pesar de todo que se le permitiera jug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dí pues a uno de los jugadores de campo si podían dejar que Shay participara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jugador reflexiona algunos instantes y d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rdemos por seis carreras y estamos en la octava entrada, creo que puede formar parte del equipo y tener la oportunidad de batear en la novena entrada.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88720" y="268200"/>
            <a:ext cx="609696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lanzó un suspiro enorme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e dijimos a Shay que se pusiera su guante 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que tomara po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l final de la octava, el equip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Shay anotó pero todavía había u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iferencia de tres carreras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Hacia el final de la novena entrada, el equip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Shay anota otra carrera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equipo tiene ahora dos carreras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iferencia y todavía una posibi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llevarse el partido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sa asombrosa, le dan el bat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s saben que es casi imposib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anar porque Shay no sabe ni cóm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ger el bate, ni cómo golpear una pelo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41600" y="692280"/>
            <a:ext cx="660240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uando Shay se colocó sobre la zona de recepción, el lanzador se acerca algunos pasos y lanza la pelota bastante despacio para que Shay pueda por lo menos tocarla con el ba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5920" algn="ctr">
              <a:lnSpc>
                <a:spcPct val="100000"/>
              </a:lnSpc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batea torpemente el primer lanzamiento, sin éxito. Uno de sus compañeros de equipo viene en su ayuda y los dos agarran el bate, esperando el próximo lanz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480" algn="ctr">
              <a:lnSpc>
                <a:spcPct val="100000"/>
              </a:lnSpc>
              <a:tabLst>
                <a:tab algn="l" pos="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lanzador se acerca un poco más y muy despacio le echa la pelota a Sh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58920" y="79200"/>
            <a:ext cx="549504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n su compañero de equipo, Sha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olpea la pelota que rueda hacia 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anzador que la recog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Habría podido fácilmente lanzarl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 la primera base, eliminar de cualqu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manera a Shay y haber acabado el juego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ro en vez de eso, el pitch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anza la pelota muy alta en 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ampo, lejos de la primera 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s ellos se echan a gritar: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primera base, Sha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Corre a la primera base! ¡! ¡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Jamás habría tenido la oportun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correr a la primera 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206280"/>
            <a:ext cx="64771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galopa a lo largo de la línea de fondo, totalmente asombrado. Cuando logra la primera base, el receptor de la derecha tiene entre manos la pelota; podría fácilmente lanzarla a la segunda base, lo que eliminaría a Shay que no deja de correr. Pero lanza la pelota arriba hacia la tercera base y todos grita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segunda! ¡ Corre a la segunda 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os corredores delante de Shay se acercan a la segunda base, el adversario se dirige hacia la tercera base y exclam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tercera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uando Shay pasa por la tercera, los jóvenes de ambos equipos le siguen exclamand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Haz todo el circuito, Shay 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36680" y="620640"/>
            <a:ext cx="690732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completa el circuito, alcanza l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zona de recepción y los jugado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e levantan sobre sus homb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Shay es un héroe 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caba de hacer una gran carrera y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anar el partido para el equip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-----------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 ese día estuvo su pad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n lágrimas en los oj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Estos 18 chicos alcanzaron su propi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nivel de la perfección de Dios.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Qué bella historia diréis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¿ Debo hacerla saber a otros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17320" y="692280"/>
            <a:ext cx="69793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 que transmitiendo millares de bromas por corre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propaguen tan rápidamente, mientras que 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envían mensajes respecto a las elecciones de Vi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o se tiene prisa por hacerlos seguir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 que se pueda fácilmente acceder a las sit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obscenos y vulgares del espacio cibernétic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ientras que cuando es cuestión de los val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o verdaderamente no nos parezca aprop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..Que cuando transmitas este mens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(si decides hacerlo) probablemente no vas a enviar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un gran número de personas de tus cono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rque no estás seguro(a) de saber lo que cre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i cual será la percepción de por qué se lo envias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¡ Raro que estés más preocupado(a) de aqu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 lo que otros piensan de ti y no en 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opia percepción de tí mismo(a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59:10Z</dcterms:created>
  <dc:creator>Micheline</dc:creator>
  <dc:description/>
  <dc:language>en-US</dc:language>
  <cp:lastModifiedBy>Franz Drexler</cp:lastModifiedBy>
  <dcterms:modified xsi:type="dcterms:W3CDTF">2008-07-17T14:22:01Z</dcterms:modified>
  <cp:revision>27</cp:revision>
  <dc:subject/>
  <dc:title>Diapositive 1</dc:title>
</cp:coreProperties>
</file>