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Ernesto%20CortazarSentiments%20-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692-C86C-49DE-9BF8-FC32D3BB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B03-A3B9-42EF-9928-997C2D7A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725-8BBE-46E3-A77E-F0D3F6B9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78B-E6B9-4D7D-8130-677EA4E4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F2E-A20A-465E-9FB3-0904CB99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E13-8AC3-4D51-9756-67CD872B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02F-A0AE-46B5-BAA6-577E320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FBE-2F45-48F5-A25F-039B2223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4ED-1AB8-412C-9E76-3DCD3AA3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8CF-1DA6-48EF-BCB0-B451B2E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B8D-AA88-4A8B-BFE4-37146C8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AE0-20AA-463B-88D7-17A11DC5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D62F-E4C2-4F6D-A46D-E6756D95B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rnesto%20CortazarSentiments%20-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06064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 el transcurso de una cena de una o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caridad, el padre de un niño minusvál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nunció un discurso inolvidable</a:t>
            </a: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Es 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19640" y="537372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70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333360"/>
            <a:ext cx="62532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paradoja de hoy es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tenemos la paciencia de construir grandes edificios pero no la paciencia suficiente para controlar su có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caminos anchos, pero puntos de vista estrech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gastamos más, pero poseemos men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bitamos casas más grandes, pero las familias son más pequeña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ozamos de más comodidades, pero no tenemos tiempo libre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cumulamos más diplomas, pero damos prueba de menos lógica, menos discernimient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multiplicamos los activos, pero disminuimos sus valore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29080" y="981000"/>
            <a:ext cx="651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ciencia permite vivir más tiempo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iorizamos la cantidad sobre la calid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y para muchos de nosotros, la vida re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iste y monótona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cimos el viaje ida y vuelta hacia la luna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la dificultad en atravesar la calle para presentarse a su vecin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cnología puede permitirnos compa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e "Diaporama" con todos aquellos 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 conocemos con una sencillez asomb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ero nos pertenece a nosotros decidir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remos compartir este bello texto y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alores que trans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51280" y="1484280"/>
            <a:ext cx="509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i no  reenvías esta pres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r lo menos a una person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 que no comprendiste 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este mensaj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Dios llene tu vida de abundantes bendi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3640" y="914400"/>
            <a:ext cx="576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cimos que Dios hace todo con perfección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la perfección en Shay, mi hi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i hijo no puede comprender las cosas como otros niños. Mi hijo no puede recordar como otros niño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pues la perfección de 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reo que creando a un niño retrasado como mi hijo, la perfección que busca Dio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ómo reaccionamos con este niño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He aquí una pequeña anécdota para ilustrar mis decla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609480"/>
            <a:ext cx="59436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Un día estabamos viendo a un grupo de jóvenes jugando beisbol. En eso Shay me dijo: " ¿ Piensas que me dejarían jugar? "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abía que Shay no era la clase de compañero de equipo que los chicos buscan normalmente, pero esperaba a pesar de todo que se le permitiera jug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dí pues a uno de los jugadores de campo si podían dejar que Shay participara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jugador reflexiona algunos instantes y d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demos por seis carreras y estamos en la octava entrada, creo que puede formar parte del equipo y tener la oportunidad de batear en la novena entrada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8720" y="268200"/>
            <a:ext cx="60969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lanzó un suspiro enorme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dijimos a Shay que se pusiera su guante 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que tomara po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l final de la octav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ó pero todavía había u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de tres carreras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Hacia el final de la novena entrad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a otra carrera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equipo tiene ahora dos carreras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y todavía una posibi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llevarse el partido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sa asombrosa, le dan el bat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saben que es casi imposib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porque Shay no sabe ni cóm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ger el bate, ni cómo golpear un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41600" y="692280"/>
            <a:ext cx="660240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se colocó sobre la zona de recepción, el lanzador se acerca algunos pasos y lanza la pelota bastante despacio para que Shay pueda por lo menos tocarla con el b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5920" algn="ctr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batea torpemente el primer lanzamiento, sin éxito. Uno de sus compañeros de equipo viene en su ayuda y los dos agarran el bate, esperando el próximo lanz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480" algn="ctr">
              <a:lnSpc>
                <a:spcPct val="100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lanzador se acerca un poco más y muy despacio le echa la pelota a Sh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58920" y="79200"/>
            <a:ext cx="54950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su compañero de equipo, Sha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olpea la pelota que rueda hacia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dor que la recog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Habría podido fácilmente lanzar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 la primera base, eliminar de cualqu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manera a Shay y haber acabado el juego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o en vez de eso, el pitch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 la pelota muy alta en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ampo, lejos de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ellos se echan a gritar: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primera base, Sha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Corre a la primera base! ¡! ¡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Jamás habría tenido la oportun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correr a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206280"/>
            <a:ext cx="64771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galopa a lo largo de la línea de fondo, totalmente asombrado. Cuando logra la primera base, el receptor de la derecha tiene entre manos la pelota; podría fácilmente lanzarla a la segunda base, lo que eliminaría a Shay que no deja de correr. Pero lanza la pelota arriba hacia la tercera base y todos grita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segunda! ¡ Corre a la segunda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os corredores delante de Shay se acercan a la segunda base, el adversario se dirige hacia la tercera base y excla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tercera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pasa por la tercera, los jóvenes de ambos equipos le siguen exclaman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Haz todo el circuito, Shay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36680" y="620640"/>
            <a:ext cx="69073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completa el circuito, alcanza 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zona de recepción y los jugado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levantan sobre sus homb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Shay es un héroe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caba de hacer una gran carrera y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el partido para el equip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 ese día estuvo su pad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lágrimas en los oj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Estos 18 chicos alcanzaron su propi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nivel de la perfección de Dios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Qué bella historia diréi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¿ Debo hacerla saber a otro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7320" y="692280"/>
            <a:ext cx="69793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transmitiendo millares de bromas por corre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propaguen tan rápidamente, mientras que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envían mensajes respecto a las elecciones de Vi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o se tiene prisa por hacerlos seguir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se pueda fácilmente acceder a las sit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bscenos y vulgares del espacio cibernéti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ientras que cuando es cuestión de los val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 verdaderamente no nos parezca aprop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..Que cuando transmitas este mens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(si decides hacerlo) probablemente no vas a enviar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un gran número de personas de tus cono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rque no estás seguro(a) de saber lo que cre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i cual será la percepción de por qué se lo envia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¡ Raro que estés más preocupado(a) de aqu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lo que otros piensan de ti y no en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opia percepción de tí mismo(a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9:10Z</dcterms:created>
  <dc:creator>Micheline</dc:creator>
  <dc:description/>
  <dc:language>en-US</dc:language>
  <cp:lastModifiedBy>Franz Drexler</cp:lastModifiedBy>
  <dcterms:modified xsi:type="dcterms:W3CDTF">2008-07-17T14:22:01Z</dcterms:modified>
  <cp:revision>27</cp:revision>
  <dc:subject/>
  <dc:title>Diapositive 1</dc:title>
</cp:coreProperties>
</file>