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69C-781A-4396-AA1C-187F4FBE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FAF-18B5-48A4-B161-A207A444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69A-17AE-41D7-821E-44A4C639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1AB-8A9D-4F92-B43C-57517C35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0AF-64BF-45D5-8C0E-09B61363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7E1-06ED-4D7C-AFB1-09E42C16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045-061E-4F61-844B-9F74584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E80-8ADC-40A4-B676-28469632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F6F-D7FA-4442-8A0A-D2323632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7C5-8877-4509-87FE-8064FC04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2F1-3506-44EE-9E71-F7C13570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F12-0541-4085-A9C6-C277A63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03A7-2A67-4231-AF12-B0540AB3F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136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Más chulo que un och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Se trata de una expresión muy castiza. Antiguamente e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Madrid cuando aún había tranvías, era el tranvía número 8 el que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llevaba a los chulapos y chulapas a la verben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4005360"/>
            <a:ext cx="4643640" cy="3606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259200"/>
            <a:ext cx="864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El Pentágono tiene el doble de baños de los necesarios: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cuando se construyó, la ley requería de baños separados para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blancos y negro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2160" y="2925720"/>
            <a:ext cx="4444920" cy="4464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140360" y="579240"/>
            <a:ext cx="4752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Antiguamente, en los conventos, durante la lectura de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las Sagradas Escrituras, al referirse a San José, se decía 'Pater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Putatibus' (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adre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utativo) de Jesús y, por simplificar, 'P.P.'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Así, nació la costumbre de llamar 'Pepe' a quienes llevan por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nombre "José".</a:t>
            </a:r>
            <a:r>
              <a:rPr b="1" lang="es-ES" sz="32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1433160"/>
            <a:ext cx="8642160" cy="3993480"/>
          </a:xfrm>
          <a:prstGeom prst="rect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fefefe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En la baraja, cada rey representa a un personaje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de 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1) El Rey de Espadas: al Rey David.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2) El Rey de Tréboles: a Alejandro Magno.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3) El Rey de Corazones: a Carlomagno.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4) El Rey de Diamantes: a Julio Cés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095120"/>
            <a:ext cx="446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En el Nuevo Testamento, en el Libro de San Mateo, leemos: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"Es más fácil que un camello pase por el ojo de una aguja, a que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un rico entre en el Reino de los Cielos...". El problemita es que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San Jerónimo, al traducir el texto, interpretó la palabra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'kamelos' como camello, cuando en realidad su significado (en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griego) es una soga gruesa con la que se amarran los barcos a los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muelles. En definitiva, el sentido de la frase es el mismo pero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¿cuál parece más coherente...?</a:t>
            </a: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83876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11640" y="593640"/>
            <a:ext cx="403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La zona de México conocida como Yucatán, fue nombrada así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debido a que en la época de la Conquista, un español le preguntó a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un indígena como llamaban ellos a ese lugar. El indio le respondió: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"Yucatán". Lo qu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 español no sabía era que el indígena estaba contestando: "no soy de aquí....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5521320" cy="7029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7680"/>
            <a:ext cx="8496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a. El músculo más fuerte del cuerpo humano es la le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27216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b. Es imposible estornudar con los ojos abier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42501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c. La cucaracha puede vivir hasta 9 días sin su cabeza,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antes de morir de ha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8944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d. Los elefantes son los únicos animales en el mundo que no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pueden sal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039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e. Una persona común ríe aproximadamente 15 veces por d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73960"/>
            <a:ext cx="90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f. El 95% de las personas cree conducir mejor que cualquier otr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4410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g. Los mosquitos tienen dien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83480"/>
            <a:ext cx="489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Salvarse por los pelos”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Antigüamente muchos marineros no sabían nadar. Era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costumbre que se dejaran el pelo largo para que si caían a la mar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los agarraran "por los pelos" para salvarl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59240" y="0"/>
            <a:ext cx="388476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80000" y="824040"/>
            <a:ext cx="496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¿De dónde viene el nombre de Pa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Resulta que San Francisco de Asís era el "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ter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o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munitatis", es decir, el padre de la comunidad de hermanos o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prior. Si tomamos la primera sílaba de cada palabra tenemos el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famoso Paco.....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406692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256680"/>
            <a:ext cx="835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¿Por qué cuándo estornudamos decimos Jesú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En la antigüedad se creía que las personas poseían malos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espíritus en su interior. De esta forma, cuando se estornudaba se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pensaban que los expulsaban. Para que el cuerpo quedase en calma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se decía Jesú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6920" y="3789360"/>
            <a:ext cx="4321080" cy="3048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952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Quedarse sin blanca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La blanca era una moneda castellana de plata, que se acuñó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por primera vez en tiempos de Pedro I (1334-1369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2808000" cy="2640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8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”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Irse de picos pardo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El origen de esta expresión viene de la Edad Media,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cuando a las prostitutas se les obligaba a llevar en las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vestiduras un trozo de tela en forma de pico y de color marrón o pardo, de ahí que se diga "irse de picos pardos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3080" y="4118040"/>
            <a:ext cx="3400560" cy="2911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30240"/>
            <a:ext cx="87854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SABÍAS QUE................?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Durante la Guerra de Secesión, en los Estados Unidos,</a:t>
            </a:r>
            <a:br>
              <a:rPr sz="2600"/>
            </a:b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cuando regresaban las tropas a sus cuarteles sin tener ninguna</a:t>
            </a:r>
            <a:br>
              <a:rPr sz="2600"/>
            </a:b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baja, en una gran pizarra se escribía OK (</a:t>
            </a:r>
            <a:r>
              <a:rPr b="1" lang="es-ES" sz="2600" spc="-1" strike="noStrike">
                <a:solidFill>
                  <a:srgbClr val="ffffff"/>
                </a:solidFill>
                <a:latin typeface="Verdana"/>
              </a:rPr>
              <a:t>cero</a:t>
            </a: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illed).De ahí</a:t>
            </a:r>
            <a:br>
              <a:rPr sz="2600"/>
            </a:b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proviene la expresión "OK" que actualmente se usa para decir que</a:t>
            </a:r>
            <a:br>
              <a:rPr sz="2600"/>
            </a:b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"todo está bien"..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4797360"/>
            <a:ext cx="3594240" cy="2235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211640" y="653040"/>
            <a:ext cx="46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La costumbre de chocar los vasos o copas cuando se bebe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vino, proviene de las costumbres entre los roman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quienes decían que al beber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participaban del placer todos los sentidos excepto el oído; al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chocar las copas o vasos del vino, el oído quedaba también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incluido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40360" cy="3527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609840"/>
            <a:ext cx="4176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Verdana"/>
              </a:rPr>
              <a:t>Según la Ley, las carreteras interestatales en los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Verdana"/>
              </a:rPr>
              <a:t>Estados Unidos requieren que una milla -de cada cinco- sea recta;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Verdana"/>
              </a:rPr>
              <a:t>estas porciones de carretera son útiles como pistas de aterrizaje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Verdana"/>
              </a:rPr>
              <a:t>para aviones en casos de emergencia o de guer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32280" y="0"/>
            <a:ext cx="4348080" cy="6958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7:19:16Z</dcterms:created>
  <dc:creator> </dc:creator>
  <dc:description/>
  <dc:language>en-US</dc:language>
  <cp:lastModifiedBy>narribas</cp:lastModifiedBy>
  <dcterms:modified xsi:type="dcterms:W3CDTF">2006-11-21T12:55:17Z</dcterms:modified>
  <cp:revision>45</cp:revision>
  <dc:subject/>
  <dc:title>Fomentemos valores...  </dc:title>
</cp:coreProperties>
</file>