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af%C3%A8%20Del%20Mar%20-%20Aria%203%20-%20Metamorphosis%20-%2002%20-%20Paul%20Schwartz%20-%20Furioso.wav" ContentType="audio/x-wav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009-C7F3-4AEB-BCF4-8F009484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874-FE09-421A-B1DE-11204E42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DFA-96FA-4190-AE58-5ED77448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676-4A82-4C83-8A2E-463AFC8B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4CF-A76E-49D1-A9F5-138B192B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04C-DC07-4EAF-A41A-9C90F43A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13F-E5C1-4FB1-B55E-C32A0CF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FCB-C070-48C4-99B7-FFF8094C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C63-D919-49BC-9831-D0CE7FD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C3E-3D9B-49FD-8D51-8659FDB7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957-922C-41C7-8B95-EB2AFFA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3B6-C1C5-434E-A9D0-FCE8BE3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2EE-0B7F-47D0-9119-4EAA1F1F2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f&#232;%20Del%20Mar%20-%20Aria%203%20-%20Metamorphosis%20-%2002%20-%20Paul%20Schwartz%20-%20Furios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1295280"/>
            <a:ext cx="825804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WILD AND WONDER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505320"/>
            <a:ext cx="693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f81b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WE HAVE TO THANK GOD FOR SUCH BEAUTI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AND WONDERFUL CRE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ll dir="ru"/>
    <p:sndAc>
      <p:stSnd>
        <p:snd r:embed="rId1" name="Caf%C3%A8%20Del%20Mar%20-%20Aria%203%20-%20Metamorphosis%20-%2002%20-%20Paul%20Schwartz%20-%20Fur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81200" y="3110040"/>
            <a:ext cx="7581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4f81bd"/>
                </a:solidFill>
                <a:latin typeface="Arial Black"/>
              </a:rPr>
              <a:t>SHARE THIS WITH HUMANIT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4f81bd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HP Authorized Customer</cp:lastModifiedBy>
  <dcterms:modified xsi:type="dcterms:W3CDTF">2009-01-31T16:16:27Z</dcterms:modified>
  <cp:revision>13</cp:revision>
  <dc:subject/>
  <dc:title>Diapositiva 1</dc:title>
</cp:coreProperties>
</file>