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2A4-FFC4-411D-8C80-7D547B64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51B-9E55-4875-B715-9A5E112B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136-8B2B-4107-B6A4-2A3F8AEF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C1D-363F-4CF5-A62A-E7D805F3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091-EEDB-4B47-8DF6-EE86F3B7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DCD-5066-4556-B650-B8503637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D05-7BA3-4E74-88C2-55C5FAD7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404-019A-4E92-A15C-CDAF12AA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184-C4DB-4BF8-93DB-B17F9538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9BB-414D-49B1-B9C0-2A480B66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2AD-32FB-46AF-B791-800958F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826-ACFD-4D77-B74D-50E52387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E870-2274-42DF-819C-CF0F75C84E73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260280" y="368280"/>
            <a:ext cx="8623440" cy="6121440"/>
            <a:chOff x="260280" y="368280"/>
            <a:chExt cx="8623440" cy="6121440"/>
          </a:xfrm>
        </p:grpSpPr>
        <p:pic>
          <p:nvPicPr>
            <p:cNvPr id="42" name="Rectangle 4" descr=""/>
            <p:cNvPicPr/>
            <p:nvPr/>
          </p:nvPicPr>
          <p:blipFill>
            <a:blip r:embed="rId1"/>
            <a:stretch/>
          </p:blipFill>
          <p:spPr>
            <a:xfrm>
              <a:off x="260280" y="368280"/>
              <a:ext cx="8623440" cy="30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2011-03-08 Pan American #01.jpg"/>
            <p:cNvPicPr/>
            <p:nvPr/>
          </p:nvPicPr>
          <p:blipFill>
            <a:blip r:embed="rId2"/>
            <a:stretch/>
          </p:blipFill>
          <p:spPr>
            <a:xfrm>
              <a:off x="548640" y="5972400"/>
              <a:ext cx="804672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6" descr="Pan Am Logo #0.gif"/>
            <p:cNvPicPr/>
            <p:nvPr/>
          </p:nvPicPr>
          <p:blipFill>
            <a:blip r:embed="rId3"/>
            <a:stretch/>
          </p:blipFill>
          <p:spPr>
            <a:xfrm>
              <a:off x="2407680" y="3717000"/>
              <a:ext cx="4328280" cy="195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470520" y="1022400"/>
            <a:ext cx="8202960" cy="4813200"/>
            <a:chOff x="470520" y="1022400"/>
            <a:chExt cx="8202960" cy="4813200"/>
          </a:xfrm>
        </p:grpSpPr>
        <p:pic>
          <p:nvPicPr>
            <p:cNvPr id="67" name="Picture 1" descr="2011-03-08 Um Clippers em Manutenção #01.jpg"/>
            <p:cNvPicPr/>
            <p:nvPr/>
          </p:nvPicPr>
          <p:blipFill>
            <a:blip r:embed="rId1"/>
            <a:stretch/>
          </p:blipFill>
          <p:spPr>
            <a:xfrm>
              <a:off x="470520" y="1971000"/>
              <a:ext cx="8202960" cy="386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2"/>
            <p:cNvSpPr/>
            <p:nvPr/>
          </p:nvSpPr>
          <p:spPr>
            <a:xfrm>
              <a:off x="699840" y="1022400"/>
              <a:ext cx="774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Um Boeing 314B em manutençã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4"/>
          <p:cNvGrpSpPr/>
          <p:nvPr/>
        </p:nvGrpSpPr>
        <p:grpSpPr>
          <a:xfrm>
            <a:off x="909720" y="804960"/>
            <a:ext cx="7324560" cy="5248080"/>
            <a:chOff x="909720" y="804960"/>
            <a:chExt cx="7324560" cy="5248080"/>
          </a:xfrm>
        </p:grpSpPr>
        <p:pic>
          <p:nvPicPr>
            <p:cNvPr id="70" name="Picture 2" descr="2011-03-08 Os Clippers numa Base #01.jpg"/>
            <p:cNvPicPr/>
            <p:nvPr/>
          </p:nvPicPr>
          <p:blipFill>
            <a:blip r:embed="rId1"/>
            <a:stretch/>
          </p:blipFill>
          <p:spPr>
            <a:xfrm>
              <a:off x="909720" y="1750320"/>
              <a:ext cx="7324560" cy="43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3"/>
            <p:cNvSpPr/>
            <p:nvPr/>
          </p:nvSpPr>
          <p:spPr>
            <a:xfrm>
              <a:off x="1886040" y="804960"/>
              <a:ext cx="537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Os Clippers numa bas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2011-03-08 Cockpit #01.jpg"/>
          <p:cNvPicPr/>
          <p:nvPr/>
        </p:nvPicPr>
        <p:blipFill>
          <a:blip r:embed="rId1"/>
          <a:stretch/>
        </p:blipFill>
        <p:spPr>
          <a:xfrm>
            <a:off x="1049400" y="1052640"/>
            <a:ext cx="7157880" cy="5717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961200" y="260280"/>
            <a:ext cx="73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Cockpit – Posto do comanda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"/>
          <p:cNvGrpSpPr/>
          <p:nvPr/>
        </p:nvGrpSpPr>
        <p:grpSpPr>
          <a:xfrm>
            <a:off x="717480" y="284040"/>
            <a:ext cx="7709040" cy="6289920"/>
            <a:chOff x="717480" y="284040"/>
            <a:chExt cx="7709040" cy="6289920"/>
          </a:xfrm>
        </p:grpSpPr>
        <p:sp>
          <p:nvSpPr>
            <p:cNvPr id="75" name="TextBox 1"/>
            <p:cNvSpPr/>
            <p:nvPr/>
          </p:nvSpPr>
          <p:spPr>
            <a:xfrm>
              <a:off x="2241360" y="284040"/>
              <a:ext cx="466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Cabine de comand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Picture 2" descr="2011-03-08 Cockpit #02.jpg"/>
            <p:cNvPicPr/>
            <p:nvPr/>
          </p:nvPicPr>
          <p:blipFill>
            <a:blip r:embed="rId1"/>
            <a:stretch/>
          </p:blipFill>
          <p:spPr>
            <a:xfrm>
              <a:off x="717480" y="913680"/>
              <a:ext cx="7709040" cy="566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"/>
          <p:cNvGrpSpPr/>
          <p:nvPr/>
        </p:nvGrpSpPr>
        <p:grpSpPr>
          <a:xfrm>
            <a:off x="685800" y="338040"/>
            <a:ext cx="7772400" cy="6181920"/>
            <a:chOff x="685800" y="338040"/>
            <a:chExt cx="7772400" cy="6181920"/>
          </a:xfrm>
        </p:grpSpPr>
        <p:sp>
          <p:nvSpPr>
            <p:cNvPr id="78" name="TextBox 1"/>
            <p:cNvSpPr/>
            <p:nvPr/>
          </p:nvSpPr>
          <p:spPr>
            <a:xfrm>
              <a:off x="2388960" y="338040"/>
              <a:ext cx="436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Tripulação técnic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Picture 2" descr="2011-03-08 Cockpit #03.jpg"/>
            <p:cNvPicPr/>
            <p:nvPr/>
          </p:nvPicPr>
          <p:blipFill>
            <a:blip r:embed="rId1"/>
            <a:stretch/>
          </p:blipFill>
          <p:spPr>
            <a:xfrm>
              <a:off x="685800" y="1001880"/>
              <a:ext cx="7772400" cy="551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4"/>
          <p:cNvGrpSpPr/>
          <p:nvPr/>
        </p:nvGrpSpPr>
        <p:grpSpPr>
          <a:xfrm>
            <a:off x="264960" y="152280"/>
            <a:ext cx="8614080" cy="6553440"/>
            <a:chOff x="264960" y="152280"/>
            <a:chExt cx="8614080" cy="6553440"/>
          </a:xfrm>
        </p:grpSpPr>
        <p:sp>
          <p:nvSpPr>
            <p:cNvPr id="81" name="TextBox 2"/>
            <p:cNvSpPr/>
            <p:nvPr/>
          </p:nvSpPr>
          <p:spPr>
            <a:xfrm>
              <a:off x="1183320" y="152280"/>
              <a:ext cx="677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Navegador calculando a rot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Picture 3" descr="2011-03-08 Cockpit #04.jpg"/>
            <p:cNvPicPr/>
            <p:nvPr/>
          </p:nvPicPr>
          <p:blipFill>
            <a:blip r:embed="rId1"/>
            <a:stretch/>
          </p:blipFill>
          <p:spPr>
            <a:xfrm>
              <a:off x="264960" y="953280"/>
              <a:ext cx="8614080" cy="575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862200" y="115920"/>
            <a:ext cx="74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Instalações para os passagei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2011-03-08 Instalações dos Passageiros #01.jpg"/>
          <p:cNvPicPr/>
          <p:nvPr/>
        </p:nvPicPr>
        <p:blipFill>
          <a:blip r:embed="rId1"/>
          <a:stretch/>
        </p:blipFill>
        <p:spPr>
          <a:xfrm>
            <a:off x="525600" y="863640"/>
            <a:ext cx="8092800" cy="5805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915200" y="5732640"/>
            <a:ext cx="53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000"/>
                </a:solidFill>
                <a:latin typeface="Arial Black"/>
              </a:rPr>
              <a:t>Os passageiros eram transpor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000"/>
                </a:solidFill>
                <a:latin typeface="Arial Black"/>
              </a:rPr>
              <a:t>como pessoas e não como 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011-03-08 Instalações dos Passageiros #02.jpg"/>
          <p:cNvPicPr/>
          <p:nvPr/>
        </p:nvPicPr>
        <p:blipFill>
          <a:blip r:embed="rId1"/>
          <a:stretch/>
        </p:blipFill>
        <p:spPr>
          <a:xfrm>
            <a:off x="2374920" y="857160"/>
            <a:ext cx="4394160" cy="5811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862200" y="115920"/>
            <a:ext cx="74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Instalações para os passagei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860400" y="255600"/>
            <a:ext cx="7423200" cy="6346800"/>
            <a:chOff x="860400" y="255600"/>
            <a:chExt cx="7423200" cy="6346800"/>
          </a:xfrm>
        </p:grpSpPr>
        <p:sp>
          <p:nvSpPr>
            <p:cNvPr id="89" name="TextBox 1"/>
            <p:cNvSpPr/>
            <p:nvPr/>
          </p:nvSpPr>
          <p:spPr>
            <a:xfrm>
              <a:off x="1695600" y="255600"/>
              <a:ext cx="575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Cabina para passageiro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3" descr="2011-03-08 Instalações dos Passageiros #02.jpg"/>
            <p:cNvPicPr/>
            <p:nvPr/>
          </p:nvPicPr>
          <p:blipFill>
            <a:blip r:embed="rId1"/>
            <a:stretch/>
          </p:blipFill>
          <p:spPr>
            <a:xfrm>
              <a:off x="860400" y="962640"/>
              <a:ext cx="7423200" cy="563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440800" y="11592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Steward no gall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2011-03-08 Instalações dos Passageiros #03.jpg"/>
          <p:cNvPicPr/>
          <p:nvPr/>
        </p:nvPicPr>
        <p:blipFill>
          <a:blip r:embed="rId1"/>
          <a:stretch/>
        </p:blipFill>
        <p:spPr>
          <a:xfrm>
            <a:off x="2195640" y="907920"/>
            <a:ext cx="472428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an Am Boeing 3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187200" y="3789360"/>
            <a:ext cx="8769600" cy="3090960"/>
            <a:chOff x="187200" y="3789360"/>
            <a:chExt cx="8769600" cy="3090960"/>
          </a:xfrm>
        </p:grpSpPr>
        <p:pic>
          <p:nvPicPr>
            <p:cNvPr id="47" name="Rectangle 2" descr=""/>
            <p:cNvPicPr/>
            <p:nvPr/>
          </p:nvPicPr>
          <p:blipFill>
            <a:blip r:embed="rId2"/>
            <a:stretch/>
          </p:blipFill>
          <p:spPr>
            <a:xfrm>
              <a:off x="187200" y="3789360"/>
              <a:ext cx="8769600" cy="25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Box 4"/>
            <p:cNvSpPr/>
            <p:nvPr/>
          </p:nvSpPr>
          <p:spPr>
            <a:xfrm>
              <a:off x="6316920" y="6176880"/>
              <a:ext cx="247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4000" spc="-1" strike="noStrike">
                  <a:solidFill>
                    <a:srgbClr val="ffffff"/>
                  </a:solidFill>
                  <a:latin typeface="Brush Script Std"/>
                </a:rPr>
                <a:t>Fernando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851760" y="142920"/>
            <a:ext cx="7440480" cy="6572160"/>
            <a:chOff x="851760" y="142920"/>
            <a:chExt cx="7440480" cy="6572160"/>
          </a:xfrm>
        </p:grpSpPr>
        <p:pic>
          <p:nvPicPr>
            <p:cNvPr id="94" name="Picture 2" descr="2011-03-08 Instalações dos Passageiros #04.jpg"/>
            <p:cNvPicPr/>
            <p:nvPr/>
          </p:nvPicPr>
          <p:blipFill>
            <a:blip r:embed="rId1"/>
            <a:stretch/>
          </p:blipFill>
          <p:spPr>
            <a:xfrm>
              <a:off x="851760" y="934920"/>
              <a:ext cx="7440480" cy="57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3"/>
            <p:cNvSpPr/>
            <p:nvPr/>
          </p:nvSpPr>
          <p:spPr>
            <a:xfrm>
              <a:off x="1235520" y="142920"/>
              <a:ext cx="667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Steward na sala de refeiçõe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822600" y="115920"/>
            <a:ext cx="74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Passageiros na sala de refeiçõ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2011-03-08 Instalações dos Passageiros #05.jpg"/>
          <p:cNvPicPr/>
          <p:nvPr/>
        </p:nvPicPr>
        <p:blipFill>
          <a:blip r:embed="rId1"/>
          <a:stretch/>
        </p:blipFill>
        <p:spPr>
          <a:xfrm>
            <a:off x="714240" y="907920"/>
            <a:ext cx="7715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"/>
          <p:cNvGrpSpPr/>
          <p:nvPr/>
        </p:nvGrpSpPr>
        <p:grpSpPr>
          <a:xfrm>
            <a:off x="187200" y="488880"/>
            <a:ext cx="8769600" cy="5880240"/>
            <a:chOff x="187200" y="488880"/>
            <a:chExt cx="8769600" cy="5880240"/>
          </a:xfrm>
        </p:grpSpPr>
        <p:sp>
          <p:nvSpPr>
            <p:cNvPr id="99" name="TextBox 1"/>
            <p:cNvSpPr/>
            <p:nvPr/>
          </p:nvSpPr>
          <p:spPr>
            <a:xfrm>
              <a:off x="603720" y="488880"/>
              <a:ext cx="793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As carreiras da Pan America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Picture 2" descr="2011-03-08 As Carreiras da Pan American #01.jpg"/>
            <p:cNvPicPr/>
            <p:nvPr/>
          </p:nvPicPr>
          <p:blipFill>
            <a:blip r:embed="rId1"/>
            <a:stretch/>
          </p:blipFill>
          <p:spPr>
            <a:xfrm>
              <a:off x="187200" y="1687320"/>
              <a:ext cx="8769600" cy="468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361160" y="115920"/>
            <a:ext cx="64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Horários e tabela de preç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2011-03-08 As Carreiras da Pan American #02.jpg"/>
          <p:cNvPicPr/>
          <p:nvPr/>
        </p:nvPicPr>
        <p:blipFill>
          <a:blip r:embed="rId1"/>
          <a:stretch/>
        </p:blipFill>
        <p:spPr>
          <a:xfrm>
            <a:off x="108000" y="1773360"/>
            <a:ext cx="4551480" cy="389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2011-03-08 As Carreiras da Pan American #03.jpg"/>
          <p:cNvPicPr/>
          <p:nvPr/>
        </p:nvPicPr>
        <p:blipFill>
          <a:blip r:embed="rId2"/>
          <a:stretch/>
        </p:blipFill>
        <p:spPr>
          <a:xfrm>
            <a:off x="4856040" y="2708280"/>
            <a:ext cx="4179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1636200" y="44280"/>
            <a:ext cx="587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Um bilhete de ida e vol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2011-03-08 As Carreiras da Pan American #04.jpg"/>
          <p:cNvPicPr/>
          <p:nvPr/>
        </p:nvPicPr>
        <p:blipFill>
          <a:blip r:embed="rId1"/>
          <a:stretch/>
        </p:blipFill>
        <p:spPr>
          <a:xfrm>
            <a:off x="3335400" y="620640"/>
            <a:ext cx="24732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787320" y="115920"/>
            <a:ext cx="75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Um Boeing 314 da Pan Americ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descola para mais uma viag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2011-03-08 Descolagem #02.jpg"/>
          <p:cNvPicPr/>
          <p:nvPr/>
        </p:nvPicPr>
        <p:blipFill>
          <a:blip r:embed="rId1"/>
          <a:stretch/>
        </p:blipFill>
        <p:spPr>
          <a:xfrm>
            <a:off x="333360" y="1558800"/>
            <a:ext cx="84772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2011-03-08 Boeing 314 Front View.gif"/>
          <p:cNvPicPr/>
          <p:nvPr/>
        </p:nvPicPr>
        <p:blipFill>
          <a:blip r:embed="rId1"/>
          <a:stretch/>
        </p:blipFill>
        <p:spPr>
          <a:xfrm>
            <a:off x="414360" y="169920"/>
            <a:ext cx="8315280" cy="253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2011-03-08 Boeing 314 Side View.gif"/>
          <p:cNvPicPr/>
          <p:nvPr/>
        </p:nvPicPr>
        <p:blipFill>
          <a:blip r:embed="rId2"/>
          <a:stretch/>
        </p:blipFill>
        <p:spPr>
          <a:xfrm>
            <a:off x="431640" y="2927520"/>
            <a:ext cx="828072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2011-03-08 Boeing 314 Interior View.gif"/>
          <p:cNvPicPr/>
          <p:nvPr/>
        </p:nvPicPr>
        <p:blipFill>
          <a:blip r:embed="rId1"/>
          <a:stretch/>
        </p:blipFill>
        <p:spPr>
          <a:xfrm>
            <a:off x="515880" y="192240"/>
            <a:ext cx="8112240" cy="64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2011-03-08 Pormenor do Interior #01.jpg"/>
          <p:cNvPicPr/>
          <p:nvPr/>
        </p:nvPicPr>
        <p:blipFill>
          <a:blip r:embed="rId1"/>
          <a:stretch/>
        </p:blipFill>
        <p:spPr>
          <a:xfrm>
            <a:off x="257040" y="2416320"/>
            <a:ext cx="8629920" cy="3136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040120" y="1305000"/>
            <a:ext cx="50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000"/>
                </a:solidFill>
                <a:latin typeface="Arial Black"/>
              </a:rPr>
              <a:t>Pormenor do Interi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3"/>
          <p:cNvGrpSpPr/>
          <p:nvPr/>
        </p:nvGrpSpPr>
        <p:grpSpPr>
          <a:xfrm>
            <a:off x="201600" y="741240"/>
            <a:ext cx="8740800" cy="5375520"/>
            <a:chOff x="201600" y="741240"/>
            <a:chExt cx="8740800" cy="5375520"/>
          </a:xfrm>
        </p:grpSpPr>
        <p:pic>
          <p:nvPicPr>
            <p:cNvPr id="55" name="Picture 1" descr="2011-03-08 Descolagem #01.jpg"/>
            <p:cNvPicPr/>
            <p:nvPr/>
          </p:nvPicPr>
          <p:blipFill>
            <a:blip r:embed="rId1"/>
            <a:stretch/>
          </p:blipFill>
          <p:spPr>
            <a:xfrm>
              <a:off x="201600" y="1557720"/>
              <a:ext cx="8740800" cy="45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2"/>
            <p:cNvSpPr/>
            <p:nvPr/>
          </p:nvSpPr>
          <p:spPr>
            <a:xfrm>
              <a:off x="3092400" y="741240"/>
              <a:ext cx="295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Descolagem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3"/>
          <p:cNvGrpSpPr/>
          <p:nvPr/>
        </p:nvGrpSpPr>
        <p:grpSpPr>
          <a:xfrm>
            <a:off x="843120" y="177840"/>
            <a:ext cx="7457760" cy="6502320"/>
            <a:chOff x="843120" y="177840"/>
            <a:chExt cx="7457760" cy="6502320"/>
          </a:xfrm>
        </p:grpSpPr>
        <p:pic>
          <p:nvPicPr>
            <p:cNvPr id="58" name="Picture 1" descr="2011-03-08 Embarque dos Passageiros #01.jpg"/>
            <p:cNvPicPr/>
            <p:nvPr/>
          </p:nvPicPr>
          <p:blipFill>
            <a:blip r:embed="rId1"/>
            <a:stretch/>
          </p:blipFill>
          <p:spPr>
            <a:xfrm>
              <a:off x="843120" y="896040"/>
              <a:ext cx="7457760" cy="57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2"/>
            <p:cNvSpPr/>
            <p:nvPr/>
          </p:nvSpPr>
          <p:spPr>
            <a:xfrm>
              <a:off x="1437480" y="177840"/>
              <a:ext cx="626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Embarque dos passageiro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2011-03-08 Tripulação do Primeiro Voo #01.jpg"/>
          <p:cNvPicPr/>
          <p:nvPr/>
        </p:nvPicPr>
        <p:blipFill>
          <a:blip r:embed="rId1"/>
          <a:stretch/>
        </p:blipFill>
        <p:spPr>
          <a:xfrm>
            <a:off x="773280" y="955800"/>
            <a:ext cx="7597440" cy="5641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464400" y="26028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c000"/>
                </a:solidFill>
                <a:latin typeface="Arial Black"/>
              </a:rPr>
              <a:t>Tripulação do voo transatlântico de 20-5-19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545640" y="587700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c000"/>
                </a:solidFill>
                <a:latin typeface="Arial Black"/>
              </a:rPr>
              <a:t>O primeiro à esquerda é o comand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c000"/>
                </a:solidFill>
                <a:latin typeface="Arial Black"/>
              </a:rPr>
              <a:t>Arthur E. La Po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"/>
          <p:cNvGrpSpPr/>
          <p:nvPr/>
        </p:nvGrpSpPr>
        <p:grpSpPr>
          <a:xfrm>
            <a:off x="223920" y="588960"/>
            <a:ext cx="8696160" cy="5680080"/>
            <a:chOff x="223920" y="588960"/>
            <a:chExt cx="8696160" cy="5680080"/>
          </a:xfrm>
        </p:grpSpPr>
        <p:pic>
          <p:nvPicPr>
            <p:cNvPr id="64" name="Picture 1" descr="2011-03-08 Os Clippers no Porto da Horta #01.jpg"/>
            <p:cNvPicPr/>
            <p:nvPr/>
          </p:nvPicPr>
          <p:blipFill>
            <a:blip r:embed="rId1"/>
            <a:stretch/>
          </p:blipFill>
          <p:spPr>
            <a:xfrm>
              <a:off x="223920" y="1389960"/>
              <a:ext cx="8696160" cy="48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3"/>
            <p:cNvSpPr/>
            <p:nvPr/>
          </p:nvSpPr>
          <p:spPr>
            <a:xfrm>
              <a:off x="1098000" y="588960"/>
              <a:ext cx="694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fc000"/>
                  </a:solidFill>
                  <a:latin typeface="Arial Black"/>
                </a:rPr>
                <a:t>Os Clippers no porto da Hort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21:56:44Z</dcterms:created>
  <dc:creator>O seu nome de utilizador</dc:creator>
  <dc:description/>
  <dc:language>en-US</dc:language>
  <cp:lastModifiedBy>O seu nome de utilizador</cp:lastModifiedBy>
  <dcterms:modified xsi:type="dcterms:W3CDTF">2011-03-09T01:31:07Z</dcterms:modified>
  <cp:revision>33</cp:revision>
  <dc:subject/>
  <dc:title>Slide 1</dc:title>
</cp:coreProperties>
</file>