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ria%20la%20sanluque%C3%B1a%20(directo)%20coplero.wav" ContentType="audio/x-wav"/>
  <Override PartName="/ppt/media/Anuncios%20Historicos%20-%20El%20show%20de%20Mario%20Clavel.wav" ContentType="audio/x-wav"/>
  <Override PartName="/ppt/media/Anuncios%20Historicos%20-%20El%20Zorro.wav" ContentType="audio/x-wav"/>
  <Override PartName="/ppt/media/Anuncios%20Historicos%20-%20Norit%20el%20borreguito.wav" ContentType="audio/x-wav"/>
  <Override PartName="/ppt/media/Anuncios%20Historicos-%20%20Tableta%20okal%202.wav" ContentType="audio/x-wav"/>
  <Override PartName="/ppt/media/la%20rana(2).wav" ContentType="audio/x-wav"/>
  <Override PartName="/ppt/media/01%20jose%20luis%20y%20su%20guitarra%20-%20mariquilla.wav" ContentType="audio/x-wav"/>
  <Override PartName="/ppt/media/Quince%20a%C3%B1os%20tiene%20mi%20amo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ECD-B094-4B72-849F-CCFC84D4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E3E-124B-44B5-8AF0-4977E421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577-71E8-498A-91EB-4D7521D5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DA4-305C-464B-8D52-675B1FB4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9C5-0F1D-4BAC-8283-AF7A7797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E28-74BD-467B-BBE7-195C2CBC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DCB-3B91-4B4D-8A85-A87E3D0C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F75-5E70-443D-92F0-98C21439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0A4-5855-4F00-AEBC-5AF0E5A7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F41-09FA-42A2-96A0-E94CA7FC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AAE-45B3-4DB3-8986-CCB95951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DC1-A3A0-4A96-9F96-A0D41F18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E8B5-1074-49A6-8EB1-CECCFCBC1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ia%20la%20sanluque&#241;a%20(directo)%20copler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Quince%20a&#241;os%20tiene%20mi%20am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uncios%20Historicos%20-%20El%20show%20de%20Mario%20Clave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uncios%20Historicos%20-%20El%20Zorro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uncios%20Historicos%20-%20Norit%20el%20borreguito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uncios%20Historicos-%20%20Tableta%20okal%202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%20rana(2)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jose%20luis%20y%20su%20guitarra%20-%20mariquill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700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época de la radio de nuestra infa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que son de mi generación seguro que se acuerdan de estas cosas, fue cuando empezó a sonar por la radio EL DÚO DINÁ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885080" y="6021360"/>
            <a:ext cx="47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f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Allá por los años 50 y 60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(¿tú habías nacido ya?)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a radio era la gran distracción de todas las casas, todo era IMAGINACIÓN, había programas de todo tipo con las canciones de la época y, naturalmente, muchos anun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Aquí escucharemos algunos programas de la época que seguro que recordareis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7280" y="333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show de MARIO CL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programa de Pepe Iglesias EL ZO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89000"/>
            <a:ext cx="82296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qué me dices de esos anuncios que se emitían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333360"/>
            <a:ext cx="750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ás anuncios arca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era una canción que, si hubiesen existido y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40 principales sería número uno a juzgar por las veces que se oia por la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89000"/>
            <a:ext cx="79786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los artistas españoles de la época tenemos que destacar a JOSÉ LUIS Y SU GUITA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1:32:05Z</dcterms:created>
  <dc:creator/>
  <dc:description/>
  <dc:language>en-US</dc:language>
  <cp:lastModifiedBy>WinuE</cp:lastModifiedBy>
  <dcterms:modified xsi:type="dcterms:W3CDTF">2010-01-10T13:19:03Z</dcterms:modified>
  <cp:revision>6</cp:revision>
  <dc:subject/>
  <dc:title/>
</cp:coreProperties>
</file>