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aria%20la%20sanluque%C3%B1a%20(directo)%20coplero.wav" ContentType="audio/x-wav"/>
  <Override PartName="/ppt/media/Anuncios%20Historicos%20-%20El%20show%20de%20Mario%20Clavel.wav" ContentType="audio/x-wav"/>
  <Override PartName="/ppt/media/Anuncios%20Historicos%20-%20El%20Zorro.wav" ContentType="audio/x-wav"/>
  <Override PartName="/ppt/media/Anuncios%20Historicos%20-%20Norit%20el%20borreguito.wav" ContentType="audio/x-wav"/>
  <Override PartName="/ppt/media/Anuncios%20Historicos-%20%20Tableta%20okal%202.wav" ContentType="audio/x-wav"/>
  <Override PartName="/ppt/media/la%20rana(2).wav" ContentType="audio/x-wav"/>
  <Override PartName="/ppt/media/01%20jose%20luis%20y%20su%20guitarra%20-%20mariquilla.wav" ContentType="audio/x-wav"/>
  <Override PartName="/ppt/media/Quince%20a%C3%B1os%20tiene%20mi%20amor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8422-772C-45F9-B966-2B9FA558C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9DBF-AFA5-499C-9809-95227E100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FACE-ACA8-4F8F-8679-9F6F17A4F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9885-39FB-4D1E-8A22-0BAA912CE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923C-6E9D-4835-94EC-E613F2754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E322-4663-4E43-BB8E-2F89A94F3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E3BC-CA5B-4BCD-A7C8-3B38DD454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6B50-42C6-4C94-8BC0-03C2AFF53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B2E0-8EA0-47EB-9297-7049198FF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554D-C547-4125-9178-816BA2B0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4DA6-A29E-4ADF-8892-2E751FAE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CF63-219D-4774-844D-9897A7DC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4D19B-B11A-43E3-BEBA-80123E03F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ia%20la%20sanluque&#241;a%20(directo)%20coplero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Quince%20a&#241;os%20tiene%20mi%20amor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nuncios%20Historicos%20-%20El%20show%20de%20Mario%20Clavel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nuncios%20Historicos%20-%20El%20Zorro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nuncios%20Historicos%20-%20Norit%20el%20borreguito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nuncios%20Historicos-%20%20Tableta%20okal%202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a%20rana(2)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01%20jose%20luis%20y%20su%20guitarra%20-%20mariquill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16000" y="1700280"/>
            <a:ext cx="684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33cc"/>
                </a:solidFill>
                <a:latin typeface="Arial"/>
              </a:rPr>
              <a:t>La época de la radio de nuestra infa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que son de mi generación seguro que se acuerdan de estas cosas, fue cuando empezó a sonar por la radio EL DÚO DINÁ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885080" y="6021360"/>
            <a:ext cx="476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fi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Allá por los años 50 y 60</a:t>
            </a:r>
            <a:br>
              <a:rPr sz="4400"/>
            </a:b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(¿tú habías nacido ya?)</a:t>
            </a:r>
            <a:br>
              <a:rPr sz="4400"/>
            </a:b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la radio era la gran distracción de todas las casas, todo era IMAGINACIÓN, había programas de todo tipo con las canciones de la época y, naturalmente, muchos anun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Aquí escucharemos algunos programas de la época que seguro que recordareis.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187280" y="333360"/>
            <a:ext cx="58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show de MARIO CLA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l programa de Pepe Iglesias EL ZOR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95280" y="189000"/>
            <a:ext cx="822960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Y qué me dices de esos anuncios que se emitían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00000" y="333360"/>
            <a:ext cx="75088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Más anuncios arca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 era una canción que, si hubiesen existido ya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los 40 principales sería número uno a juzgar por las veces que se oia por la ra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50920" y="189000"/>
            <a:ext cx="79786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 los artistas españoles de la época tenemos que destacar a JOSÉ LUIS Y SU GUITAR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11:32:05Z</dcterms:created>
  <dc:creator/>
  <dc:description/>
  <dc:language>en-US</dc:language>
  <cp:lastModifiedBy>WinuE</cp:lastModifiedBy>
  <dcterms:modified xsi:type="dcterms:W3CDTF">2010-01-10T13:19:03Z</dcterms:modified>
  <cp:revision>6</cp:revision>
  <dc:subject/>
  <dc:title/>
</cp:coreProperties>
</file>