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2471-2306-40F6-958E-010DFCDD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A8F0-3D7D-47D7-ABF5-AF626551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B373-14CC-4B86-B63F-AC4D32D0E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4DDE-5A77-4556-B362-ECC493A4A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D7E3-C9C5-470E-A40A-957EB24E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75F3-CFEB-4FAB-A39D-9A7B4068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849A-F321-491D-A8B4-CA75549E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652E-D171-4748-89C7-CEA13229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EF69-BCC8-4292-B4C1-96F991F3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64BD-F011-40BF-A0AE-134094D1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978F-EDCA-4CA0-8D74-F9F2BAA4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889C-83EC-427F-8A7D-0A3AC3AD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AA7E-A711-4F41-9CC6-B350DAF24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457200"/>
            <a:ext cx="8458200" cy="55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La esposa de Jose fue a  trabajar y hacer 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un curso de 6 meses a los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Estados Unidos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José, por supuesto, contrató una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bella empleada para los quehaceres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omésticos..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Un dia, su suegra lo llama y le avisa 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que va ir a cenar con él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1219320"/>
            <a:ext cx="7620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urante la cena, la vieja no pudo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ejar de notar, cuan atrayente y sensual era la empleada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Despues de la cena, ella comienza a imaginar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si habría ”alguna cosa" entre su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yerno y la empleada, y se pone a decir 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algunas indirectas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Habla del sacrificada trabajo de su hija en  tierra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xtraña para juntar dinero para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a familia, y ese tipo de cosas..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295280"/>
            <a:ext cx="8534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Leyendo los pensamientos de su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suegra, José dice: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- Yo se  lo que usted debe estar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ensando, pero puedo asegurarle que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mi relacion con la empleada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 puramente profesional!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Los dos dieron el tema por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cerrado y terminando la cena,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la suegra se fue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533520"/>
            <a:ext cx="84582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Una semana despues, la empleada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e dice a José: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- Desde que  tu suegra vino a cenar,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el cucharón de plata para la sopa desapareció.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No crees que ella se lo ha llevado?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José responde: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- Querida, yo creía que aquella vibora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podria ser todo, menos ladrona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De todas maneras le voy a enviar un 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e-mail a ella, solo para tener seguridad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295280"/>
            <a:ext cx="85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ntonces le escribe - con copia a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posa en los EUA - solo de maldad: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"Querida suegrita, yo no estoy insinuando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que usted ”tomó" el cucharon de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sopa de mi casa, y no estoy insinuando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que usted ”no tomó" el cucharon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de sopa; pero el hecho es que  desaparecio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desde el dia que usted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estuvo aqui para la cena."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228600"/>
            <a:ext cx="8686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Al día siguiente, José recibe un e-mail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de su suegra - también con copia a su 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esposa - diciendo: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999999"/>
                </a:solidFill>
                <a:latin typeface="Arial"/>
                <a:ea typeface="Arial"/>
              </a:rPr>
              <a:t>"Querido yerno, yo no quiero</a:t>
            </a:r>
            <a:br>
              <a:rPr sz="2400"/>
            </a:br>
            <a:r>
              <a:rPr b="0" lang="es-ES_tradnl" sz="2400" spc="-1" strike="noStrike">
                <a:solidFill>
                  <a:srgbClr val="999999"/>
                </a:solidFill>
                <a:latin typeface="Arial"/>
                <a:ea typeface="Arial"/>
              </a:rPr>
              <a:t>insinuar que "duermes" con la empleada,</a:t>
            </a:r>
            <a:br>
              <a:rPr sz="2400"/>
            </a:br>
            <a:r>
              <a:rPr b="0" lang="es-ES_tradnl" sz="2400" spc="-1" strike="noStrike">
                <a:solidFill>
                  <a:srgbClr val="999999"/>
                </a:solidFill>
                <a:latin typeface="Arial"/>
                <a:ea typeface="Arial"/>
              </a:rPr>
              <a:t>y no quiero insinuar que "no</a:t>
            </a:r>
            <a:br>
              <a:rPr sz="2400"/>
            </a:br>
            <a:r>
              <a:rPr b="0" lang="es-ES_tradnl" sz="2400" spc="-1" strike="noStrike">
                <a:solidFill>
                  <a:srgbClr val="999999"/>
                </a:solidFill>
                <a:latin typeface="Arial"/>
                <a:ea typeface="Arial"/>
              </a:rPr>
              <a:t>duermes" con la empleada; pero el hecho es que,</a:t>
            </a:r>
            <a:br>
              <a:rPr sz="2400"/>
            </a:br>
            <a:r>
              <a:rPr b="0" lang="es-ES_tradnl" sz="2400" spc="-1" strike="noStrike">
                <a:solidFill>
                  <a:srgbClr val="999999"/>
                </a:solidFill>
                <a:latin typeface="Arial"/>
                <a:ea typeface="Arial"/>
              </a:rPr>
              <a:t>si ella hubiera dormido en su propia cama,</a:t>
            </a:r>
            <a:br>
              <a:rPr sz="2400"/>
            </a:br>
            <a:r>
              <a:rPr b="0" lang="es-ES_tradnl" sz="2400" spc="-1" strike="noStrike">
                <a:solidFill>
                  <a:srgbClr val="999999"/>
                </a:solidFill>
                <a:latin typeface="Arial"/>
                <a:ea typeface="Arial"/>
              </a:rPr>
              <a:t>ya habrían encontrado el cucharón de sopa que yo</a:t>
            </a:r>
            <a:br>
              <a:rPr sz="2400"/>
            </a:br>
            <a:r>
              <a:rPr b="0" lang="es-ES_tradnl" sz="2400" spc="-1" strike="noStrike">
                <a:solidFill>
                  <a:srgbClr val="999999"/>
                </a:solidFill>
                <a:latin typeface="Arial"/>
                <a:ea typeface="Arial"/>
              </a:rPr>
              <a:t>coloque allá, justo debajo de su almohada..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ANEXO, TE ESTOY ENVIANDO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UN REGALITO HASTA QUE MI 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HIJA VUELVA..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4316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tuasogra_" descr=""/>
          <p:cNvPicPr/>
          <p:nvPr/>
        </p:nvPicPr>
        <p:blipFill>
          <a:blip r:embed="rId1"/>
          <a:stretch/>
        </p:blipFill>
        <p:spPr>
          <a:xfrm>
            <a:off x="3124080" y="457200"/>
            <a:ext cx="3438720" cy="5410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4T17:49:27Z</dcterms:created>
  <dc:creator>Temperaço</dc:creator>
  <dc:description/>
  <dc:language>en-US</dc:language>
  <cp:lastModifiedBy>Enrique Edo. Muñoz Q.</cp:lastModifiedBy>
  <dcterms:modified xsi:type="dcterms:W3CDTF">2002-08-30T14:24:49Z</dcterms:modified>
  <cp:revision>12</cp:revision>
  <dc:subject/>
  <dc:title>Apresentação do PowerPoint</dc:title>
</cp:coreProperties>
</file>