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4E6-A0C1-4B5D-908B-8E8A35D9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8DE-B9BD-46AB-B97D-E160E1AE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350-8FD8-4336-B2CA-22F4A45A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3C6-4035-4C60-9D0D-CACFE4CC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B48-3D22-44D4-8111-6BDFA28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F67-ACBD-4A8E-B2BA-DA4D65C0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41E-5F3C-495A-B02C-E565A893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469-18D9-4C8A-8535-D292075F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157-5730-4E8B-B211-70410CB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839-85DB-4D5C-9FE3-6EC2ED7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CDD-45D4-47E8-9A37-D805DBA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B21-6587-4576-8E75-FD44B78E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FBAE-C9DE-4DFA-9314-382F3C0C6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esposa de Jose fue a  trabajar y hacer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curso de 6 meses a los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stados Unidos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José, por supuesto, contrató un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ella empleada para los quehaceres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mésticos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Un dia, su suegra lo llama y le avisa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va ir a cenar con é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21932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cena, la vieja no pudo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jar de notar, cuan atrayente y sensual era la emplead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spues de la cena, ella comienza a imaginar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i habría ”alguna cosa" entre su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yerno y la empleada, y se pone a decir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algunas indirectas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Habla del sacrificada trabajo de su hija en  tierr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xtraña para juntar dinero par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familia, y ese tipo de cosas..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9528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eyendo los pensamientos de su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uegra, José dic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Yo se  lo que usted debe estar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nsando, pero puedo asegurarle que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i relacion con la emplead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puramente profesional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os dos dieron el tema por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cerrado y terminando la cena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la suegra se fu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533520"/>
            <a:ext cx="84582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semana despues, la emplead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e dice a José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Desde que  tu suegra vino a cenar,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l cucharón de plata para la sopa desapareció.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No crees que ella se lo ha llevado?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José responde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- Querida, yo creía que aquella vibora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podria ser todo, menos ladron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 todas maneras le voy a enviar un 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-mail a ella, solo para tener seguridad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52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onces le escribe - con copia 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posa en los EUA - solo de maldad: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"Querida suegrita, yo n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tomó" el cucharon de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sopa de mi casa, y no estoy insinuand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que usted ”no tomó" el cucharon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 sopa; pero el hecho es que  desaparecio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desde el dia que usted</a:t>
            </a:r>
            <a:br>
              <a:rPr sz="2400"/>
            </a:br>
            <a:r>
              <a:rPr b="0" lang="es-ES" sz="2400" spc="-1" strike="noStrike">
                <a:solidFill>
                  <a:srgbClr val="999999"/>
                </a:solidFill>
                <a:latin typeface="Arial"/>
                <a:ea typeface="Arial"/>
              </a:rPr>
              <a:t>estuvo aqui para la cena.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l día siguiente, José recibe un e-mail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 su suegra - también con copia a su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sposa - diciendo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"Querido yerno, yo no quier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insinuar que "duermes" con la emplead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 no quiero insinuar que "n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duermes" con la empleada; pero el hecho es que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si ella hubiera dormido en su propia cama,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ya habrían encontrado el cucharón de sopa que yo</a:t>
            </a:r>
            <a:br>
              <a:rPr sz="2400"/>
            </a:br>
            <a:r>
              <a:rPr b="0" lang="es-ES_tradnl" sz="2400" spc="-1" strike="noStrike">
                <a:solidFill>
                  <a:srgbClr val="999999"/>
                </a:solidFill>
                <a:latin typeface="Arial"/>
                <a:ea typeface="Arial"/>
              </a:rPr>
              <a:t>coloque allá, justo debajo de su almohada..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EXO, TE ESTOY ENVIAND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 REGALITO HASTA QUE MI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HIJA VUELV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4316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uasogra_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34387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7:49:27Z</dcterms:created>
  <dc:creator>Temperaço</dc:creator>
  <dc:description/>
  <dc:language>en-US</dc:language>
  <cp:lastModifiedBy>Enrique Edo. Muñoz Q.</cp:lastModifiedBy>
  <dcterms:modified xsi:type="dcterms:W3CDTF">2002-08-30T14:24:49Z</dcterms:modified>
  <cp:revision>12</cp:revision>
  <dc:subject/>
  <dc:title>Apresentação do PowerPoint</dc:title>
</cp:coreProperties>
</file>