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Forest%20Gump%20Theme210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6D6-834C-4337-82FC-82286DA9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2BD-22CC-4B97-A62D-F3236B2C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B82-E382-463B-AD21-A5AF2BA9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BDE-5EBC-4129-8FA4-05345083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515-E727-45C4-82B1-159F4139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3D4-846C-4464-8213-F831BD0F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C75-2852-45F5-95D3-121A445B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EE9-F15A-4C20-B37E-D7C0B99B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DC6-9378-4854-82CC-CFEAF792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90D-CD80-408F-9EB9-867991D7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2AA-E8DA-418C-A7D1-A1B4027D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B65-88AC-48D6-BC85-3D5CB58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7DB3-6E01-42BE-81A0-62D382320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Forest%20Gump%20Theme210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2349360"/>
            <a:ext cx="2736720" cy="251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9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3399"/>
                </a:solidFill>
                <a:uFillTx/>
                <a:latin typeface="Berlin Sans FB"/>
                <a:ea typeface="Times New Roman"/>
              </a:rPr>
              <a:t>L </a:t>
            </a:r>
            <a:r>
              <a:rPr b="0" i="1" lang="en-US" sz="6000" spc="-1" strike="noStrike" u="sng">
                <a:solidFill>
                  <a:srgbClr val="6666ff"/>
                </a:solidFill>
                <a:uFillTx/>
                <a:latin typeface="Berlin Sans FB"/>
                <a:ea typeface="Times New Roman"/>
              </a:rPr>
              <a:t>A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Berlin Sans FB"/>
                <a:ea typeface="Times New Roman"/>
              </a:rPr>
              <a:t>   </a:t>
            </a:r>
            <a:r>
              <a:rPr b="0" i="1" lang="en-US" sz="6000" spc="-1" strike="noStrike" u="sng">
                <a:solidFill>
                  <a:srgbClr val="9966ff"/>
                </a:solidFill>
                <a:uFillTx/>
                <a:latin typeface="Berlin Sans FB"/>
                <a:ea typeface="Times New Roman"/>
              </a:rPr>
              <a:t>M </a:t>
            </a:r>
            <a:r>
              <a:rPr b="0" i="1" lang="en-US" sz="6000" spc="-1" strike="noStrike" u="sng">
                <a:solidFill>
                  <a:srgbClr val="cc0066"/>
                </a:solidFill>
                <a:uFillTx/>
                <a:latin typeface="Berlin Sans FB"/>
                <a:ea typeface="Times New Roman"/>
              </a:rPr>
              <a:t>E </a:t>
            </a:r>
            <a:r>
              <a:rPr b="0" i="1" lang="en-US" sz="6000" spc="-1" strike="noStrike" u="sng">
                <a:solidFill>
                  <a:srgbClr val="cc3300"/>
                </a:solidFill>
                <a:uFillTx/>
                <a:latin typeface="Berlin Sans FB"/>
                <a:ea typeface="Times New Roman"/>
              </a:rPr>
              <a:t>N </a:t>
            </a:r>
            <a:r>
              <a:rPr b="0" i="1" lang="en-US" sz="6000" spc="-1" strike="noStrike" u="sng">
                <a:solidFill>
                  <a:srgbClr val="ff9900"/>
                </a:solidFill>
                <a:uFillTx/>
                <a:latin typeface="Berlin Sans FB"/>
                <a:ea typeface="Times New Roman"/>
              </a:rPr>
              <a:t>T </a:t>
            </a: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Berlin Sans FB"/>
                <a:ea typeface="Times New Roman"/>
              </a:rPr>
              <a:t>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24120" y="2697120"/>
            <a:ext cx="1873440" cy="18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76680" y="2728800"/>
            <a:ext cx="179064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str">
                                      <p:cBhvr additive="repl"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10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10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2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-366480"/>
            <a:ext cx="89280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Un científico de Phoenix - Arizona -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quería probar una teor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Necesitaba un voluntario que llegase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a las últimas consecuenc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Lo consiguió en una penitenciar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ra un condenado a muerte que sería ejecutado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n la penitenciaria de St. Louis,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n el estado de Missouri,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donde existe la pena de mue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jecutada en la silla eléct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684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6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48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76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32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48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86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4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1041120"/>
            <a:ext cx="892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Propuso lo siguient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l participaría en un experimento científic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n el cual sería hecho un pequeño corte en el pul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lo suficiente para gotear su sang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Él tenía la probabilidad de sobrevivi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n caso contrario, fallecerí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on una muerte sin sufrimiento ni do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l condenado acept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pues era preferible e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a morir en la silla eléctrica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además tenía una oportunidad de sobre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94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1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9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3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9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32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42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4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039680"/>
            <a:ext cx="892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l condenado fue colocado en una cama alt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de hospital, y amarraron su cuer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para que no pudiera move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Hicieron un pequeño corte en su pul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Abajo de su pul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fue colocada una pequeña vasija de alumin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Se le dijo que oiría su sangre gotear en la vas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l corte fue superficial y no alcanz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ninguna arteria o ve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pero fue lo suficiente para que él sint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que su pulso fue cort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48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18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18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14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2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88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16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798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042920"/>
            <a:ext cx="892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Sin que él supie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debajo de la cama había un frasco de su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on una pequeña válvu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Al cortar el puls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fue abierta la válvula del fras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para que él creyese que era su sang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la que caía en la vas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ada 10 minutos el Científic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sin que el condenado lo vie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erraba un poco la válv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y el goteo disminu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8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8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46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14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8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39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88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96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92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7320" y="1680120"/>
            <a:ext cx="88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Mientras tanto el condenado creía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ra su sangre la que estaba disminuyend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on el pasar del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fue perdiendo col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quedando cada vez más páli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uando el científico cerró por completo la válvu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el condenado tuvo un paro cardíaco y muri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sin ni siquiera haber perdido una gota de sang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2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76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6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32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86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66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64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549360"/>
            <a:ext cx="89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El científico consiguió probar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la mente humana cump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al pie de la letra todo lo que le es enviad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y aceptado por el individuo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sea positivo o negativo, y que tal a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envuelve a todo el organism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erlin Sans FB"/>
              </a:rPr>
              <a:t>sea en la parte orgánica o psíqu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Esta historia es una alerta para que filtre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lo que nos envía nuestra men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pues ella no distingue lo real de lo fantástic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lo cierto de lo equivoc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simplemente graba y cu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Berlin Sans FB"/>
              </a:rPr>
              <a:t>lo que le es enviado.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4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8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2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52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42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46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3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6379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902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98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294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48000" y="476280"/>
            <a:ext cx="54356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Berlin Sans FB"/>
              </a:rPr>
              <a:t>"Quien piensa en fracasar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Berlin Sans FB"/>
              </a:rPr>
              <a:t>ya fracasó antes de intentar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Berlin Sans FB"/>
              </a:rPr>
              <a:t>"Quien piensa en gan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Berlin Sans FB"/>
              </a:rPr>
              <a:t>lleva ya un paso adelante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Berlin Sans FB"/>
              </a:rPr>
              <a:t>"He si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Berlin Sans FB"/>
              </a:rPr>
              <a:t>una persona afortun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Berlin Sans FB"/>
              </a:rPr>
              <a:t>nada en la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33"/>
                </a:solidFill>
                <a:latin typeface="Berlin Sans FB"/>
              </a:rPr>
              <a:t>me ha sido fácil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" y="4558320"/>
            <a:ext cx="207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Berlin Sans FB"/>
              </a:rPr>
              <a:t>SIGM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Berlin Sans FB"/>
              </a:rPr>
              <a:t>FREU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371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18:01:41Z</dcterms:created>
  <dc:creator>PatriciaEMF</dc:creator>
  <dc:description/>
  <dc:language>en-US</dc:language>
  <cp:lastModifiedBy>JAIME</cp:lastModifiedBy>
  <dcterms:modified xsi:type="dcterms:W3CDTF">2007-03-02T05:22:26Z</dcterms:modified>
  <cp:revision>28</cp:revision>
  <dc:subject/>
  <dc:title>Experimento científico</dc:title>
</cp:coreProperties>
</file>