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Forest%20Gump%20Theme210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561-46D9-45C0-A7C8-6C02C9A8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0CE-7756-4C29-8665-D790B8A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1F0-F3EA-44DB-AD27-6088A8C9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91E-B8AC-476B-B0F5-E4233E8A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39D-E29A-4CB6-88C7-58A3D63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CC1-6E11-43B0-B14E-172949C7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6D3-004E-4395-8AA8-1881816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8ED-4CD2-49A2-96F0-FE59F9C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CCC-A062-448A-9578-152CFDB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6C0-B638-45E2-81C8-088FAAB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D0C-9D2F-4DD0-A994-D354EFA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CA7-6B7E-4D95-97EB-2501551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1927-99A4-416F-968A-73BD9C1A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Forest%20Gump%20Theme2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349360"/>
            <a:ext cx="2736720" cy="251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Berlin Sans FB"/>
                <a:ea typeface="Times New Roman"/>
              </a:rPr>
              <a:t>L </a:t>
            </a:r>
            <a:r>
              <a:rPr b="0" i="1" lang="en-US" sz="6000" spc="-1" strike="noStrike" u="sng">
                <a:solidFill>
                  <a:srgbClr val="6666ff"/>
                </a:solidFill>
                <a:uFillTx/>
                <a:latin typeface="Berlin Sans FB"/>
                <a:ea typeface="Times New Roman"/>
              </a:rPr>
              <a:t>A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Berlin Sans FB"/>
                <a:ea typeface="Times New Roman"/>
              </a:rPr>
              <a:t>   </a:t>
            </a:r>
            <a:r>
              <a:rPr b="0" i="1" lang="en-US" sz="6000" spc="-1" strike="noStrike" u="sng">
                <a:solidFill>
                  <a:srgbClr val="9966ff"/>
                </a:solidFill>
                <a:uFillTx/>
                <a:latin typeface="Berlin Sans FB"/>
                <a:ea typeface="Times New Roman"/>
              </a:rPr>
              <a:t>M </a:t>
            </a:r>
            <a:r>
              <a:rPr b="0" i="1" lang="en-US" sz="6000" spc="-1" strike="noStrike" u="sng">
                <a:solidFill>
                  <a:srgbClr val="cc0066"/>
                </a:solidFill>
                <a:uFillTx/>
                <a:latin typeface="Berlin Sans FB"/>
                <a:ea typeface="Times New Roman"/>
              </a:rPr>
              <a:t>E </a:t>
            </a:r>
            <a:r>
              <a:rPr b="0" i="1" lang="en-US" sz="6000" spc="-1" strike="noStrike" u="sng">
                <a:solidFill>
                  <a:srgbClr val="cc3300"/>
                </a:solidFill>
                <a:uFillTx/>
                <a:latin typeface="Berlin Sans FB"/>
                <a:ea typeface="Times New Roman"/>
              </a:rPr>
              <a:t>N </a:t>
            </a:r>
            <a:r>
              <a:rPr b="0" i="1" lang="en-US" sz="6000" spc="-1" strike="noStrike" u="sng">
                <a:solidFill>
                  <a:srgbClr val="ff9900"/>
                </a:solidFill>
                <a:uFillTx/>
                <a:latin typeface="Berlin Sans FB"/>
                <a:ea typeface="Times New Roman"/>
              </a:rPr>
              <a:t>T </a:t>
            </a: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Berlin Sans FB"/>
                <a:ea typeface="Times New Roman"/>
              </a:rPr>
              <a:t>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24120" y="2697120"/>
            <a:ext cx="1873440" cy="18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6680" y="27288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0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-366480"/>
            <a:ext cx="8928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Un científico de Phoenix - Arizona -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ría probar una teo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Necesitaba un voluntario que llegase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 las últimas consecuenc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o consiguió en una penitencia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ra un condenado a muerte que sería ejecutado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la penitenciaria de St. Louis,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el estado de Missouri,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onde existe la pena de mue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jecutada en la silla eléct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6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76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32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48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86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4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104112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ropuso lo siguien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participaría en un experimento científ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el cual sería hecho un pequeño corte en el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o suficiente para gotear su sang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Él tenía la probabilidad de sobreviv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caso contrario, fallecer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una muerte sin sufrimiento ni do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acept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ues era preferible e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 morir en la silla eléctrica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demás tenía una oportunidad de sobre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9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1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9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3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9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32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42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4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03968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fue colocado en una cama al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e hospital, y amarraron su cuer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ara que no pudiera move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icieron un pequeño corte en su pul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bajo de su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colocada una pequeña vasija de alumin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e le dijo que oiría su sangre gotear en la vas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rte fue superficial y no alcanz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ninguna arteria o ve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ero fue lo suficiente para que él sint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 su pulso fue cor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8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8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18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14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88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16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98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04292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que él supie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ebajo de la cama había un frasco de su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una pequeña válvu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l cortar el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abierta la válvula del fras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ara que él creyese que era su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a que caía en la vas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ada 10 minutos el Científ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que el condenado lo vie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erraba un poco la válv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y el goteo disminu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8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46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8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39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8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6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92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7320" y="1680120"/>
            <a:ext cx="88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Mientras tanto el condenado creía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ra su sangre la que estaba disminuyend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el pasar del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perdiendo col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dando cada vez más pál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uando el científico cerró por completo la válv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tuvo un paro cardíaco y muri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ni siquiera haber perdido una gota de sang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2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76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6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32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6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6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64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549360"/>
            <a:ext cx="89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El científico consiguió probar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la mente humana cump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al pie de la letra todo lo que le es enviad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y aceptado por el individu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sea positivo o negativo, y que tal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envuelve a todo el organism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sea en la parte orgánica o psíqu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Esta historia es una alerta para que filtre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que nos envía nuestra men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pues ella no distingue lo real de lo fantást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cierto de lo equivoc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simplemente graba y cu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que le es enviado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8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2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5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42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46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3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379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90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98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294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48000" y="476280"/>
            <a:ext cx="5435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Berlin Sans FB"/>
              </a:rPr>
              <a:t>"Quien piensa en fracasar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Berlin Sans FB"/>
              </a:rPr>
              <a:t>ya fracasó antes de intentar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Berlin Sans FB"/>
              </a:rPr>
              <a:t>"Quien piensa en gan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Berlin Sans FB"/>
              </a:rPr>
              <a:t>lleva ya un paso adelante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"He si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una persona afortu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nada en la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me ha sido fácil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" y="4558320"/>
            <a:ext cx="20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Berlin Sans FB"/>
              </a:rPr>
              <a:t>SIGM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Berlin Sans FB"/>
              </a:rPr>
              <a:t>FRE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371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01:41Z</dcterms:created>
  <dc:creator>PatriciaEMF</dc:creator>
  <dc:description/>
  <dc:language>en-US</dc:language>
  <cp:lastModifiedBy>JAIME</cp:lastModifiedBy>
  <dcterms:modified xsi:type="dcterms:W3CDTF">2007-03-02T05:22:26Z</dcterms:modified>
  <cp:revision>28</cp:revision>
  <dc:subject/>
  <dc:title>Experimento científico</dc:title>
</cp:coreProperties>
</file>