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nfantil%202%20-%20Jingle%20bell.wav" ContentType="audio/x-wav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24A-0FA1-4A5C-B0A1-53386B6D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6E5-8060-47FB-AB52-8F946C44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605-300C-4E8B-82EC-C30E9031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8E9-CA5B-4E88-9022-AD4015CB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4C6-4CB6-43D6-A28B-184A214F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008-C8E3-4227-9E79-374EBD78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293-A896-4353-803D-EAAA5163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CBD-476C-466A-B4BA-E64E74F2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A19-0392-4A4C-9BF7-E9015E84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68D-7522-4741-B247-87938C3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2DD-D529-4C47-BCA9-754CE198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D19-A7AD-4E3C-88CC-EA323289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9926-CADA-4D39-A9F4-8F85DDB571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Infantil%202%20-%20Jingle%20be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539640" y="-49680"/>
            <a:ext cx="813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cc3300"/>
                </a:solidFill>
                <a:latin typeface="BrushScript BT"/>
                <a:ea typeface="Arial"/>
              </a:rPr>
              <a:t> </a:t>
            </a:r>
            <a:r>
              <a:rPr b="1" i="1" lang="es-ES" sz="8800" spc="-1" strike="noStrike">
                <a:solidFill>
                  <a:srgbClr val="cc3300"/>
                </a:solidFill>
                <a:latin typeface="BrushScript BT"/>
                <a:ea typeface="Arial"/>
              </a:rPr>
              <a:t>Deseos                   Pre-Navideño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9640" y="3933720"/>
            <a:ext cx="8028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5A81-08A8-4922-9FBC-E2653E76B2EC}" type="datetime2">
              <a:rPr b="1" i="1" lang="es-UY" sz="4800" spc="-1" strike="noStrike">
                <a:solidFill>
                  <a:srgbClr val="006600"/>
                </a:solidFill>
                <a:latin typeface="BrushScript BT"/>
              </a:rPr>
              <a:t>viernes, 31 de julio de 2026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4" name="Infantil%202%20-%20Jingle%20b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Archivo 2010\Downloads\HOY\Denunciando\24895_106247402743939_100000760402830_61976_5862772_n.jpg"/>
          <p:cNvPicPr/>
          <p:nvPr/>
        </p:nvPicPr>
        <p:blipFill>
          <a:blip r:embed="rId1"/>
          <a:stretch/>
        </p:blipFill>
        <p:spPr>
          <a:xfrm>
            <a:off x="0" y="0"/>
            <a:ext cx="956484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Archivo 2010\Downloads\HOY\Denunciando\28814_115906995118363_100000971897327_82722_4006342_n.jpg"/>
          <p:cNvPicPr/>
          <p:nvPr/>
        </p:nvPicPr>
        <p:blipFill>
          <a:blip r:embed="rId1"/>
          <a:stretch/>
        </p:blipFill>
        <p:spPr>
          <a:xfrm>
            <a:off x="2030400" y="0"/>
            <a:ext cx="5083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39640" y="436680"/>
            <a:ext cx="8137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Mil noches de placer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Parrandas con los amigot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te ganes la lotería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le caigas a la vecina…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estrenes una linda casa…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te compres un Mercedes Benz nuevo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tengas grandes satisfaccion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Pero, sobre todo, te dese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G:\Archivo 2010\Downloads\HOY\Denunciando\29160_1286650287462_1266301673_30658747_6657319_n.jpg"/>
          <p:cNvPicPr/>
          <p:nvPr/>
        </p:nvPicPr>
        <p:blipFill>
          <a:blip r:embed="rId1"/>
          <a:stretch/>
        </p:blipFill>
        <p:spPr>
          <a:xfrm>
            <a:off x="250920" y="-387360"/>
            <a:ext cx="87534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:\Archivo 2010\Downloads\HOY\Denunciando\29332_1280075203089_1266301673_30647092_2372331_n.jpg"/>
          <p:cNvPicPr/>
          <p:nvPr/>
        </p:nvPicPr>
        <p:blipFill>
          <a:blip r:embed="rId1"/>
          <a:stretch/>
        </p:blipFill>
        <p:spPr>
          <a:xfrm>
            <a:off x="-181080" y="0"/>
            <a:ext cx="998388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:\Archivo 2010\Downloads\HOY\Denunciando\29332_1280075243090_1266301673_30647093_2591690_n.jpg"/>
          <p:cNvPicPr/>
          <p:nvPr/>
        </p:nvPicPr>
        <p:blipFill>
          <a:blip r:embed="rId1"/>
          <a:stretch/>
        </p:blipFill>
        <p:spPr>
          <a:xfrm>
            <a:off x="511200" y="0"/>
            <a:ext cx="8121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G:\Archivo 2010\Downloads\HOY\Denunciando\31060_1289678923176_1266301673_30665289_7532339_n.jpg"/>
          <p:cNvPicPr/>
          <p:nvPr/>
        </p:nvPicPr>
        <p:blipFill>
          <a:blip r:embed="rId1"/>
          <a:stretch/>
        </p:blipFill>
        <p:spPr>
          <a:xfrm>
            <a:off x="-252360" y="-100080"/>
            <a:ext cx="9459720" cy="7345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826920" y="1633680"/>
            <a:ext cx="7561440" cy="30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sigas siendo tan magnífic@ amig@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 como siempre lo has sido, tanto en las </a:t>
            </a: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buenas como en las malas….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Porque un amig@ como tú, nunca sob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0000"/>
                </a:solidFill>
                <a:latin typeface="Britannic Bold"/>
              </a:rPr>
              <a:t>¡SIEMPRE FALTA…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24000" y="1363680"/>
            <a:ext cx="835164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Si no mandas este Mail a 10 personas antes de acabar el día,</a:t>
            </a:r>
            <a:r>
              <a:rPr b="1" lang="es-ES" sz="3600" spc="-1" strike="noStrike">
                <a:solidFill>
                  <a:srgbClr val="ff0000"/>
                </a:solidFill>
                <a:latin typeface="BrushScript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6600"/>
                </a:solidFill>
                <a:latin typeface="Britannic Bold"/>
              </a:rPr>
              <a:t>NO VA A PASAR UN CULO…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Pero si lo mandas a toda la gallada, ellos sonreirán y sabrán cuanto los valoras y aprecias…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Archivo 2010\Downloads\HOY\Denunciando\35716_1322384980807_1266301673_30745962_526177_n.jpg"/>
          <p:cNvPicPr/>
          <p:nvPr/>
        </p:nvPicPr>
        <p:blipFill>
          <a:blip r:embed="rId1"/>
          <a:stretch/>
        </p:blipFill>
        <p:spPr>
          <a:xfrm>
            <a:off x="2025720" y="0"/>
            <a:ext cx="5092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187280" y="457200"/>
            <a:ext cx="6697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En esta bellísima época, todo mundo te des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si la paz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si la salu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si la dich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si el amor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si el no se q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Blah…blah…blah…bla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G:\Archivo 2010\Downloads\HOY\Denunciando\46769_157960484214381_157393657604397_553306_262079_n.jpg"/>
          <p:cNvPicPr/>
          <p:nvPr/>
        </p:nvPicPr>
        <p:blipFill>
          <a:blip r:embed="rId1"/>
          <a:stretch/>
        </p:blipFill>
        <p:spPr>
          <a:xfrm>
            <a:off x="1895400" y="0"/>
            <a:ext cx="5353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Archivo 2010\Downloads\HOY\Denunciando\47396_1542083865791_1045771734_31619082_4372909_n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:\Archivo 2010\Downloads\HOY\Denunciando\58613_158249790852117_157393657604397_556187_6838414_nA.jpg"/>
          <p:cNvPicPr/>
          <p:nvPr/>
        </p:nvPicPr>
        <p:blipFill>
          <a:blip r:embed="rId1"/>
          <a:stretch/>
        </p:blipFill>
        <p:spPr>
          <a:xfrm>
            <a:off x="1638360" y="-387360"/>
            <a:ext cx="5867280" cy="756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Archivo 2010\Downloads\HOY\Denunciando\58665_157399034270526_157393657604397_550042_7793783_n.jpg"/>
          <p:cNvPicPr/>
          <p:nvPr/>
        </p:nvPicPr>
        <p:blipFill>
          <a:blip r:embed="rId1"/>
          <a:stretch/>
        </p:blipFill>
        <p:spPr>
          <a:xfrm>
            <a:off x="1890720" y="0"/>
            <a:ext cx="5362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G:\Archivo 2010\Downloads\HOY\Denunciando\76020_634701755547_11614320_35033350_1889603_n.jpg"/>
          <p:cNvPicPr/>
          <p:nvPr/>
        </p:nvPicPr>
        <p:blipFill>
          <a:blip r:embed="rId1"/>
          <a:stretch/>
        </p:blipFill>
        <p:spPr>
          <a:xfrm>
            <a:off x="-396720" y="115920"/>
            <a:ext cx="9721800" cy="6305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447920" y="1522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6600"/>
                </a:solidFill>
                <a:latin typeface="Britannic Bold"/>
              </a:rPr>
              <a:t>Saludos y un fuerte abraz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img57"/>
          <p:cNvPicPr/>
          <p:nvPr/>
        </p:nvPicPr>
        <p:blipFill>
          <a:blip r:embed="rId3"/>
          <a:stretch/>
        </p:blipFill>
        <p:spPr>
          <a:xfrm>
            <a:off x="3132000" y="1484280"/>
            <a:ext cx="2916360" cy="5184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04920" y="22860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0000"/>
                </a:solidFill>
                <a:latin typeface="Britannic Bold"/>
              </a:rPr>
              <a:t>¡¡Fel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989320" y="228600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0000"/>
                </a:solidFill>
                <a:latin typeface="Britannic Bold"/>
              </a:rPr>
              <a:t>Fiestas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:\Archivo 2010\Downloads\HOY\Ahi le pago\PERFECTAS.jpg"/>
          <p:cNvPicPr/>
          <p:nvPr/>
        </p:nvPicPr>
        <p:blipFill>
          <a:blip r:embed="rId1"/>
          <a:stretch/>
        </p:blipFill>
        <p:spPr>
          <a:xfrm>
            <a:off x="2556000" y="-243000"/>
            <a:ext cx="49273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:\Archivo 2010\Downloads\HOY\Ahi le pago\PERFECTAS (22).jpg"/>
          <p:cNvPicPr/>
          <p:nvPr/>
        </p:nvPicPr>
        <p:blipFill>
          <a:blip r:embed="rId1"/>
          <a:stretch/>
        </p:blipFill>
        <p:spPr>
          <a:xfrm>
            <a:off x="1476360" y="-963720"/>
            <a:ext cx="6480360" cy="8758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Archivo 2010\Downloads\HOY\Ahi le pago\PERFECTAS (26).jpg"/>
          <p:cNvPicPr/>
          <p:nvPr/>
        </p:nvPicPr>
        <p:blipFill>
          <a:blip r:embed="rId1"/>
          <a:stretch/>
        </p:blipFill>
        <p:spPr>
          <a:xfrm>
            <a:off x="1979640" y="-316080"/>
            <a:ext cx="5040360" cy="756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Archivo 2010\Downloads\HOY\Denunciando\5371_102504116427163_100000027253506_71478_4872267_n.jpg"/>
          <p:cNvPicPr/>
          <p:nvPr/>
        </p:nvPicPr>
        <p:blipFill>
          <a:blip r:embed="rId1"/>
          <a:stretch/>
        </p:blipFill>
        <p:spPr>
          <a:xfrm>
            <a:off x="1547640" y="-747720"/>
            <a:ext cx="6475680" cy="842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Archivo 2010\Downloads\HOY\Denunciando\5720_103822739085_6280019085_2255194_7330624_n.jpg"/>
          <p:cNvPicPr/>
          <p:nvPr/>
        </p:nvPicPr>
        <p:blipFill>
          <a:blip r:embed="rId1"/>
          <a:stretch/>
        </p:blipFill>
        <p:spPr>
          <a:xfrm>
            <a:off x="2031840" y="0"/>
            <a:ext cx="5080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54200" y="333360"/>
            <a:ext cx="77054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¡</a:t>
            </a:r>
            <a:r>
              <a:rPr b="1" i="1" lang="es-ES" sz="4400" spc="-1" strike="noStrike">
                <a:solidFill>
                  <a:srgbClr val="ff0000"/>
                </a:solidFill>
                <a:latin typeface="BrushScript BT"/>
              </a:rPr>
              <a:t>AL CARAJO…!!</a:t>
            </a:r>
            <a:r>
              <a:rPr b="0" i="1" lang="es-ES" sz="2800" spc="-1" strike="noStrike">
                <a:solidFill>
                  <a:srgbClr val="ff0000"/>
                </a:solidFill>
                <a:latin typeface="BrushScript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¡Ya basta de farsas y cursileria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Lo que yo te deseo, con todo mi corazón,    es que teng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Relaciones sexuales increíbl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Orgasmos inolvidabl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Sexo infartante 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trabajes la mitad y te paguen el triple..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Archivo 2010\Downloads\HOY\Denunciando\24318_1264225246850_1266301673_30615773_70709_n.jpg"/>
          <p:cNvPicPr/>
          <p:nvPr/>
        </p:nvPicPr>
        <p:blipFill>
          <a:blip r:embed="rId1"/>
          <a:stretch/>
        </p:blipFill>
        <p:spPr>
          <a:xfrm>
            <a:off x="1692360" y="0"/>
            <a:ext cx="542772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6:27:21Z</dcterms:created>
  <dc:creator>Don Agus</dc:creator>
  <dc:description>Desconheço o autor do texto, recebido em e-mail</dc:description>
  <dc:language>en-US</dc:language>
  <cp:lastModifiedBy>MIGUEL</cp:lastModifiedBy>
  <dcterms:modified xsi:type="dcterms:W3CDTF">2010-11-28T15:57:53Z</dcterms:modified>
  <cp:revision>20</cp:revision>
  <dc:subject/>
  <dc:title>Navidad 2005</dc:title>
</cp:coreProperties>
</file>