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deRosyRichardClaydermanSuenodeam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395-C354-48FA-8A1D-B187E479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782-097C-4053-9099-2A37D98C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137-A307-49D6-86CC-E5490DC2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8A4-DA38-488B-B39E-74CBECE5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C37-77BF-4A88-862A-AB3F7E54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21C-D620-4B36-A0B9-2FA871D1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E2B-93C5-405C-868B-8BF9400E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F35-3E1B-402D-8B46-69552C15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80F-578E-415C-A277-8F3E7132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C64-E328-4D5B-9CC5-37CAE764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981-B2A4-42DA-B184-BE94D94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3E2-8811-477B-8C00-9A34E9DA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4BDE-B303-4AE1-B27F-D223F002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hyperlink" Target="http://www.paulocoelho.com/" TargetMode="External"/><Relationship Id="rId6" Type="http://schemas.openxmlformats.org/officeDocument/2006/relationships/image" Target="../media/image5.png"/><Relationship Id="rId7" Type="http://schemas.openxmlformats.org/officeDocument/2006/relationships/audio" Target="../media/deRosyRichardClaydermanSuenodeamor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2349360"/>
            <a:ext cx="5635440" cy="450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BernhardFashion BT"/>
              </a:rPr>
              <a:t>Cuento de</a:t>
            </a:r>
            <a:br>
              <a:rPr sz="4800"/>
            </a:br>
            <a:r>
              <a:rPr b="1" i="1" lang="es-ES" sz="4800" spc="-1" strike="noStrike">
                <a:solidFill>
                  <a:srgbClr val="ffffff"/>
                </a:solidFill>
                <a:latin typeface="BernhardFashion BT"/>
              </a:rPr>
              <a:t>Paulo  Coelho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7164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71640" y="2565360"/>
            <a:ext cx="25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Cielo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90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ecta tus altavoces, disfruta la bella melodía y analiza la letra de este cuento de Paulo Coe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164360" y="1125360"/>
            <a:ext cx="1979640" cy="303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93080" y="4149720"/>
            <a:ext cx="2050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ulo Coe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cri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4-7-194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ío de Jane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a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ulocoelho.co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956720" y="5805360"/>
            <a:ext cx="431640" cy="3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58560" y="836640"/>
            <a:ext cx="67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pósito ¿Cómo se llama este lugar? – preguntó el ho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¿El Cielo? ¡Pero si el guardián del portal de mármol me ha dicho que aquello era el Cie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26920" y="836640"/>
            <a:ext cx="7561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quello no era el Cielo. Era el Infierno – contestó el guardi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minante quedó per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eríais prohibir que utilicen vuestro nombre!                                             ¡Esta información falsa debe provocar grandes confusiones! – advirtió el camin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676160" y="620280"/>
            <a:ext cx="6351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¡De ninguna manera! – increpó el hom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realidad, nos hacen un gran favor, porque allí se quedan todos los que son capaces de abandonar a sus mejores amigos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ulo Coe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115640" y="33300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Jamás abandones a tus verdaderos Amigos aunque eso te produzca inconvenientes pers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Si ellos han estado dándote su amor y compañía has contraído una deuda:                “No abandonarlos nunc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404640"/>
            <a:ext cx="5914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er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i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 una</a:t>
            </a:r>
            <a:r>
              <a:rPr b="1" lang="en-US" sz="3600" spc="-1" strike="noStrike">
                <a:solidFill>
                  <a:srgbClr val="99cc00"/>
                </a:solidFill>
                <a:latin typeface="BernhardFashion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BernhardFashion BT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BernhardFashion BT"/>
              </a:rPr>
              <a:t>Grac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er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i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 u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ernhardFashion BT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BernhardFashion BT"/>
              </a:rPr>
              <a:t>D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ervar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i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a</a:t>
            </a: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BernhardFashion BT"/>
              </a:rPr>
              <a:t>Virtu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BernhardFashion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 T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un</a:t>
            </a:r>
            <a:r>
              <a:rPr b="1" lang="en-US" sz="4000" spc="-1" strike="noStrike">
                <a:solidFill>
                  <a:srgbClr val="3333cc"/>
                </a:solidFill>
                <a:latin typeface="BernhardFashion BT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BernhardFashion BT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BernhardFashion BT"/>
              </a:rPr>
              <a:t>Honor…</a:t>
            </a:r>
            <a:r>
              <a:rPr b="1" lang="en-US" sz="4000" spc="-1" strike="noStrike">
                <a:solidFill>
                  <a:srgbClr val="800000"/>
                </a:solidFill>
                <a:latin typeface="BernhardFashion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718164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 Hombre,  su caballo y su perro iban  por una carretera.  Cuando pasaban cerca de un árbol enorme cayó  un  rayo  y  los  tres murieron fulmi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640" y="476280"/>
            <a:ext cx="7138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o el hombre no se dio cuenta de que ya había abandonado este mundo, y prosiguió su camino con sus dos animales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a veces los muertos andan un cierto tiempo antes de ser conscientes de su nueva condición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260280"/>
            <a:ext cx="58723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rretera era muy larga y colina arriba el sol era muy intenso; ellos estaban sudados y sedien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una curva del camino vieron un magnífico portal de mármol, que conducía a una plaza pavimentada con adoquines de 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86920" y="333360"/>
            <a:ext cx="6782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minante se dirigió al hombre que custodiaba la entrada y entabló con él, el siguiente diálo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enos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enos días - Respondió el guardi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¿Cómo se llama este lugar tan boni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o es el Ci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76000" y="316080"/>
            <a:ext cx="6653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é bien que hayamos llegado al Cielo, porque estamos sedient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ted puede entrar y beber tanta agua como quiera. Y el guardián señaló la fu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o mi caballo y mi perro también tienen s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 siento mucho – Dijo el guardián – pero aquí no se permite la entrada a los ani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00080"/>
            <a:ext cx="80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hombre se levantó con gran disgusto, puesto que tenía muchísima sed, pero no pensaba beber solo. Dio las gracias al guardián y siguió ade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pués de caminar un buen rato cuesta arriba, ya exhaustos los tres, llegaron a otro sitio, cuya entrada estaba marcada por una puerta vieja que daba a un camino de tierra rodeado de árbo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3640" y="243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a sombra de uno de los árboles había un hombre echado, con la cabeza cubierta por un sombrero. Posiblemente dor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enos días – dijo el ca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hombre respondió con un gesto de la cab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emos mucha sed,  mi caballo, mi perro y 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y una fuente entre aquellas rocas – dijo el hombre, indicando el l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5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déis beber toda el agua como querá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hombre, el caballo y el perro fueron a la fuente y calmaron su 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minante volvió atrás para dar gracias a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déis volver siempre que queráis –                      le respondió é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22:13:29Z</dcterms:created>
  <dc:creator>Toni</dc:creator>
  <dc:description/>
  <dc:language>en-US</dc:language>
  <cp:lastModifiedBy>Phoenix</cp:lastModifiedBy>
  <dcterms:modified xsi:type="dcterms:W3CDTF">2009-01-24T20:42:25Z</dcterms:modified>
  <cp:revision>38</cp:revision>
  <dc:subject/>
  <dc:title>Un cuento bonito de Paulo  Coelho </dc:title>
</cp:coreProperties>
</file>