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deRosyRichardClaydermanSuenodeamo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A3E0-3CAF-4B54-9EC6-70FE5DECF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613E-8E7B-4907-BED4-30B265B5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43CC-7248-4D24-A227-DD1491EE1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0C6B-D73C-459F-A0AB-066C31178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5C1C-A1A0-40D3-B8BD-1BAEFAA7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476E-DDFC-452A-885A-BE0125CC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3985-6667-40B6-88FF-F2D846E7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F5FF-7D69-422B-B258-C50F6B22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920C-80B8-42BF-8F59-69BB9BAC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554B-730C-46D7-91ED-A17CC6A0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A4AA-2DA8-40A7-A0B4-601515CF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636C-DE00-4E3A-BEFA-40CB5EB4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EFFB-7A85-445F-B44C-6677CFE56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hyperlink" Target="http://www.paulocoelho.com/" TargetMode="External"/><Relationship Id="rId6" Type="http://schemas.openxmlformats.org/officeDocument/2006/relationships/image" Target="../media/image5.png"/><Relationship Id="rId7" Type="http://schemas.openxmlformats.org/officeDocument/2006/relationships/audio" Target="../media/deRosyRichardClaydermanSuenodeamor.wav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32000" y="2349360"/>
            <a:ext cx="5635440" cy="450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BernhardFashion BT"/>
              </a:rPr>
              <a:t>Cuento de</a:t>
            </a:r>
            <a:br>
              <a:rPr sz="4800"/>
            </a:br>
            <a:r>
              <a:rPr b="1" i="1" lang="es-ES" sz="4800" spc="-1" strike="noStrike">
                <a:solidFill>
                  <a:srgbClr val="ffffff"/>
                </a:solidFill>
                <a:latin typeface="BernhardFashion BT"/>
              </a:rPr>
              <a:t>Paulo  Coelho.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97164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771640" y="2565360"/>
            <a:ext cx="2592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l Cielo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8900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Conecta tus altavoces, disfruta la bella melodía y analiza la letra de este cuento de Paulo Coel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164360" y="1125360"/>
            <a:ext cx="1979640" cy="3038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093080" y="4149720"/>
            <a:ext cx="205092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ulo Coel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cri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4-7-194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ío de Janei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ras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paulocoelho.com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7956720" y="5805360"/>
            <a:ext cx="431640" cy="30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258560" y="836640"/>
            <a:ext cx="6769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propósito ¿Cómo se llama este lugar? – preguntó el homb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IE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¿El Cielo? ¡Pero si el guardián del portal de mármol me ha dicho que aquello era el Ciel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826920" y="836640"/>
            <a:ext cx="7561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quello no era el Cielo. Era el Infierno – contestó el guardiá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caminante quedó perple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beríais prohibir que utilicen vuestro nombre!                                             ¡Esta información falsa debe provocar grandes confusiones! – advirtió el camina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676160" y="620280"/>
            <a:ext cx="635148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¡De ninguna manera! – increpó el homb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 realidad, nos hacen un gran favor, porque allí se quedan todos los que son capaces de abandonar a sus mejores amigos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BernhardFashion BT"/>
              </a:rPr>
              <a:t>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aulo Coel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115640" y="333000"/>
            <a:ext cx="7272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Jamás abandones a tus verdaderos Amigos aunque eso te produzca inconvenientes person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Si ellos han estado dándote su amor y compañía has contraído una deuda:                “No abandonarlos nunc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50920" y="404640"/>
            <a:ext cx="5914800" cy="57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rqu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cer u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mig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s una</a:t>
            </a:r>
            <a:r>
              <a:rPr b="1" lang="en-US" sz="3600" spc="-1" strike="noStrike">
                <a:solidFill>
                  <a:srgbClr val="99cc00"/>
                </a:solidFill>
                <a:latin typeface="BernhardFashion B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BernhardFashion BT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BernhardFashion BT"/>
              </a:rPr>
              <a:t>Grac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BernhardFashion BT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ner u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mig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s u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BernhardFashion BT"/>
              </a:rPr>
              <a:t>        </a:t>
            </a:r>
            <a:r>
              <a:rPr b="1" lang="en-US" sz="3600" spc="-1" strike="noStrike">
                <a:solidFill>
                  <a:srgbClr val="ffff00"/>
                </a:solidFill>
                <a:latin typeface="BernhardFashion BT"/>
              </a:rPr>
              <a:t>D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BernhardFashion BT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ervar u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mig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a</a:t>
            </a:r>
            <a:r>
              <a:rPr b="1" lang="en-US" sz="3600" spc="-1" strike="noStrike">
                <a:solidFill>
                  <a:srgbClr val="3333cc"/>
                </a:solidFill>
                <a:latin typeface="BernhardFashion BT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BernhardFashion BT"/>
              </a:rPr>
              <a:t>Virtu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BernhardFashion BT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 Tu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m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 un</a:t>
            </a:r>
            <a:r>
              <a:rPr b="1" lang="en-US" sz="4000" spc="-1" strike="noStrike">
                <a:solidFill>
                  <a:srgbClr val="3333cc"/>
                </a:solidFill>
                <a:latin typeface="BernhardFashion BT"/>
              </a:rPr>
              <a:t> </a:t>
            </a:r>
            <a:r>
              <a:rPr b="1" lang="en-US" sz="4000" spc="-1" strike="noStrike">
                <a:solidFill>
                  <a:srgbClr val="800000"/>
                </a:solidFill>
                <a:latin typeface="BernhardFashion BT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BernhardFashion BT"/>
              </a:rPr>
              <a:t>Honor…</a:t>
            </a:r>
            <a:r>
              <a:rPr b="1" lang="en-US" sz="4000" spc="-1" strike="noStrike">
                <a:solidFill>
                  <a:srgbClr val="800000"/>
                </a:solidFill>
                <a:latin typeface="BernhardFashion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71280" y="476280"/>
            <a:ext cx="7181640" cy="347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 Hombre,  su caballo y su perro iban  por una carretera.  Cuando pasaban cerca de un árbol enorme cayó  un  rayo  y  los  tres murieron fulmin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71640" y="476280"/>
            <a:ext cx="71388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o el hombre no se dio cuenta de que ya había abandonado este mundo, y prosiguió su camino con sus dos animales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a veces los muertos andan un cierto tiempo antes de ser conscientes de su nueva condición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476360" y="260280"/>
            <a:ext cx="58723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carretera era muy larga y colina arriba el sol era muy intenso; ellos estaban sudados y sedien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 una curva del camino vieron un magnífico portal de mármol, que conducía a una plaza pavimentada con adoquines de o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186920" y="333360"/>
            <a:ext cx="67820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caminante se dirigió al hombre que custodiaba la entrada y entabló con él, el siguiente diálog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enos dí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enos días - Respondió el guardiá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¿Cómo se llama este lugar tan boni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to es el Cie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476000" y="316080"/>
            <a:ext cx="66531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é bien que hayamos llegado al Cielo, porque estamos sediento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ted puede entrar y beber tanta agua como quiera. Y el guardián señaló la fu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o mi caballo y mi perro también tienen se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 siento mucho – Dijo el guardián – pero aquí no se permite la entrada a los ani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39640" y="100080"/>
            <a:ext cx="80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 hombre se levantó con gran disgusto, puesto que tenía muchísima sed, pero no pensaba beber solo. Dio las gracias al guardián y siguió adel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spués de caminar un buen rato cuesta arriba, ya exhaustos los tres, llegaron a otro sitio, cuya entrada estaba marcada por una puerta vieja que daba a un camino de tierra rodeado de árbol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23640" y="243000"/>
            <a:ext cx="8569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la sombra de uno de los árboles había un hombre echado, con la cabeza cubierta por un sombrero. Posiblemente dorm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enos días – dijo el camin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hombre respondió con un gesto de la cabe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nemos mucha sed,  mi caballo, mi perro y 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y una fuente entre aquellas rocas – dijo el hombre, indicando el lug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752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déis beber toda el agua como querá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hombre, el caballo y el perro fueron a la fuente y calmaron su 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caminante volvió atrás para dar gracias al ho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déis volver siempre que queráis –                      le respondió é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3T22:13:29Z</dcterms:created>
  <dc:creator>Toni</dc:creator>
  <dc:description/>
  <dc:language>en-US</dc:language>
  <cp:lastModifiedBy>Phoenix</cp:lastModifiedBy>
  <dcterms:modified xsi:type="dcterms:W3CDTF">2009-01-24T20:42:25Z</dcterms:modified>
  <cp:revision>38</cp:revision>
  <dc:subject/>
  <dc:title>Un cuento bonito de Paulo  Coelho </dc:title>
</cp:coreProperties>
</file>