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sound%20jejeje.wav" ContentType="audio/x-wav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86C-110B-4C71-8456-361E4378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EF9-6FBC-4DCC-B03F-1C3F9113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7A4-5124-44B1-957F-CD218302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E4B-E9BE-4931-854C-8CFFF6D5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861-FFCD-4EDF-A533-1FC6239B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0C3-EDE4-4D59-9153-2FE4597C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63C-65C1-4E1B-BF16-9B9FD665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118-9CF8-4D3B-8B38-A608047F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5C8-522B-4D10-8756-1640E409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FF5-2F55-4263-AD9D-D786638B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4C5-B402-457D-9A79-6560665C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312-0641-4C35-A179-72E47E9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1BB4-F2CE-4AB6-8BE1-798015DA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ound%20jejej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5440" y="1773360"/>
            <a:ext cx="2465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DÍA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ON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PREGUN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SU MA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POR 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N FE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92720" y="2852640"/>
            <a:ext cx="6867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MADRE LE SONRI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Y LE DIJO: DEBE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 ESTAR AGRADE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 “DIOS”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QUE SEAMOS AS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Ú DEBERÍAS DE 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 LA PERSONA QUE EST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EYENDO ÉSTE CORR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21300000">
            <a:off x="1763280" y="1125360"/>
            <a:ext cx="489744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risa es u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ónico par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salud menta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1228680" cy="132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5373720"/>
            <a:ext cx="3124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Un abr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4FD6-BB67-42D2-9D19-B4CAFA8A39EF}" type="datetime3"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29 de julio de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Y son las </a:t>
            </a:r>
            <a:fld id="{D322CF36-E297-4B87-A70F-A6DFD06E419D}" type="datetime10"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07:30</a:t>
            </a:fld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 hrs.</a:t>
            </a:r>
            <a:r>
              <a:rPr b="1" lang="es-ES" sz="1600" spc="-1" strike="noStrike">
                <a:solidFill>
                  <a:srgbClr val="ff9999"/>
                </a:solidFill>
                <a:latin typeface="Comic Sans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58:13Z</dcterms:created>
  <dc:creator/>
  <dc:description/>
  <dc:language>en-US</dc:language>
  <cp:lastModifiedBy>Sylvia</cp:lastModifiedBy>
  <dcterms:modified xsi:type="dcterms:W3CDTF">2008-07-28T13:03:41Z</dcterms:modified>
  <cp:revision>8</cp:revision>
  <dc:subject/>
  <dc:title>JAJAJAJA</dc:title>
</cp:coreProperties>
</file>