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7FD-A637-459B-AB90-7D5E356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C7E-9B58-47C2-B597-F36B0036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CCB-11E2-4315-A166-DCB8FDE1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847-9434-4703-96E1-C6841006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569-2FB9-4A3A-84FF-A51FCDFC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5A4-4444-400E-9C60-08401E2A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A38-952E-4B7F-91D9-030780B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A3C-A700-4CEB-AE70-C6D0DCE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5E8-A9DD-4925-82D5-83508567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67A-865B-4EE7-AAB2-E46B0A4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439-D932-4042-BE63-90A8F20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3F3-3D88-425B-A749-3C72003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DFA2-1936-407F-ACB0-4A05AE6D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440" y="1773360"/>
            <a:ext cx="24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DÍA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N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PREGUN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SU MA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POR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N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2852640"/>
            <a:ext cx="686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MADRE LE SONRI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Y LE DIJO: DEBE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ESTAR AGRADE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“DIOS”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QUE SEAMOS AS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Ú DEBERÍAS DE 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LA PERSONA QUE 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YENDO ÉSTE CORR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300000">
            <a:off x="1763280" y="1125360"/>
            <a:ext cx="48974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risa es u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ónico par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salud menta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228680" cy="132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5373720"/>
            <a:ext cx="3124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Un abr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B12-3FBE-4F2B-8C1D-523601DD1AB8}" type="datetime3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31 de julio de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Y son las </a:t>
            </a:r>
            <a:fld id="{3545F50E-12D3-4F6F-A60C-E518DAC68A26}" type="datetime10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16:55</a:t>
            </a:fld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 hrs.</a:t>
            </a:r>
            <a:r>
              <a:rPr b="1" lang="es-ES" sz="1600" spc="-1" strike="noStrike">
                <a:solidFill>
                  <a:srgbClr val="ff9999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8:13Z</dcterms:created>
  <dc:creator/>
  <dc:description/>
  <dc:language>en-US</dc:language>
  <cp:lastModifiedBy>Sylvia</cp:lastModifiedBy>
  <dcterms:modified xsi:type="dcterms:W3CDTF">2008-07-28T13:03:41Z</dcterms:modified>
  <cp:revision>8</cp:revision>
  <dc:subject/>
  <dc:title>JAJAJAJA</dc:title>
</cp:coreProperties>
</file>