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Unchained%20melody.wav" ContentType="audio/x-wav"/>
  <Override PartName="/ppt/media/Ris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0D7-193E-4402-B1F3-A3B52168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69A-94BC-4899-9FD9-86B20A5F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261-AE70-4930-A50A-0FD8EA74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37F-1983-48F3-AC62-87750F04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A89-DD29-4631-AB51-0C40F6D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1C4-597A-4788-B483-57D59EE4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FD3-3332-4831-905A-BAF7D55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5A6-F5C8-4F8E-BFBD-3388D2F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51A-4885-49DF-8032-600D931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3B9-3C21-4642-A0DA-9EB12C1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A6A-A1D0-4C99-A0BE-AE0EB8EA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175-B0D2-45A8-9772-FD4405F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D2E2-AE62-4BB2-83EC-A8110814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sad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35040"/>
            <a:ext cx="83628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urier New"/>
              </a:rPr>
              <a:t>AMORES LOCOS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 Luego de una larga noche haciendo el amor, él nota la foto de otro hombre en la mesa de noche de ella. Comienza a preocuparle.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Unchained%20melo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808200"/>
            <a:ext cx="720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"¿Es tu marido?" pregunta nervioso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o, tont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 responde ella, acurrucándose a é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1200" y="274320"/>
            <a:ext cx="7931160" cy="69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"¿Tu novio, entonces?" continúa él.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    "No, para nada," dice ella, mordisqueándole          la orej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 </a:t>
            </a: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¿Es tu papá o tu hermano?" pregunta, esperando ser conformado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No, no, no!       Me pones tan ardiente cuando estás celoso!" responde ell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79400"/>
            <a:ext cx="821844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Bueno, ¿quién carajo es, entonces?"         demanda él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Soy yo...     antes de la cirugí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779400"/>
            <a:ext cx="8218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"Bueno, ¿quién carajo es, entonces?"         demanda él. 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urier New"/>
              </a:rPr>
              <a:t>    "Soy yo...     antes de la cirugí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50:19Z</dcterms:created>
  <dc:creator/>
  <dc:description/>
  <dc:language>en-US</dc:language>
  <cp:lastModifiedBy>Iván Poskal</cp:lastModifiedBy>
  <dcterms:modified xsi:type="dcterms:W3CDTF">2007-08-16T19:08:27Z</dcterms:modified>
  <cp:revision>6</cp:revision>
  <dc:subject>www.laboutiquedelpowerpoint.com</dc:subject>
  <dc:title>AMORES LOCOS      Luego de una larga noche haciendo el amor, él nota la foto de otro hombre en la mesa de noche de ella. Comienza a preocuparle.      </dc:title>
</cp:coreProperties>
</file>