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Unchained%20melody.wav" ContentType="audio/x-wav"/>
  <Override PartName="/ppt/media/Risad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6A3-20AC-4EB3-B187-BF815F9A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23A-CB61-4984-88C7-98C36C69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11C-4589-4C3F-B314-C7C8B701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AE4-673A-41C9-AB4D-CCE8C03A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A96-DF1D-46C9-A1A7-917C3BF1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513-7462-4DBB-8D87-DE963A8D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17A-8176-4FE3-AB66-D23DD62C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F78-975F-466B-A575-72D51275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EDE-9246-41BF-B634-2B7D8722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718-5E92-4814-B66F-CC44EE3B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F38-26CB-4DA1-82AA-7B02F99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991-BAE8-48D0-9A65-C184B49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A63D-F533-47FE-A2A3-F8802703E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Unchained%20melod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isad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217440" cy="19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35040"/>
            <a:ext cx="836280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urier New"/>
              </a:rPr>
              <a:t>AMORES LOCOS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   Luego de una larga noche haciendo el amor, él nota la foto de otro hombre en la mesa de noche de ella. Comienza a preocuparle.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Unchained%20melo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808200"/>
            <a:ext cx="720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"¿Es tu marido?" pregunta nervioso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o, tont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  responde ella, acurrucándose a é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200" y="274320"/>
            <a:ext cx="7931160" cy="69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"¿Tu novio, entonces?" continúa él.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    "No, para nada," dice ella, mordisqueándole          la orej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2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   </a:t>
            </a: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"¿Es tu papá o tu hermano?" pregunta, esperando ser conformado. 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    "No, no, no!       Me pones tan ardiente cuando estás celoso!" responde ell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79400"/>
            <a:ext cx="821844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"Bueno, ¿quién carajo es, entonces?"         demanda él. 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    "Soy yo...     antes de la cirugía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779400"/>
            <a:ext cx="8218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"Bueno, ¿quién carajo es, entonces?"         demanda él. 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    "Soy yo...     antes de la cirugía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5:50:19Z</dcterms:created>
  <dc:creator/>
  <dc:description/>
  <dc:language>en-US</dc:language>
  <cp:lastModifiedBy>Iván Poskal</cp:lastModifiedBy>
  <dcterms:modified xsi:type="dcterms:W3CDTF">2007-08-16T19:08:27Z</dcterms:modified>
  <cp:revision>6</cp:revision>
  <dc:subject>www.laboutiquedelpowerpoint.com</dc:subject>
  <dc:title>AMORES LOCOS      Luego de una larga noche haciendo el amor, él nota la foto de otro hombre en la mesa de noche de ella. Comienza a preocuparle.      </dc:title>
</cp:coreProperties>
</file>