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01%20MAMA%20VIEJA.wav" ContentType="audio/x-wav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3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5DAD-3006-42CE-80CD-C2573A1CC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16EA-C88D-4DA4-AD0F-AE6F49F521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C23B-B379-4238-AA04-DCB0EA52B7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FFD1-26E8-451C-B2C2-337D3592B3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F2BE-9EED-4CA2-AF5B-EAB112F0AE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E9DD-A510-4784-8670-EF1DE58318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16EA-6B83-4E47-9794-90678DD2A2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BA80-BBA7-4E07-AFB6-6CAC4E96FD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DEBD-C6D7-4E14-8641-BECE8A5F6D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17DB-6B81-4D25-9B43-64AFDD7181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9C97-7AA9-4576-A55A-15585B1DDA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584D-A758-4D5C-A0CD-496F607CCE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F441-68C7-42DA-B33D-5710AEF092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6EDE-6035-434A-B53B-4476555905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0E5F-D5C5-4943-AB86-5F194181FD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B51D-4D0C-4B96-97BD-F86B02F59A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FB49-4AA6-4157-BD34-C724EFCF84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0366-146C-4B66-AD57-79B8971896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4E62-F8D0-4241-AEC7-D7B4C279F4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3E8A-85A8-4BBF-A7C1-B14D080E4B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EEDB-6358-492B-A913-7211D0FEAE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E29-F900-47C7-A9DF-C2C5E2B2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4DC-DF98-43E2-AE93-22A87040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50B-B39B-4315-98A3-688B5D0B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F88C-5CAB-48F3-B0FC-BA9ACF6B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4682-63F4-4567-A28F-C47E3188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F16D-D318-4848-BBD1-42669CEF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5D76-BF25-48B7-9AE6-DE8809ED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F0E7-1EC6-459C-A022-777C9FEF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E574-B5AC-4239-ACD5-CDE3115D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B2B4-B095-4696-BBCB-F981DC80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55FA-C9E7-4C2E-9BBD-19A6C43E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318-4924-48E1-ABF8-5A8704EB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B107-A365-4B18-B215-2DD39B16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DBF6-F01C-4721-978C-F1FA0F20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4A49-F6D9-4DDE-9143-EDFA9BD8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5E14-EFFD-4318-A837-5E6519E8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2CDD-9C16-4356-9E6E-72ABB652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769-4D9B-431E-B179-6C52D35C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71D-FF1B-4F24-9D29-279906CE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9C3-2CEF-4279-8AA6-13E851B6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828-44C1-4D9B-AA26-D406C0E9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145-D259-402A-9122-615F5DE5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7C8-EE40-4CE8-ADA4-85DA9DBD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ED4-B696-425B-AE31-040C329A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D604-FD7D-4C7F-BFBB-CF3BBAC2FD0D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3CDB-8547-40D9-9579-BDF77B5ADD7E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01%20MAMA%20VIEJ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447920" y="5335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arkAvenue BT"/>
              </a:rPr>
              <a:t>Un Regalo Para Ti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467240" cy="4048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  <p:sndAc>
      <p:stSnd>
        <p:snd r:embed="rId2" name="01%20MAMA%20VIEJ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flores_18"/>
          <p:cNvPicPr/>
          <p:nvPr/>
        </p:nvPicPr>
        <p:blipFill>
          <a:blip r:embed="rId1"/>
          <a:stretch/>
        </p:blipFill>
        <p:spPr>
          <a:xfrm>
            <a:off x="1295280" y="160020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685800" y="7200"/>
            <a:ext cx="76201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tos No Se Han Reído, Y Tantos Han Muerto Antes De Que Sus Cabellos Se Volvieran Plate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o Decir “No” Y Querer Decirl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o Decir “Si” Y Querer Decirlo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lores_12"/>
          <p:cNvPicPr/>
          <p:nvPr/>
        </p:nvPicPr>
        <p:blipFill>
          <a:blip r:embed="rId1"/>
          <a:stretch/>
        </p:blipFill>
        <p:spPr>
          <a:xfrm>
            <a:off x="1219320" y="160020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990720" y="309240"/>
            <a:ext cx="73152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Vas Envejeciendo, Es Más Fácil Ser Positiv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Preocupas Menos De Lo Que Las Otras Person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an Pensar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flores_09"/>
          <p:cNvPicPr/>
          <p:nvPr/>
        </p:nvPicPr>
        <p:blipFill>
          <a:blip r:embed="rId1"/>
          <a:stretch/>
        </p:blipFill>
        <p:spPr>
          <a:xfrm>
            <a:off x="1447920" y="1523880"/>
            <a:ext cx="6476760" cy="4857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219320" y="233640"/>
            <a:ext cx="7315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ta Me He Ganando El Derecho De Estar Equivocado…me Gusta Ser Viejo, Porq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¡¡Me He Dado Libertad!!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flores_08"/>
          <p:cNvPicPr/>
          <p:nvPr/>
        </p:nvPicPr>
        <p:blipFill>
          <a:blip r:embed="rId1"/>
          <a:stretch/>
        </p:blipFill>
        <p:spPr>
          <a:xfrm>
            <a:off x="838080" y="1486080"/>
            <a:ext cx="7162920" cy="5371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457200" y="5040"/>
            <a:ext cx="83818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Gusta La Persona En La Que Me He Converti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oy A Vivir Para Siempre…pero Mientras Este Aquí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erderé Tiempo En Lamentar De Lo Que Pudo Se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reocuparme De Lo Que Será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flores_03"/>
          <p:cNvPicPr/>
          <p:nvPr/>
        </p:nvPicPr>
        <p:blipFill>
          <a:blip r:embed="rId1"/>
          <a:stretch/>
        </p:blipFill>
        <p:spPr>
          <a:xfrm>
            <a:off x="1447920" y="12193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219320" y="228600"/>
            <a:ext cx="7543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ré Postre Todos Los Días...(Si Así Lo Dese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flores_06"/>
          <p:cNvPicPr/>
          <p:nvPr/>
        </p:nvPicPr>
        <p:blipFill>
          <a:blip r:embed="rId1"/>
          <a:stretch/>
        </p:blipFill>
        <p:spPr>
          <a:xfrm>
            <a:off x="1447920" y="160020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228600" y="308160"/>
            <a:ext cx="7848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r Sencillamente   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r Generosa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blar Amable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Resto… Dejárselo A Dio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85974243_485372cee1"/>
          <p:cNvPicPr/>
          <p:nvPr/>
        </p:nvPicPr>
        <p:blipFill>
          <a:blip r:embed="rId1"/>
          <a:stretch/>
        </p:blipFill>
        <p:spPr>
          <a:xfrm>
            <a:off x="14479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1447920" y="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Qué bello es contemplar las flores y aspirar su fragancia en los ratos de nuestra vejez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1482589280_47b13bc3c3"/>
          <p:cNvPicPr/>
          <p:nvPr/>
        </p:nvPicPr>
        <p:blipFill>
          <a:blip r:embed="rId1"/>
          <a:stretch/>
        </p:blipFill>
        <p:spPr>
          <a:xfrm>
            <a:off x="1143000" y="165744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609480" y="228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Que Bellas Son Las Mariposas Que Vuelan  De Flor En Flo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1483166670_7fdcab960b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914400" y="360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idos Amigos: Disfruten Sus Años De Vida Y No Sufran Por Haber Perdido La Juventud, Vivan Y Am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s. Tienen Un Gran Valor Para Dios, Y Para Mí También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715134410_04b532acbe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76320" y="4572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¡¡¡¡Sonrían cada mañana porque Dios se ha despert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que tú y ha colgado el Sol en tus ventanas!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7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1640_-_spring_-_ira_kennedy"/>
          <p:cNvPicPr/>
          <p:nvPr/>
        </p:nvPicPr>
        <p:blipFill>
          <a:blip r:embed="rId1"/>
          <a:stretch/>
        </p:blipFill>
        <p:spPr>
          <a:xfrm>
            <a:off x="1219320" y="2362320"/>
            <a:ext cx="662940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228600" y="8640"/>
            <a:ext cx="89154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Otro Día Una Persona Joven Me Preguntó Que Se Sentía Ser Viejo; Me Sorprendió Mucho, Ya Que No Me Considero Vie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erse Viejo, He Decidido Es Un Regal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 Soy Ahora, Probablemente Por Primera Vez 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 Vida La Persona Que Siempre Quise S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THATS IS ALL.jpg"/>
          <p:cNvPicPr/>
          <p:nvPr/>
        </p:nvPicPr>
        <p:blipFill>
          <a:blip r:embed="rId1"/>
          <a:stretch/>
        </p:blipFill>
        <p:spPr>
          <a:xfrm>
            <a:off x="2819520" y="304920"/>
            <a:ext cx="3371760" cy="4429080"/>
          </a:xfrm>
          <a:prstGeom prst="rect">
            <a:avLst/>
          </a:prstGeom>
          <a:ln w="0">
            <a:noFill/>
          </a:ln>
        </p:spPr>
      </p:pic>
      <p:sp>
        <p:nvSpPr>
          <p:cNvPr id="130" name="Date Placeholder 2"/>
          <p:cNvSpPr/>
          <p:nvPr/>
        </p:nvSpPr>
        <p:spPr>
          <a:xfrm>
            <a:off x="457200" y="6416640"/>
            <a:ext cx="525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FCF4-F843-4A05-BAA5-3AEAFB40857F}" type="datetime2">
              <a:rPr b="0" lang="en-US" sz="2400" spc="-1" strike="noStrike">
                <a:solidFill>
                  <a:srgbClr val="bcbcbc"/>
                </a:solidFill>
                <a:latin typeface="Arial"/>
              </a:rPr>
              <a:t>Friday, July 31, 2026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617220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MA     Miam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1619_-_duas_flores_-_dave_werner"/>
          <p:cNvPicPr/>
          <p:nvPr/>
        </p:nvPicPr>
        <p:blipFill>
          <a:blip r:embed="rId1"/>
          <a:stretch/>
        </p:blipFill>
        <p:spPr>
          <a:xfrm>
            <a:off x="685800" y="2590920"/>
            <a:ext cx="8001000" cy="3886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380880" y="12600"/>
            <a:ext cx="84582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Algunas Veces Me Desespero De Mi Cuerpo... Las Arrugas, Las Ojeras, Y La Calvicie… Y A Menudo Me Sorprendo De La Persona Vieja  Que Vive En Mi Espejo, Pero No Me Preocupo De Estas Cosas Por Mucho Tiempo… No Cambiaría Mis Sorprendentes Amigos, Y Mi Maravillosa Vida, Por Menos Canas Y Un Cuerpo Musculoso. Al Envejecer, Me He Vuelto Más Amable Conmigo Y Menos Crítico De Mí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flores"/>
          <p:cNvPicPr/>
          <p:nvPr/>
        </p:nvPicPr>
        <p:blipFill>
          <a:blip r:embed="rId1"/>
          <a:stretch/>
        </p:blipFill>
        <p:spPr>
          <a:xfrm>
            <a:off x="1828800" y="3276720"/>
            <a:ext cx="5562720" cy="26445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762120" y="543240"/>
            <a:ext cx="800100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He Convertido En Mi Mejor Amig0. No Me Regaño Por Comer Esa Galleta Extra, O Por No Hacer Mi Cama O Por No Comprar Ese Juego De Jardín Que No Necesitab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y En Mi Derecho De Ser Un Poco Desordenad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vagante Y Oler Las Flores... He Visto A Muchos Amigos Irse De Este Mundo Muy Pronto, Antes De Que Entendieran La Libertad Que Viene Con Hacerse Viej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453098175_f9ecddf0ea"/>
          <p:cNvPicPr/>
          <p:nvPr/>
        </p:nvPicPr>
        <p:blipFill>
          <a:blip r:embed="rId1"/>
          <a:stretch/>
        </p:blipFill>
        <p:spPr>
          <a:xfrm>
            <a:off x="1143000" y="2666880"/>
            <a:ext cx="6705720" cy="3657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685800" y="10440"/>
            <a:ext cx="77724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A Quién Le Interesa Si Escojo Leer O Jug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omputadora Hasta Las 4 De La Maña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Después Dormir Hasta Quien Sabe Que Hor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ilaré Conmigo A Esos Maravillosos Acor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s 50´s Y 60´s Y Si Deseo En Ese Mom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lorar Por Algún Amor Perdido...Lo Haré!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453098145_f3cb007480"/>
          <p:cNvPicPr/>
          <p:nvPr/>
        </p:nvPicPr>
        <p:blipFill>
          <a:blip r:embed="rId1"/>
          <a:stretch/>
        </p:blipFill>
        <p:spPr>
          <a:xfrm>
            <a:off x="990720" y="2133720"/>
            <a:ext cx="7162560" cy="426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990720" y="312120"/>
            <a:ext cx="7238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inaré Por La Playa Con Un Traje De Baño Completo…a Pesar De Las Miradas De Compasión De Los Que Usan Bikini… Ellos También Se Harán Viejos (Si Tienen Suerte)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453098137_92f5ffde1d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304920" y="141840"/>
            <a:ext cx="81532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é Que Algunas Veces Soy Olvidadizo. Pero Me Acuer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s Cosas Importantes. A Través De Los Añ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 Corazón Se Ha Rotó. ¿Como No Puede Romperse El Corazón Cuando Pierdes A Alguien Querido, O Cuando Sufre Un Niño O Cuando Muere Tu Mascota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Flores%2520no%2520rio"/>
          <p:cNvPicPr/>
          <p:nvPr/>
        </p:nvPicPr>
        <p:blipFill>
          <a:blip r:embed="rId1"/>
          <a:stretch/>
        </p:blipFill>
        <p:spPr>
          <a:xfrm>
            <a:off x="990720" y="1447920"/>
            <a:ext cx="7467480" cy="4628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304920" y="5040"/>
            <a:ext cx="86104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El Corazón Roto Es Lo Que Nos Da La Fuerza, Entendimiento Y Compas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Corazón Que Nunca Se Ha Roto,  Nunca Sabrá De La Felicidad De Ser Imperfecto.</a:t>
            </a:r>
            <a:r>
              <a:rPr b="1" lang="es-E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flores_01"/>
          <p:cNvPicPr/>
          <p:nvPr/>
        </p:nvPicPr>
        <p:blipFill>
          <a:blip r:embed="rId1"/>
          <a:stretch/>
        </p:blipFill>
        <p:spPr>
          <a:xfrm>
            <a:off x="990720" y="1600200"/>
            <a:ext cx="7543800" cy="46483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1905120" y="109080"/>
            <a:ext cx="59436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y Bendito Por Haber Vivido Lo Suficiente Para Que Mis Cabellos Se Vuelvan Grises…y  Conservar La Sonrisa De Mi Juventu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1:24:22Z</dcterms:created>
  <dc:creator>Amalia</dc:creator>
  <dc:description/>
  <dc:language>en-US</dc:language>
  <cp:lastModifiedBy>Victor M Arana</cp:lastModifiedBy>
  <dcterms:modified xsi:type="dcterms:W3CDTF">2009-02-01T15:34:13Z</dcterms:modified>
  <cp:revision>11</cp:revision>
  <dc:subject/>
  <dc:title>Un Regalo para ti</dc:title>
</cp:coreProperties>
</file>