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01%20MAMA%20VIEJA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61F4-C00B-4712-AA60-645C2376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51C-691C-4BD1-95CC-1E35BDC89F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C38-F828-4591-905C-BA8948B1F4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F3DE-6045-4B17-9D66-B3761A014C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0FB8-A949-4290-AE9F-6150CF8B3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6AD2-6C65-42A1-BE4B-177B694BEC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34FF-1B8C-4ABE-821D-9BE5678D1D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6269-9694-435E-A462-4F1608CC29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A77A-6666-49B6-8CF7-FBBBD19001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90D4-7D9A-489A-8F99-79847B505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CE3-8BC7-44EA-85C6-C11AF39E0C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E76-638D-4CAB-B2D1-3ED1CC76FE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F31E-ADA4-493B-B3F6-6E043FAC28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FC2B-DBD5-4F76-88D6-68CD116B8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530-BFD6-4F07-B912-7121B5E25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192A-4179-454F-B0A2-C940822F7D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0F1C-4DBE-49F6-B8EA-E28B120F7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9471-FD09-406C-9D3A-D3CD39795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39C4-954F-40E0-A985-43473FCB38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FB7-E3B6-451E-8BAD-0F3E0EB4C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A9B-A8CB-4F87-8359-0798E40BD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8A1-7957-4845-A395-35EEA03B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F44-2CA8-4049-86B9-1394D7BC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B30-9FAE-4C5F-8B1A-BA828572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9D9-42EC-4BBE-9CD0-36980C01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911-C955-4FDB-8F0D-FB4AA3C0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2CA-D829-40E3-82AE-35CAE30F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152B-937C-4C0B-BA43-A2F0B3E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199B-B663-4EE2-A956-F12DE11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832B-D4FD-4693-A9C5-A4204A9B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2161-3148-4980-9D0B-AB698363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59C-57F0-4E1D-AD45-26F6E5A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DE9-D0B4-4932-93E2-1D6452CB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D992-F5E3-4414-B227-32143012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A15-FF38-4EE3-8F5E-90DFE9F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0847-5EA4-444E-9050-CFC304D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F4F8-E073-4FFC-BE41-75E6E63E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265B-6E91-4DE3-BC11-79BAD2CE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F8F-B606-4DED-AA3C-1DB0D51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0E8-A759-4BF1-A6B0-8A3E0BAC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746-731A-4DC1-8557-9AF673D6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495-D9F8-4A8B-86B2-46074DA7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594-8738-4531-9BCA-2430B0F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BDE-18F6-4A8E-91A5-0805DA7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668-D118-4AC7-9BD0-680F07D6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0F51-43A2-466E-AD4F-3B9395A4F64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BA59-D96C-4446-A6E7-BFF460A9935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01%20MAMA%20VIEJ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44792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rkAvenue BT"/>
              </a:rPr>
              <a:t>Un Regalo Para Ti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467240" cy="4048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3"/>
    <p:sndAc>
      <p:stSnd>
        <p:snd r:embed="rId2" name="01%20MAMA%20VIEJ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flores_18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685800" y="7200"/>
            <a:ext cx="7620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Y Tantos Han Muerto Antes De Que Sus Cabellos Se Volvieran Plate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lores_12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990720" y="309240"/>
            <a:ext cx="7315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De Lo Que Las Otras Person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ensar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lores_09"/>
          <p:cNvPicPr/>
          <p:nvPr/>
        </p:nvPicPr>
        <p:blipFill>
          <a:blip r:embed="rId1"/>
          <a:stretch/>
        </p:blipFill>
        <p:spPr>
          <a:xfrm>
            <a:off x="1447920" y="152388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219320" y="233640"/>
            <a:ext cx="7315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ndo El Derecho De Estar Equivocado…me Gusta Ser Viejo, Por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Me He Dado Libertad!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flores_08"/>
          <p:cNvPicPr/>
          <p:nvPr/>
        </p:nvPicPr>
        <p:blipFill>
          <a:blip r:embed="rId1"/>
          <a:stretch/>
        </p:blipFill>
        <p:spPr>
          <a:xfrm>
            <a:off x="838080" y="148608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57200" y="5040"/>
            <a:ext cx="83818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La Persona En La Que Me He Convert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e Aquí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flores_03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219320" y="228600"/>
            <a:ext cx="754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(Si Así Lo Des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lores_06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308160"/>
            <a:ext cx="784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85974243_485372cee1"/>
          <p:cNvPicPr/>
          <p:nvPr/>
        </p:nvPicPr>
        <p:blipFill>
          <a:blip r:embed="rId1"/>
          <a:stretch/>
        </p:blipFill>
        <p:spPr>
          <a:xfrm>
            <a:off x="14479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447920" y="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1482589280_47b13bc3c3"/>
          <p:cNvPicPr/>
          <p:nvPr/>
        </p:nvPicPr>
        <p:blipFill>
          <a:blip r:embed="rId1"/>
          <a:stretch/>
        </p:blipFill>
        <p:spPr>
          <a:xfrm>
            <a:off x="114300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e Bellas Son Las Mariposas Que Vuelan 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1483166670_7fdcab960b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914400" y="36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dos Amigos: Disfruten Sus Años De Vida Y No Sufran Por Haber Perdido La Juventud, Vivan Y A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s. Tienen Un Gran Valor Para Dios, Y Para Mí También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715134410_04b532acbe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6320" y="4572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y ha colgado el Sol en tus ventanas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1640_-_spring_-_ira_kennedy"/>
          <p:cNvPicPr/>
          <p:nvPr/>
        </p:nvPicPr>
        <p:blipFill>
          <a:blip r:embed="rId1"/>
          <a:stretch/>
        </p:blipFill>
        <p:spPr>
          <a:xfrm>
            <a:off x="1219320" y="236232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28600" y="8640"/>
            <a:ext cx="8915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Joven Me Preguntó Que Se Sentía Ser Viejo; Me Sorprendió Mucho, 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rse Viejo, He Decidido Es Un Reg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Vida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THATS IS ALL.jpg"/>
          <p:cNvPicPr/>
          <p:nvPr/>
        </p:nvPicPr>
        <p:blipFill>
          <a:blip r:embed="rId1"/>
          <a:stretch/>
        </p:blipFill>
        <p:spPr>
          <a:xfrm>
            <a:off x="2819520" y="304920"/>
            <a:ext cx="3371760" cy="442908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2"/>
          <p:cNvSpPr/>
          <p:nvPr/>
        </p:nvSpPr>
        <p:spPr>
          <a:xfrm>
            <a:off x="457200" y="6416640"/>
            <a:ext cx="5257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77C1-46CA-458B-9309-A0DC7632FD44}" type="datetime2">
              <a:rPr b="0" lang="en-US" sz="2400" spc="-1" strike="noStrike">
                <a:solidFill>
                  <a:srgbClr val="bcbcbc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17220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MA     Miam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619_-_duas_flores_-_dave_werner"/>
          <p:cNvPicPr/>
          <p:nvPr/>
        </p:nvPicPr>
        <p:blipFill>
          <a:blip r:embed="rId1"/>
          <a:stretch/>
        </p:blipFill>
        <p:spPr>
          <a:xfrm>
            <a:off x="685800" y="2590920"/>
            <a:ext cx="80010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80880" y="12600"/>
            <a:ext cx="84582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Las Arrugas, Las Ojeras, Y La Calvicie… Y A Menudo Me Sorprendo De La Persona Vieja  Que Vive En Mi Espejo, Pero No Me Preocupo De Estas Cosas Por Mucho Tiempo… No Cambiaría Mis Sorprendentes Amigos, Y Mi Maravillosa Vida, Por Menos Canas Y Un Cuerpo Musculoso. Al Envejecer, Me He Vuelto Más Amable Conmigo Y Menos Crítico De Mí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flores"/>
          <p:cNvPicPr/>
          <p:nvPr/>
        </p:nvPicPr>
        <p:blipFill>
          <a:blip r:embed="rId1"/>
          <a:stretch/>
        </p:blipFill>
        <p:spPr>
          <a:xfrm>
            <a:off x="1828800" y="3276720"/>
            <a:ext cx="5562720" cy="2644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762120" y="543240"/>
            <a:ext cx="80010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0. No Me Regaño Por Comer Esa Galleta Extra, O Por No Hacer Mi Cama O Por No Comprar Ese Juego De Jardín Que No Necesita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De Ser Un Poco Desordenad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He Visto A Muchos Amigos Irse De Este Mundo Muy Pronto, Antes De Que Entendieran La Libertad Que Viene Con Hacerse Vi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453098175_f9ecddf0ea"/>
          <p:cNvPicPr/>
          <p:nvPr/>
        </p:nvPicPr>
        <p:blipFill>
          <a:blip r:embed="rId1"/>
          <a:stretch/>
        </p:blipFill>
        <p:spPr>
          <a:xfrm>
            <a:off x="1143000" y="266688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685800" y="10440"/>
            <a:ext cx="77724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mputadora Hasta Las 4 De La Mañ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spués Dormir Hasta Quien Sabe Que Ho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50´s Y 60´s Y Si Deseo En Ese Mo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lorar Por Algún Amor Perdido...Lo Haré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453098145_f3cb007480"/>
          <p:cNvPicPr/>
          <p:nvPr/>
        </p:nvPicPr>
        <p:blipFill>
          <a:blip r:embed="rId1"/>
          <a:stretch/>
        </p:blipFill>
        <p:spPr>
          <a:xfrm>
            <a:off x="990720" y="2133720"/>
            <a:ext cx="716256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990720" y="312120"/>
            <a:ext cx="7238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Con Un Traje De Baño Completo…a Pesar De Las Miradas De Compasión De Los Que Usan Bikini… Ellos También Se Harán Viejos (Si Tienen Suerte)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453098137_92f5ffde1d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304920" y="141840"/>
            <a:ext cx="8153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Pero Me Acuer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Cosas Importantes. 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ó. ¿Como No Puede Romperse El Corazón Cuando Pierdes A Alguien Querido, O Cuando Sufre Un Niño 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lores%2520no%2520rio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46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04920" y="5040"/>
            <a:ext cx="8610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l Corazón Roto Es Lo Que Nos Da La Fuerza, Entendimiento Y Compas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Corazón Que Nunca Se Ha Roto,  Nunca Sabrá De La Felicidad De Ser Imperfecto.</a:t>
            </a:r>
            <a:r>
              <a:rPr b="1" lang="es-E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flores_01"/>
          <p:cNvPicPr/>
          <p:nvPr/>
        </p:nvPicPr>
        <p:blipFill>
          <a:blip r:embed="rId1"/>
          <a:stretch/>
        </p:blipFill>
        <p:spPr>
          <a:xfrm>
            <a:off x="990720" y="160020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905120" y="109080"/>
            <a:ext cx="59436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y  Conservar La Sonrisa De Mi Juventu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Victor M Arana</cp:lastModifiedBy>
  <dcterms:modified xsi:type="dcterms:W3CDTF">2009-02-01T15:34:13Z</dcterms:modified>
  <cp:revision>11</cp:revision>
  <dc:subject/>
  <dc:title>Un Regalo para ti</dc:title>
</cp:coreProperties>
</file>