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ie%20Jesu%20de%20Durufle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7C6-2868-4FEE-88D6-B44F857C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EC4-6272-407C-A3BF-5DC6197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AF2-27AD-440A-96A1-A9110FDB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84F-8C6B-42F9-92A1-F50EA754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16D-C8AE-4574-BF95-795B7BA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3B1-4459-41EE-AF20-57C3E3D0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719-974E-4064-9FD3-30C3587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111-0997-48E5-B53E-64A0293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D7A-8EC4-45D1-82EB-6E5FE13C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F9F-2FCA-4385-A90A-7921836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D00-54BB-4894-ADEC-67D2B27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CF1-9D32-4290-A3B6-723AA04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5011-8C89-493B-B5C5-444641815A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ie%20Jesu%20de%20Durufle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57160" y="4508640"/>
            <a:ext cx="400068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“Pie Jesu” de Durufle nos invita a ir con Él a la muerte y resur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53200" y="292428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75440" y="1278000"/>
            <a:ext cx="2440080" cy="531792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Pie%20Jesu%20de%20Durufl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714240" y="1214280"/>
            <a:ext cx="7929720" cy="5045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uno quiere salvar su vida, la perderá; pero el que la pierda por mí la encontrará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693720" y="47520"/>
            <a:ext cx="8424720" cy="682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179280" y="189000"/>
            <a:ext cx="87598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ra el evangelio perder es ga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280" y="1052640"/>
            <a:ext cx="2737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nos gana, perdie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6840" y="5589720"/>
            <a:ext cx="3754440" cy="169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Restos de la Cesarea roma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611280" y="407880"/>
            <a:ext cx="79596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De qué le sirve a un hombre ganar el mundo entero, si arruina su vida? ¿O qué podrá dar para recobrarla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 Imagen" descr=""/>
          <p:cNvPicPr/>
          <p:nvPr/>
        </p:nvPicPr>
        <p:blipFill>
          <a:blip r:embed="rId1"/>
          <a:stretch/>
        </p:blipFill>
        <p:spPr>
          <a:xfrm>
            <a:off x="3924360" y="7920"/>
            <a:ext cx="513072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68200" y="1300320"/>
            <a:ext cx="379908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 más  edificaciones que hagamos o tengamos, todo queda en este mu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5300640"/>
            <a:ext cx="60865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Vivimos conscientes que lo dejaremos tod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9 Rectángulo"/>
          <p:cNvSpPr/>
          <p:nvPr/>
        </p:nvSpPr>
        <p:spPr>
          <a:xfrm>
            <a:off x="108000" y="189000"/>
            <a:ext cx="4824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dificación del sX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357120" y="615960"/>
            <a:ext cx="8429760" cy="6280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el Hijo del hombre vendrá entre sus ángeles, con la gloria de su Padre, y entonces pagará a cada uno según su conducta."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-9360" y="-9360"/>
            <a:ext cx="5131800" cy="6858000"/>
            <a:chOff x="-9360" y="-9360"/>
            <a:chExt cx="5131800" cy="6858000"/>
          </a:xfrm>
        </p:grpSpPr>
        <p:pic>
          <p:nvPicPr>
            <p:cNvPr id="90" name="Picture 6" descr="angel7w"/>
            <p:cNvPicPr/>
            <p:nvPr/>
          </p:nvPicPr>
          <p:blipFill>
            <a:blip r:embed="rId1"/>
            <a:stretch/>
          </p:blipFill>
          <p:spPr>
            <a:xfrm>
              <a:off x="-9360" y="18360"/>
              <a:ext cx="5042160" cy="68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7"/>
            <p:cNvSpPr/>
            <p:nvPr/>
          </p:nvSpPr>
          <p:spPr>
            <a:xfrm>
              <a:off x="4911840" y="-9360"/>
              <a:ext cx="2106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2"/>
          <p:cNvSpPr/>
          <p:nvPr/>
        </p:nvSpPr>
        <p:spPr>
          <a:xfrm>
            <a:off x="5000760" y="115920"/>
            <a:ext cx="403524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ndrá el Hijo del hombre con sus ángeles, a recompensar la bondad de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427640" y="4071960"/>
            <a:ext cx="4608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sabéis que lo que hoy hacéis, tiene valor de eternida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785880" y="620640"/>
            <a:ext cx="7643880" cy="56880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811160" y="1265400"/>
            <a:ext cx="552168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 sabiendo el valor del vivir y del morir, los disfrutemos intensamente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4 Grupo"/>
          <p:cNvGrpSpPr/>
          <p:nvPr/>
        </p:nvGrpSpPr>
        <p:grpSpPr>
          <a:xfrm>
            <a:off x="395280" y="4653000"/>
            <a:ext cx="8286840" cy="1928880"/>
            <a:chOff x="395280" y="4653000"/>
            <a:chExt cx="8286840" cy="1928880"/>
          </a:xfrm>
        </p:grpSpPr>
        <p:sp>
          <p:nvSpPr>
            <p:cNvPr id="98" name="Rectangle 5"/>
            <p:cNvSpPr/>
            <p:nvPr/>
          </p:nvSpPr>
          <p:spPr>
            <a:xfrm>
              <a:off x="395280" y="465300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"/>
            <p:cNvSpPr/>
            <p:nvPr/>
          </p:nvSpPr>
          <p:spPr>
            <a:xfrm>
              <a:off x="609480" y="493092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52400" y="529740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14200" y="6072120"/>
            <a:ext cx="53578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5764db"/>
                </a:solidFill>
                <a:latin typeface="Arial Unicode MS"/>
              </a:rPr>
              <a:t>Fotos de Cesarea de Fil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25440" y="765000"/>
            <a:ext cx="6875640" cy="558036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Cuando han reconocido que Jesús es Hijo de Dios (domingo pasado)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d2d2f4"/>
                </a:solidFill>
                <a:latin typeface="Arial Unicode MS"/>
              </a:rPr>
              <a:t>Tienen que saber que debe sufrir mucho (hoy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2 Grupo"/>
          <p:cNvGrpSpPr/>
          <p:nvPr/>
        </p:nvGrpSpPr>
        <p:grpSpPr>
          <a:xfrm>
            <a:off x="-2048040" y="0"/>
            <a:ext cx="13240080" cy="6858000"/>
            <a:chOff x="-2048040" y="0"/>
            <a:chExt cx="13240080" cy="6858000"/>
          </a:xfrm>
        </p:grpSpPr>
        <p:pic>
          <p:nvPicPr>
            <p:cNvPr id="53" name="1 Imagen" descr=""/>
            <p:cNvPicPr/>
            <p:nvPr/>
          </p:nvPicPr>
          <p:blipFill>
            <a:blip r:embed="rId1"/>
            <a:stretch/>
          </p:blipFill>
          <p:spPr>
            <a:xfrm>
              <a:off x="-2048040" y="0"/>
              <a:ext cx="13240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33"/>
            <p:cNvSpPr/>
            <p:nvPr/>
          </p:nvSpPr>
          <p:spPr>
            <a:xfrm>
              <a:off x="-900360" y="4725360"/>
              <a:ext cx="2160000" cy="1872000"/>
            </a:xfrm>
            <a:prstGeom prst="ellipse">
              <a:avLst/>
            </a:prstGeom>
            <a:noFill/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919080" y="142920"/>
            <a:ext cx="595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 Unicode MS"/>
              </a:rPr>
              <a:t>Conjunto de Cesarea de Fil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78360" y="5013360"/>
            <a:ext cx="5057640" cy="222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Domingo pasado Pedro confesaba a Jesús, ahora es su Tentad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36 -1.96532E-006 L 0.29132 -0.0104 E">
                                      <p:cBhvr>
                                        <p:cTn id="41" dur="1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95280" y="333360"/>
            <a:ext cx="83898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6,21-27 En aquel tiempo, empezó Jesús a explicar a sus discípulos que tenía que ir a Jerusalén y padecer allí mucho por parte de los ancianos, sumos sacerdotes y escribas, y que tenía que ser ejecutado y resucitar al tercer dí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2000" y="6093000"/>
            <a:ext cx="520200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Contornos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120600" y="189000"/>
            <a:ext cx="8915400" cy="6649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79280" y="173160"/>
            <a:ext cx="461016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fesar Jesús Hijo de Dios no es la cima de la 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933800" y="189000"/>
            <a:ext cx="40719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ntendemos que el  camino de Dios es de Amor hasta la Muert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9280" y="6093000"/>
            <a:ext cx="417672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Cima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00040" y="428760"/>
            <a:ext cx="82152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dro se lo llevó aparte y se puso a increparlo: "¡No lo permita Dios, Señor! Eso no puede pasarte." Jesús se volvió y dijo a Pedro: "Quítate de mi vista, Satanás, que me haces tropezar; tú piensas como los hombres, no como Dios."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8" descr="resized_banias7tw"/>
          <p:cNvPicPr/>
          <p:nvPr/>
        </p:nvPicPr>
        <p:blipFill>
          <a:blip r:embed="rId1"/>
          <a:stretch/>
        </p:blipFill>
        <p:spPr>
          <a:xfrm>
            <a:off x="4249800" y="1440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44360" y="189000"/>
            <a:ext cx="550728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ensar como Dios es aceptar el sufrimiento por amor, pensar como los hombres es huir del d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8000" y="3500280"/>
            <a:ext cx="40701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es la “Piedra” donde nos podemos apoyar en las horas osc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659640" y="115920"/>
            <a:ext cx="2376360" cy="11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Restos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68360" y="476280"/>
            <a:ext cx="828036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dijo a sus discípulos: "El que quiera venirse conmigo, que se niegue a sí mismo, que cargue con su cruz y me sig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1258920" y="855720"/>
            <a:ext cx="7764480" cy="581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08000" y="115920"/>
            <a:ext cx="84963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bemos transformar, a diario, el camino hacia la muerte y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10960" y="1562040"/>
            <a:ext cx="27370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muerte ilumina la vida, y la vida da fuerza a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8-21T10:44:02Z</dcterms:modified>
  <cp:revision>622</cp:revision>
  <dc:subject/>
  <dc:title>evangeli</dc:title>
</cp:coreProperties>
</file>