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Pie%20Jesu%20de%20Duruflew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E024-D176-4376-A749-7A50942C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4EDA-8A27-4A45-9EC4-686876B2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54A-D007-4467-B47A-CB35F47B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438-B2CB-4553-A9C0-5888DDA8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CC90-C526-45C5-9BAD-3DD58943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25B6-7D40-4AF3-AD19-E61EAD3B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920-F496-40EC-BAC7-C3593788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40E-E5E4-467A-B6DA-3181DD8E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CD72-9640-497D-B5CE-373B18AB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EB7-65C3-4A32-806C-015E8CD2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F4D-BB3C-4854-8A14-44C8435E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4A41-C98E-447D-9BF7-9B19BCE8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4B79-24B0-462E-A912-53291CDC593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ie%20Jesu%20de%20Durufle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stbenet@benedictinescat.com" TargetMode="External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857160" y="4508640"/>
            <a:ext cx="4000680" cy="18003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l “Pie Jesu” de Durufle nos invita a ir con Él a la muerte y resur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853200" y="2924280"/>
            <a:ext cx="43167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6000" spc="-1" strike="noStrike">
                <a:solidFill>
                  <a:srgbClr val="460000"/>
                </a:solidFill>
                <a:latin typeface="Arial Unicode MS"/>
              </a:rPr>
              <a:t>22 AÑO c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7 Imagen" descr="Emaustttcc.jpg"/>
          <p:cNvPicPr/>
          <p:nvPr/>
        </p:nvPicPr>
        <p:blipFill>
          <a:blip r:embed="rId1"/>
          <a:stretch/>
        </p:blipFill>
        <p:spPr>
          <a:xfrm>
            <a:off x="6175440" y="1278000"/>
            <a:ext cx="2440080" cy="5317920"/>
          </a:xfrm>
          <a:prstGeom prst="rect">
            <a:avLst/>
          </a:prstGeom>
          <a:ln w="0">
            <a:noFill/>
          </a:ln>
        </p:spPr>
      </p:pic>
      <p:grpSp>
        <p:nvGrpSpPr>
          <p:cNvPr id="45" name="8 Grupo"/>
          <p:cNvGrpSpPr/>
          <p:nvPr/>
        </p:nvGrpSpPr>
        <p:grpSpPr>
          <a:xfrm>
            <a:off x="571680" y="357120"/>
            <a:ext cx="5003640" cy="1940040"/>
            <a:chOff x="571680" y="357120"/>
            <a:chExt cx="5003640" cy="1940040"/>
          </a:xfrm>
        </p:grpSpPr>
        <p:sp>
          <p:nvSpPr>
            <p:cNvPr id="46" name="7 Rectángulo"/>
            <p:cNvSpPr/>
            <p:nvPr/>
          </p:nvSpPr>
          <p:spPr>
            <a:xfrm>
              <a:off x="571680" y="357120"/>
              <a:ext cx="5000760" cy="1857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WordArt 87"/>
            <p:cNvSpPr txBox="1"/>
            <p:nvPr/>
          </p:nvSpPr>
          <p:spPr>
            <a:xfrm>
              <a:off x="571680" y="428400"/>
              <a:ext cx="5003640" cy="186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0">
                    <a:noFill/>
                  </a:ln>
                  <a:gradFill rotWithShape="0">
                    <a:gsLst>
                      <a:gs pos="0">
                        <a:srgbClr val="ef2a03"/>
                      </a:gs>
                      <a:gs pos="100000">
                        <a:srgbClr val="580604"/>
                      </a:gs>
                    </a:gsLst>
                    <a:lin ang="5400000"/>
                  </a:gradFill>
                  <a:effectLst>
                    <a:outerShdw dist="38183" dir="2700000" blurRad="0" rotWithShape="0">
                      <a:srgbClr val="c00000">
                        <a:alpha val="43000"/>
                      </a:srgbClr>
                    </a:outerShdw>
                  </a:effectLst>
                  <a:latin typeface="Arial Black"/>
                </a:rPr>
                <a:t>DOMINGO</a:t>
              </a:r>
              <a:endPara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ef2a03"/>
                    </a:gs>
                    <a:gs pos="100000">
                      <a:srgbClr val="580604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c00000">
                      <a:alpha val="43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8" name="14 CuadroTexto"/>
          <p:cNvSpPr/>
          <p:nvPr/>
        </p:nvSpPr>
        <p:spPr>
          <a:xfrm>
            <a:off x="6143760" y="6143760"/>
            <a:ext cx="1214280" cy="10076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Mistral"/>
              </a:rPr>
              <a:t>Regi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Pie%20Jesu%20de%20Durufle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0"/>
          <p:cNvSpPr/>
          <p:nvPr/>
        </p:nvSpPr>
        <p:spPr>
          <a:xfrm>
            <a:off x="714240" y="1214280"/>
            <a:ext cx="7929720" cy="50457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i uno quiere salvar su vida, la perderá; pero el que la pierda por mí la encontrará.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1 Imagen" descr=""/>
          <p:cNvPicPr/>
          <p:nvPr/>
        </p:nvPicPr>
        <p:blipFill>
          <a:blip r:embed="rId1"/>
          <a:stretch/>
        </p:blipFill>
        <p:spPr>
          <a:xfrm>
            <a:off x="693720" y="47520"/>
            <a:ext cx="8424720" cy="6821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179280" y="189000"/>
            <a:ext cx="8759880" cy="7034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ara el evangelio perder es gan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79280" y="1052640"/>
            <a:ext cx="273708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Dios nos gana, perdien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96840" y="5589720"/>
            <a:ext cx="3754440" cy="169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 Unicode MS"/>
              </a:rPr>
              <a:t>Restos de la Cesarea roman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"/>
          <p:cNvSpPr/>
          <p:nvPr/>
        </p:nvSpPr>
        <p:spPr>
          <a:xfrm>
            <a:off x="611280" y="407880"/>
            <a:ext cx="7959600" cy="61268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¿De qué le sirve a un hombre ganar el mundo entero, si arruina su vida? ¿O qué podrá dar para recobrarla?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1 Imagen" descr=""/>
          <p:cNvPicPr/>
          <p:nvPr/>
        </p:nvPicPr>
        <p:blipFill>
          <a:blip r:embed="rId1"/>
          <a:stretch/>
        </p:blipFill>
        <p:spPr>
          <a:xfrm>
            <a:off x="3924360" y="7920"/>
            <a:ext cx="5130720" cy="6850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268200" y="1300320"/>
            <a:ext cx="3799080" cy="37508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or más  edificaciones que hagamos o tengamos, todo queda en este mun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14200" y="5300640"/>
            <a:ext cx="60865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Vivimos conscientes que lo dejaremos todo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9 Rectángulo"/>
          <p:cNvSpPr/>
          <p:nvPr/>
        </p:nvSpPr>
        <p:spPr>
          <a:xfrm>
            <a:off x="108000" y="189000"/>
            <a:ext cx="4824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Edificación del sX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"/>
          <p:cNvSpPr/>
          <p:nvPr/>
        </p:nvSpPr>
        <p:spPr>
          <a:xfrm>
            <a:off x="357120" y="615960"/>
            <a:ext cx="8429760" cy="62805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orque el Hijo del hombre vendrá entre sus ángeles, con la gloria de su Padre, y entonces pagará a cada uno según su conducta."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-9360" y="-9360"/>
            <a:ext cx="5131800" cy="6858000"/>
            <a:chOff x="-9360" y="-9360"/>
            <a:chExt cx="5131800" cy="6858000"/>
          </a:xfrm>
        </p:grpSpPr>
        <p:pic>
          <p:nvPicPr>
            <p:cNvPr id="90" name="Picture 6" descr="angel7w"/>
            <p:cNvPicPr/>
            <p:nvPr/>
          </p:nvPicPr>
          <p:blipFill>
            <a:blip r:embed="rId1"/>
            <a:stretch/>
          </p:blipFill>
          <p:spPr>
            <a:xfrm>
              <a:off x="-9360" y="18360"/>
              <a:ext cx="5042160" cy="68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7"/>
            <p:cNvSpPr/>
            <p:nvPr/>
          </p:nvSpPr>
          <p:spPr>
            <a:xfrm>
              <a:off x="4911840" y="-9360"/>
              <a:ext cx="210600" cy="685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Text Box 2"/>
          <p:cNvSpPr/>
          <p:nvPr/>
        </p:nvSpPr>
        <p:spPr>
          <a:xfrm>
            <a:off x="5000760" y="115920"/>
            <a:ext cx="4035240" cy="37508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Vendrá el Hijo del hombre con sus ángeles, a recompensar la bondad de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ada u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427640" y="4071960"/>
            <a:ext cx="460836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No sabéis que lo que hoy hacéis, tiene valor de eternida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785880" y="620640"/>
            <a:ext cx="7643880" cy="5688000"/>
          </a:xfrm>
          <a:prstGeom prst="rect">
            <a:avLst/>
          </a:prstGeom>
          <a:gradFill rotWithShape="0">
            <a:gsLst>
              <a:gs pos="0">
                <a:srgbClr val="460000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1811160" y="1265400"/>
            <a:ext cx="5521680" cy="43603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Señor, haz que sabiendo el valor del vivir y del morir, los disfrutemos intensamente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4 Grupo"/>
          <p:cNvGrpSpPr/>
          <p:nvPr/>
        </p:nvGrpSpPr>
        <p:grpSpPr>
          <a:xfrm>
            <a:off x="395280" y="4653000"/>
            <a:ext cx="8286840" cy="1928880"/>
            <a:chOff x="395280" y="4653000"/>
            <a:chExt cx="8286840" cy="1928880"/>
          </a:xfrm>
        </p:grpSpPr>
        <p:sp>
          <p:nvSpPr>
            <p:cNvPr id="98" name="Rectangle 5"/>
            <p:cNvSpPr/>
            <p:nvPr/>
          </p:nvSpPr>
          <p:spPr>
            <a:xfrm>
              <a:off x="395280" y="4653000"/>
              <a:ext cx="8286840" cy="192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2"/>
            <p:cNvSpPr/>
            <p:nvPr/>
          </p:nvSpPr>
          <p:spPr>
            <a:xfrm>
              <a:off x="609480" y="4930920"/>
              <a:ext cx="7782480" cy="1404000"/>
            </a:xfrm>
            <a:prstGeom prst="rect">
              <a:avLst/>
            </a:prstGeom>
            <a:gradFill rotWithShape="0">
              <a:gsLst>
                <a:gs pos="0">
                  <a:srgbClr val="5a3e16"/>
                </a:gs>
                <a:gs pos="100000">
                  <a:srgbClr val="c99f5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s-ES_tradnl" sz="3000" spc="-1" strike="noStrike">
                  <a:solidFill>
                    <a:srgbClr val="ffffff"/>
                  </a:solidFill>
                  <a:latin typeface="Arial"/>
                </a:rPr>
                <a:t>onjas  de  St. Benet de Montserrat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_tradnl" sz="2800" spc="-1" strike="noStrike" u="sng">
                  <a:solidFill>
                    <a:srgbClr val="ccccff"/>
                  </a:solidFill>
                  <a:uFillTx/>
                  <a:latin typeface="Arial"/>
                  <a:hlinkClick r:id="rId1"/>
                </a:rPr>
                <a:t>stbenet@benedictinescat.com</a:t>
              </a: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0" lang="es-ES" sz="2800" spc="-1" strike="noStrike" u="sng">
                  <a:solidFill>
                    <a:srgbClr val="ccccff"/>
                  </a:solidFill>
                  <a:uFillTx/>
                  <a:latin typeface="Arial"/>
                  <a:hlinkClick r:id="rId2"/>
                </a:rPr>
                <a:t>www.benedictinescat.com/montserr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Picture 7" descr="C:\Documents and Settings\st benet\Mis documentos\Fotos\SBw.jpg"/>
            <p:cNvPicPr/>
            <p:nvPr/>
          </p:nvPicPr>
          <p:blipFill>
            <a:blip r:embed="rId3"/>
            <a:stretch/>
          </p:blipFill>
          <p:spPr>
            <a:xfrm>
              <a:off x="752400" y="5297400"/>
              <a:ext cx="827280" cy="712800"/>
            </a:xfrm>
            <a:prstGeom prst="rect">
              <a:avLst/>
            </a:prstGeom>
            <a:ln w="38160">
              <a:solidFill>
                <a:srgbClr val="76521c"/>
              </a:solidFill>
              <a:miter/>
            </a:ln>
          </p:spPr>
        </p:pic>
      </p:grp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214200" y="6072120"/>
            <a:ext cx="535788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5764db"/>
                </a:solidFill>
                <a:latin typeface="Arial Unicode MS"/>
              </a:rPr>
              <a:t>Fotos de Cesarea de Fil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225440" y="765000"/>
            <a:ext cx="6875640" cy="558036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</a:rPr>
              <a:t>Cuando han reconocido que Jesús es Hijo de Dios (domingo pasado)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s-ES" sz="4500" spc="-1" strike="noStrike">
                <a:solidFill>
                  <a:srgbClr val="d2d2f4"/>
                </a:solidFill>
                <a:latin typeface="Arial Unicode MS"/>
              </a:rPr>
              <a:t>Tienen que saber que debe sufrir mucho (hoy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6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6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2 Grupo"/>
          <p:cNvGrpSpPr/>
          <p:nvPr/>
        </p:nvGrpSpPr>
        <p:grpSpPr>
          <a:xfrm>
            <a:off x="-2048040" y="0"/>
            <a:ext cx="13240080" cy="6858000"/>
            <a:chOff x="-2048040" y="0"/>
            <a:chExt cx="13240080" cy="6858000"/>
          </a:xfrm>
        </p:grpSpPr>
        <p:pic>
          <p:nvPicPr>
            <p:cNvPr id="53" name="1 Imagen" descr=""/>
            <p:cNvPicPr/>
            <p:nvPr/>
          </p:nvPicPr>
          <p:blipFill>
            <a:blip r:embed="rId1"/>
            <a:stretch/>
          </p:blipFill>
          <p:spPr>
            <a:xfrm>
              <a:off x="-2048040" y="0"/>
              <a:ext cx="13240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Oval 33"/>
            <p:cNvSpPr/>
            <p:nvPr/>
          </p:nvSpPr>
          <p:spPr>
            <a:xfrm>
              <a:off x="-900360" y="4725360"/>
              <a:ext cx="2160000" cy="1872000"/>
            </a:xfrm>
            <a:prstGeom prst="ellipse">
              <a:avLst/>
            </a:prstGeom>
            <a:noFill/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Text Box 6"/>
          <p:cNvSpPr/>
          <p:nvPr/>
        </p:nvSpPr>
        <p:spPr>
          <a:xfrm>
            <a:off x="919080" y="142920"/>
            <a:ext cx="595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 Unicode MS"/>
              </a:rPr>
              <a:t>Conjunto de Cesarea de Fil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978360" y="5013360"/>
            <a:ext cx="5057640" cy="222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Domingo pasado Pedro confesaba a Jesús, ahora es su Tentado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736 -1.96532E-006 L 0.29132 -0.0104 E">
                                      <p:cBhvr>
                                        <p:cTn id="41" dur="1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95280" y="333360"/>
            <a:ext cx="8389800" cy="61268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t 16,21-27 En aquel tiempo, empezó Jesús a explicar a sus discípulos que tenía que ir a Jerusalén y padecer allí mucho por parte de los ancianos, sumos sacerdotes y escribas, y que tenía que ser ejecutado y resucitar al tercer día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62000" y="6093000"/>
            <a:ext cx="5202000" cy="62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Contornos de Cesar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1 Imagen" descr=""/>
          <p:cNvPicPr/>
          <p:nvPr/>
        </p:nvPicPr>
        <p:blipFill>
          <a:blip r:embed="rId1"/>
          <a:stretch/>
        </p:blipFill>
        <p:spPr>
          <a:xfrm>
            <a:off x="120600" y="189000"/>
            <a:ext cx="8915400" cy="6649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179280" y="173160"/>
            <a:ext cx="4610160" cy="19224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onfesar Jesús Hijo de Dios no es la cima de la 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4933800" y="189000"/>
            <a:ext cx="407196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Entendemos que el  camino de Dios es de Amor hasta la Muert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79280" y="6093000"/>
            <a:ext cx="4176720" cy="62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 Unicode MS"/>
              </a:rPr>
              <a:t>Cima de Cesar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500040" y="428760"/>
            <a:ext cx="8215200" cy="61268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dro se lo llevó aparte y se puso a increparlo: "¡No lo permita Dios, Señor! Eso no puede pasarte." Jesús se volvió y dijo a Pedro: "Quítate de mi vista, Satanás, que me haces tropezar; tú piensas como los hombres, no como Dios."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8" descr="resized_banias7tw"/>
          <p:cNvPicPr/>
          <p:nvPr/>
        </p:nvPicPr>
        <p:blipFill>
          <a:blip r:embed="rId1"/>
          <a:stretch/>
        </p:blipFill>
        <p:spPr>
          <a:xfrm>
            <a:off x="4249800" y="14400"/>
            <a:ext cx="48942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144360" y="189000"/>
            <a:ext cx="5507280" cy="31413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ensar como Dios es aceptar el sufrimiento por amor, pensar como los hombres es huir del dol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8000" y="3500280"/>
            <a:ext cx="407016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ta es la “Piedra” donde nos podemos apoyar en las horas oscu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659640" y="115920"/>
            <a:ext cx="2376360" cy="116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500" spc="-1" strike="noStrike">
                <a:solidFill>
                  <a:srgbClr val="ffffff"/>
                </a:solidFill>
                <a:latin typeface="Arial Unicode MS"/>
              </a:rPr>
              <a:t>Restos de Cesar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"/>
          <p:cNvSpPr/>
          <p:nvPr/>
        </p:nvSpPr>
        <p:spPr>
          <a:xfrm>
            <a:off x="468360" y="476280"/>
            <a:ext cx="8280360" cy="64947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tonces dijo a sus discípulos: "El que quiera venirse conmigo, que se niegue a sí mismo, que cargue con su cruz y me siga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1 Imagen" descr=""/>
          <p:cNvPicPr/>
          <p:nvPr/>
        </p:nvPicPr>
        <p:blipFill>
          <a:blip r:embed="rId1"/>
          <a:stretch/>
        </p:blipFill>
        <p:spPr>
          <a:xfrm>
            <a:off x="1258920" y="855720"/>
            <a:ext cx="7764480" cy="5813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108000" y="115920"/>
            <a:ext cx="849636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ebemos transformar, a diario, el camino hacia la muerte y la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10960" y="1562040"/>
            <a:ext cx="273708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a muerte ilumina la vida, y la vida da fuerza a la mue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REGINA</cp:lastModifiedBy>
  <dcterms:modified xsi:type="dcterms:W3CDTF">2011-08-21T10:44:02Z</dcterms:modified>
  <cp:revision>622</cp:revision>
  <dc:subject/>
  <dc:title>evangeli</dc:title>
</cp:coreProperties>
</file>