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Unchained%20melody.wav" ContentType="audio/x-wav"/>
  <Override PartName="/ppt/media/image2.gif" ContentType="image/gif"/>
  <Override PartName="/ppt/media/image3.gif" ContentType="image/gif"/>
  <Override PartName="/ppt/media/Ris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DEC-85E8-4DC9-9119-69941DA6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A8F-4126-4DAB-BAD3-EED4DDF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B36-783E-4B40-9093-41CE8C0A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D9F-8296-4477-A2A0-EC7FB6D5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DF4-6FD5-4EBB-A40E-FE1942A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FD7-CC46-4509-8563-B6BC3B4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4B5-AF63-41C5-9295-C23A6529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A1C-6736-440C-8252-8A6DC75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20A-EAF8-4AD6-932B-BED3365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B99-F89C-47C4-A60F-7E12FF0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CC0-CA2C-4B38-A9AC-CD11CA31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B57-A8C4-4532-99DD-069D42C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8C4-6D02-4B4B-9A70-2A9EFD80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Risad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341360"/>
            <a:ext cx="8064360" cy="24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CONFIDENCIALID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4365720"/>
            <a:ext cx="40338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Muy  importa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p:transition spd="med">
    <p:zoom dir="out"/>
    <p:sndAc>
      <p:stSnd>
        <p:snd r:embed="rId2" name="Unchained%20melo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a mujer le dice a su cirujano plástico que ella quería reducir su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labios vaginales en tamaño, porque estaban muy sueltos y flameantes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Debido al bochorno insistió que la cirugía se mantuviera en secret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y el cirujano aceptó.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liendo de la anestesia, encontró 3 rosas cuidadosamente colocad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junto a su cama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Fuera de sí, ella inmediatamente llamó al doctor. 'Pensé que l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había pedido que no le diga a nadie sobre mi operación!'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cirujano le dijo que había llevado a cabo su deseo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confidencialidad y que la primera rosa era de parte de él: 'Me di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lástima porque pasó por todo esto sola.'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La segunda rosa es de mi enfermera. Me asistió en la cirugía y s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 identificó porque ella pasó por el mismo procedimiento hace algú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tiempo atrás.'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¿Y qué hay de la tercera rosa?' preguntó ella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'Esa es de un hombre que está en el piso de arriba, en la unidad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mados. Quería agradecerle por sus nuevas orejas…….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28000" y="630864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431964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608880" y="4005360"/>
            <a:ext cx="2260440" cy="263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20:19:06Z</dcterms:created>
  <dc:creator>Carmen</dc:creator>
  <dc:description/>
  <dc:language>en-US</dc:language>
  <cp:lastModifiedBy>Carmen</cp:lastModifiedBy>
  <dcterms:modified xsi:type="dcterms:W3CDTF">2008-06-22T20:50:15Z</dcterms:modified>
  <cp:revision>2</cp:revision>
  <dc:subject>www.laboutiquedelpowerpoint.com</dc:subject>
  <dc:title>Diapositiva 1</dc:title>
</cp:coreProperties>
</file>