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Unchained%20melody.wav" ContentType="audio/x-wav"/>
  <Override PartName="/ppt/media/image2.gif" ContentType="image/gif"/>
  <Override PartName="/ppt/media/image3.gif" ContentType="image/gif"/>
  <Override PartName="/ppt/media/Risad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466-A830-4135-8894-1DC84ADE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A3F-75EF-4261-A0DF-77862EE9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E54-A076-4E97-851C-FF9C790D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2AE-0DA1-4262-A660-154C6D42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ED8-547D-43AF-BD3B-91627481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A7C-8232-4C30-B91E-F0E411C6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E3C-15ED-4B9D-9D96-E7E93595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D15-B197-48DD-AC17-D60CFA20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2D7-A26C-4E6F-A57C-ADB0F676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35B-35A3-4408-9C2D-0A5C5CA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645-E07C-45B0-8878-04A55529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1E4-A659-4C58-88F5-969B7CE2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07A5-61B8-477B-A9E8-F077421B4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Unchained%20melod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Risad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217440" cy="19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1341360"/>
            <a:ext cx="8064360" cy="24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CONFIDENCIALIDA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84360" y="4365720"/>
            <a:ext cx="403380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Muy  importan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p:transition spd="med">
    <p:zoom dir="out"/>
    <p:sndAc>
      <p:stSnd>
        <p:snd r:embed="rId2" name="Unchained%20melo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a mujer le dice a su cirujano plástico que ella quería reducir su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labios vaginales en tamaño, porque estaban muy sueltos y flameantes.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Debido al bochorno insistió que la cirugía se mantuviera en secret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y el cirujano aceptó.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liendo de la anestesia, encontró 3 rosas cuidadosamente colocada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    junto a su cama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    Fuera de sí, ella inmediatamente llamó al doctor. 'Pensé que le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    había pedido que no le diga a nadie sobre mi operación!'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cirujano le dijo que había llevado a cabo su deseo d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confidencialidad y que la primera rosa era de parte de él: 'Me dio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lástima porque pasó por todo esto sola.'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La segunda rosa es de mi enfermera. Me asistió en la cirugía y s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 identificó porque ella pasó por el mismo procedimiento hace algún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tiempo atrás.'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¿Y qué hay de la tercera rosa?' preguntó ella.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    'Esa es de un hombre que está en el piso de arriba, en la unidad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emados. Quería agradecerle por sus nuevas orejas…….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28000" y="630864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4319640" cy="43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608880" y="4005360"/>
            <a:ext cx="2260440" cy="263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20:19:06Z</dcterms:created>
  <dc:creator>Carmen</dc:creator>
  <dc:description/>
  <dc:language>en-US</dc:language>
  <cp:lastModifiedBy>Carmen</cp:lastModifiedBy>
  <dcterms:modified xsi:type="dcterms:W3CDTF">2008-06-22T20:50:15Z</dcterms:modified>
  <cp:revision>2</cp:revision>
  <dc:subject>www.laboutiquedelpowerpoint.com</dc:subject>
  <dc:title>Diapositiva 1</dc:title>
</cp:coreProperties>
</file>