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gif" ContentType="image/gif"/>
  <Override PartName="/ppt/media/image12.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BBA87-DE1C-48E0-B70D-A801AECDC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C04D0-B6BA-45E5-8211-43B4E031D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99625-B586-43E5-8E1E-6AD3D5CBF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8D7CB-A965-474C-84D5-FE7F8A34B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7DC1E-B79B-4C76-89A7-E52817C32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9DCEF-393D-4890-98DC-E94078030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6D7E2-E77C-4DC4-B419-2DC5F3D02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9C3C0-0800-4915-B30C-48DC2EAE4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0A678-F68E-428B-B394-C06E1BE48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A077A-F3B3-4B96-A6E2-5E6C3022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4BD54-35AB-43CF-8C22-2B1BC7C04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8DB8-93C2-4680-A8F0-2FA35B7F1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DFA2-1D74-43DF-8C9D-EADEDE81979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co/imgres?imgurl=http://www.redogcolombia.org/images/photos/terremoto_pereira.jpg&amp;imgrefurl=http://www.redogcolombia.org/documentos/usuarios.htm&amp;h=341&amp;w=540&amp;sz=48&amp;tbnid=GuvKjwpl6oIzgM:&amp;tbnh=82&amp;tbnw=130&amp;hl=es&amp;start=1&amp;prev=/images%3Fq%3Dterremoto%2BPereira%26svnum%3D10%26hl%3Des%26lr%3D"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Tahoma"/>
              </a:rPr>
              <a:t>NO SABEMOS SI HOY VA A TEMBL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505320"/>
            <a:ext cx="6400800" cy="21333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Por favor hacerlo circular, no sabemos cuantas vidas se pueden salvar en caso de una emergencia de este estil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723920" y="456840"/>
            <a:ext cx="4038840" cy="609588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Si usted está en su cama durante la noche y sucede un terremoto, simplemente ruede hacia el suelo. Un espacio vacío existe ya alrededor de su cama. Los hoteles tendrían mayor cantidad de sobrevivientes si colocasen detrás de las puertas un cartel que diga expresamente que en caso de terremoto las personas deben acostarse al lado de la cama durante un terremoto. </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685800" y="1371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880" y="1143000"/>
            <a:ext cx="4114800" cy="4952880"/>
          </a:xfrm>
          <a:prstGeom prst="rect">
            <a:avLst/>
          </a:prstGeom>
          <a:noFill/>
          <a:ln w="0">
            <a:noFill/>
          </a:ln>
        </p:spPr>
        <p:txBody>
          <a:bodyPr lIns="90000" rIns="90000" tIns="46800" bIns="46800" anchor="t">
            <a:normAutofit fontScale="95000"/>
          </a:bodyPr>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Si comienza un terremoto mientras está viendo TV y no puede salirse fácilmente por una puerta o ventana, entonces acuéstese en posición fetal al lado de un sofá, una silla grande o mueble grande (como -por ejemplo- una cómoda o chiffonier).</a:t>
            </a:r>
            <a:r>
              <a:rPr b="0" lang="es-E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74" name="" descr=""/>
          <p:cNvPicPr/>
          <p:nvPr/>
        </p:nvPicPr>
        <p:blipFill>
          <a:blip r:embed="rId2"/>
          <a:stretch/>
        </p:blipFill>
        <p:spPr>
          <a:xfrm>
            <a:off x="4648320" y="2610000"/>
            <a:ext cx="3809880" cy="285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038480" y="837720"/>
            <a:ext cx="4724640" cy="5715000"/>
          </a:xfrm>
          <a:prstGeom prst="rect">
            <a:avLst/>
          </a:prstGeom>
          <a:noFill/>
          <a:ln w="0">
            <a:noFill/>
          </a:ln>
        </p:spPr>
        <p:txBody>
          <a:bodyPr lIns="90000" rIns="90000" tIns="46800" bIns="46800" anchor="t">
            <a:normAutofit fontScale="99000"/>
          </a:bodyPr>
          <a:p>
            <a:pPr marL="33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Tahoma"/>
                <a:ea typeface="Tahoma"/>
              </a:rPr>
              <a:t>	</a:t>
            </a:r>
            <a:r>
              <a:rPr b="0" lang="es-ES" sz="2300" spc="-1" strike="noStrike">
                <a:solidFill>
                  <a:srgbClr val="000000"/>
                </a:solidFill>
                <a:latin typeface="Tahoma"/>
                <a:ea typeface="Tahoma"/>
              </a:rPr>
              <a:t>Cualquier persona que se pare debajo de una puerta cuando un edificio colapsa puede morir. ¿Por qué?... Porque si usted está parado debajo del marco de la puerta y el marco de la puerta cede y se mueve hacia delante o hacia atrás, usted puede morir aplastado por el techo o el cielorraso. Si el marco de la puerta se cae hacia algún costado, el marco lo va a cortar por la mitad con su peso. En cualquiera de los dos casos usted va a morir; por lo tanto, ¡no se pare debajo del marco de una puerta! </a:t>
            </a:r>
            <a:endParaRPr b="0" lang="en-US" sz="2300" spc="-1" strike="noStrike">
              <a:solidFill>
                <a:srgbClr val="000000"/>
              </a:solidFill>
              <a:latin typeface="Times New Roman"/>
            </a:endParaRPr>
          </a:p>
        </p:txBody>
      </p:sp>
      <p:pic>
        <p:nvPicPr>
          <p:cNvPr id="76" name="" descr=""/>
          <p:cNvPicPr/>
          <p:nvPr/>
        </p:nvPicPr>
        <p:blipFill>
          <a:blip r:embed="rId2"/>
          <a:stretch/>
        </p:blipFill>
        <p:spPr>
          <a:xfrm>
            <a:off x="762120" y="1219320"/>
            <a:ext cx="2760480" cy="4114800"/>
          </a:xfrm>
          <a:prstGeom prst="rect">
            <a:avLst/>
          </a:prstGeom>
          <a:ln w="0">
            <a:noFill/>
          </a:ln>
        </p:spPr>
      </p:pic>
      <p:sp>
        <p:nvSpPr>
          <p:cNvPr id="77" name=""/>
          <p:cNvSpPr/>
          <p:nvPr/>
        </p:nvSpPr>
        <p:spPr>
          <a:xfrm rot="18777000">
            <a:off x="335520" y="1416600"/>
            <a:ext cx="3851280" cy="3608280"/>
          </a:xfrm>
          <a:custGeom>
            <a:avLst/>
            <a:gdLst>
              <a:gd name="textAreaLeft" fmla="*/ 0 w 3851280"/>
              <a:gd name="textAreaRight" fmla="*/ 3851640 w 3851280"/>
              <a:gd name="textAreaTop" fmla="*/ 0 h 3608280"/>
              <a:gd name="textAreaBottom" fmla="*/ 3608640 h 3608280"/>
            </a:gdLst>
            <a:ahLst/>
            <a:rect l="textAreaLeft" t="textAreaTop" r="textAreaRight" b="textAreaBottom"/>
            <a:pathLst>
              <a:path w="21600" h="21600">
                <a:moveTo>
                  <a:pt x="0" y="10800"/>
                </a:moveTo>
                <a:lnTo>
                  <a:pt x="1383" y="6500"/>
                </a:lnTo>
                <a:lnTo>
                  <a:pt x="1383" y="10098"/>
                </a:lnTo>
                <a:lnTo>
                  <a:pt x="10098" y="10098"/>
                </a:lnTo>
                <a:lnTo>
                  <a:pt x="10098" y="1383"/>
                </a:lnTo>
                <a:lnTo>
                  <a:pt x="6500" y="1383"/>
                </a:lnTo>
                <a:lnTo>
                  <a:pt x="10800" y="0"/>
                </a:lnTo>
                <a:lnTo>
                  <a:pt x="15100" y="1383"/>
                </a:lnTo>
                <a:lnTo>
                  <a:pt x="11502" y="1383"/>
                </a:lnTo>
                <a:lnTo>
                  <a:pt x="11502" y="10098"/>
                </a:lnTo>
                <a:lnTo>
                  <a:pt x="20217" y="10098"/>
                </a:lnTo>
                <a:lnTo>
                  <a:pt x="20217" y="6500"/>
                </a:lnTo>
                <a:lnTo>
                  <a:pt x="21600" y="10800"/>
                </a:lnTo>
                <a:lnTo>
                  <a:pt x="20217" y="15100"/>
                </a:lnTo>
                <a:lnTo>
                  <a:pt x="20217" y="11502"/>
                </a:lnTo>
                <a:lnTo>
                  <a:pt x="11502" y="11502"/>
                </a:lnTo>
                <a:lnTo>
                  <a:pt x="11502" y="20217"/>
                </a:lnTo>
                <a:lnTo>
                  <a:pt x="15100" y="20217"/>
                </a:lnTo>
                <a:lnTo>
                  <a:pt x="10800" y="21600"/>
                </a:lnTo>
                <a:lnTo>
                  <a:pt x="6500" y="20217"/>
                </a:lnTo>
                <a:lnTo>
                  <a:pt x="10098" y="20217"/>
                </a:lnTo>
                <a:lnTo>
                  <a:pt x="10098" y="11502"/>
                </a:lnTo>
                <a:lnTo>
                  <a:pt x="1383" y="11502"/>
                </a:lnTo>
                <a:lnTo>
                  <a:pt x="1383" y="151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1142640"/>
            <a:ext cx="3886200" cy="47242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3000" spc="-1" strike="noStrike">
                <a:solidFill>
                  <a:srgbClr val="000000"/>
                </a:solidFill>
                <a:latin typeface="Tahoma"/>
                <a:ea typeface="Tahoma"/>
              </a:rPr>
              <a:t>Trate en lo posible de no salir por escaleras. Estas tienen diferentes "momentos de frecuencia" y se mueven de forma diferente al resto del edificio.</a:t>
            </a:r>
            <a:r>
              <a:rPr b="0" lang="es-ES" sz="3000" spc="-1" strike="noStrike">
                <a:solidFill>
                  <a:srgbClr val="000000"/>
                </a:solidFill>
                <a:latin typeface="Times New Roman"/>
              </a:rPr>
              <a:t> </a:t>
            </a:r>
            <a:endParaRPr b="0" lang="en-US" sz="3000" spc="-1" strike="noStrike">
              <a:solidFill>
                <a:srgbClr val="000000"/>
              </a:solidFill>
              <a:latin typeface="Times New Roman"/>
            </a:endParaRPr>
          </a:p>
        </p:txBody>
      </p:sp>
      <p:pic>
        <p:nvPicPr>
          <p:cNvPr id="79" name="" descr=""/>
          <p:cNvPicPr/>
          <p:nvPr/>
        </p:nvPicPr>
        <p:blipFill>
          <a:blip r:embed="rId2"/>
          <a:stretch/>
        </p:blipFill>
        <p:spPr>
          <a:xfrm>
            <a:off x="4800600" y="19810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419720" y="304560"/>
            <a:ext cx="4495680" cy="6095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Colóquese cerca de las paredes exteriores de los edificios o bien fuera de ellos en lo posible. Es mucho mejor estar fuera de un edificio que dentro de él. Cuánto más adentro del perímetro del edificio más seguro es que su salida se encuentre bloqueada y sea más difícil y complicado salir. </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838080" y="1371600"/>
            <a:ext cx="305136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80880" y="609480"/>
            <a:ext cx="4267440" cy="5486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Si está dentro de un carro, salga del mismo y siéntese o acuéstese al lado del mismo. Sea lo que sea que caiga sobre el auto, siempre dejará un espacio vacío a sus lados. Estamos más acostumbrados a escuchar lo que se pensaba antes que era lo mejor. Pero las cosas ¡han cambiado!</a:t>
            </a:r>
            <a:br>
              <a:rPr sz="2800"/>
            </a:br>
            <a:endParaRPr b="0" lang="en-US" sz="2800" spc="-1" strike="noStrike">
              <a:solidFill>
                <a:srgbClr val="000000"/>
              </a:solidFill>
              <a:latin typeface="Times New Roman"/>
            </a:endParaRPr>
          </a:p>
        </p:txBody>
      </p:sp>
      <p:pic>
        <p:nvPicPr>
          <p:cNvPr id="83" name="" descr=""/>
          <p:cNvPicPr/>
          <p:nvPr/>
        </p:nvPicPr>
        <p:blipFill>
          <a:blip r:embed="rId2"/>
          <a:stretch/>
        </p:blipFill>
        <p:spPr>
          <a:xfrm>
            <a:off x="4648320" y="1600200"/>
            <a:ext cx="3809880" cy="347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190760" y="761760"/>
            <a:ext cx="4800600" cy="609588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Dado que, por alguna razón ahora nos toca a nosotros, Argentinos, Colombianos, Paraguayos, Peruanos, Ecuatorianos, Brasileños, Bolivianos, Venezolanos, Chilenos, Uruguayos, Cubanos, Panameños... y otras nacionalidades: hagan circular estas instrucciones para poder sugerir qué hacer en esos días, en el caso de que exista un sismo importante como el ocurrido en México... sea ahora o en un futuro próximo. </a:t>
            </a:r>
            <a:endParaRPr b="0" lang="en-US" sz="2600" spc="-1" strike="noStrike">
              <a:solidFill>
                <a:srgbClr val="000000"/>
              </a:solidFill>
              <a:latin typeface="Times New Roman"/>
            </a:endParaRPr>
          </a:p>
        </p:txBody>
      </p:sp>
      <p:grpSp>
        <p:nvGrpSpPr>
          <p:cNvPr id="85" name=""/>
          <p:cNvGrpSpPr/>
          <p:nvPr/>
        </p:nvGrpSpPr>
        <p:grpSpPr>
          <a:xfrm>
            <a:off x="-24003000" y="5707080"/>
            <a:ext cx="2914560" cy="2301840"/>
            <a:chOff x="-24003000" y="5707080"/>
            <a:chExt cx="2914560" cy="2301840"/>
          </a:xfrm>
        </p:grpSpPr>
        <p:sp>
          <p:nvSpPr>
            <p:cNvPr id="86" name=""/>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Verdana"/>
                </a:rPr>
                <a:t>  </a:t>
              </a:r>
              <a:r>
                <a:rPr b="0" i="1" lang="en-US" sz="13700" spc="-1" strike="noStrike">
                  <a:solidFill>
                    <a:srgbClr val="000000"/>
                  </a:solidFill>
                  <a:latin typeface="Verdana"/>
                </a:rPr>
                <a:t> </a:t>
              </a:r>
              <a:r>
                <a:rPr b="0" i="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87" name=""/>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24003000" y="-1150920"/>
            <a:ext cx="57150000" cy="685800"/>
            <a:chOff x="-24003000" y="-1150920"/>
            <a:chExt cx="57150000" cy="685800"/>
          </a:xfrm>
        </p:grpSpPr>
        <p:grpSp>
          <p:nvGrpSpPr>
            <p:cNvPr id="89" name=""/>
            <p:cNvGrpSpPr/>
            <p:nvPr/>
          </p:nvGrpSpPr>
          <p:grpSpPr>
            <a:xfrm>
              <a:off x="-24003000" y="-1036440"/>
              <a:ext cx="57150000" cy="360"/>
              <a:chOff x="-24003000" y="-1036440"/>
              <a:chExt cx="57150000" cy="360"/>
            </a:xfrm>
          </p:grpSpPr>
          <p:sp>
            <p:nvSpPr>
              <p:cNvPr id="90"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92" name=""/>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3" name="" descr=""/>
          <p:cNvPicPr/>
          <p:nvPr/>
        </p:nvPicPr>
        <p:blipFill>
          <a:blip r:embed="rId2"/>
          <a:stretch/>
        </p:blipFill>
        <p:spPr>
          <a:xfrm>
            <a:off x="-23874480" y="5753160"/>
            <a:ext cx="2914560" cy="2182680"/>
          </a:xfrm>
          <a:prstGeom prst="rect">
            <a:avLst/>
          </a:prstGeom>
          <a:ln w="0">
            <a:noFill/>
          </a:ln>
        </p:spPr>
      </p:pic>
      <p:grpSp>
        <p:nvGrpSpPr>
          <p:cNvPr id="94" name=""/>
          <p:cNvGrpSpPr/>
          <p:nvPr/>
        </p:nvGrpSpPr>
        <p:grpSpPr>
          <a:xfrm>
            <a:off x="-24003000" y="5707080"/>
            <a:ext cx="2914560" cy="2301840"/>
            <a:chOff x="-24003000" y="5707080"/>
            <a:chExt cx="2914560" cy="2301840"/>
          </a:xfrm>
        </p:grpSpPr>
        <p:sp>
          <p:nvSpPr>
            <p:cNvPr id="95" name=""/>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Verdana"/>
                </a:rPr>
                <a:t>  </a:t>
              </a:r>
              <a:r>
                <a:rPr b="0" i="1" lang="en-US" sz="13700" spc="-1" strike="noStrike">
                  <a:solidFill>
                    <a:srgbClr val="000000"/>
                  </a:solidFill>
                  <a:latin typeface="Verdana"/>
                </a:rPr>
                <a:t> </a:t>
              </a:r>
              <a:r>
                <a:rPr b="0" i="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96" name=""/>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24003000" y="-1150920"/>
            <a:ext cx="57150000" cy="685800"/>
            <a:chOff x="-24003000" y="-1150920"/>
            <a:chExt cx="57150000" cy="685800"/>
          </a:xfrm>
        </p:grpSpPr>
        <p:grpSp>
          <p:nvGrpSpPr>
            <p:cNvPr id="98" name=""/>
            <p:cNvGrpSpPr/>
            <p:nvPr/>
          </p:nvGrpSpPr>
          <p:grpSpPr>
            <a:xfrm>
              <a:off x="-24003000" y="-1036440"/>
              <a:ext cx="57150000" cy="360"/>
              <a:chOff x="-24003000" y="-1036440"/>
              <a:chExt cx="57150000" cy="360"/>
            </a:xfrm>
          </p:grpSpPr>
          <p:sp>
            <p:nvSpPr>
              <p:cNvPr id="99"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101" name=""/>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2" name="" descr=""/>
          <p:cNvPicPr/>
          <p:nvPr/>
        </p:nvPicPr>
        <p:blipFill>
          <a:blip r:embed="rId3"/>
          <a:stretch/>
        </p:blipFill>
        <p:spPr>
          <a:xfrm>
            <a:off x="-23874480" y="5753160"/>
            <a:ext cx="2914560" cy="2182680"/>
          </a:xfrm>
          <a:prstGeom prst="rect">
            <a:avLst/>
          </a:prstGeom>
          <a:ln w="0">
            <a:noFill/>
          </a:ln>
        </p:spPr>
      </p:pic>
      <p:grpSp>
        <p:nvGrpSpPr>
          <p:cNvPr id="103" name=""/>
          <p:cNvGrpSpPr/>
          <p:nvPr/>
        </p:nvGrpSpPr>
        <p:grpSpPr>
          <a:xfrm>
            <a:off x="-24003000" y="5707080"/>
            <a:ext cx="2914560" cy="2301840"/>
            <a:chOff x="-24003000" y="5707080"/>
            <a:chExt cx="2914560" cy="2301840"/>
          </a:xfrm>
        </p:grpSpPr>
        <p:sp>
          <p:nvSpPr>
            <p:cNvPr id="104" name=""/>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Verdana"/>
                </a:rPr>
                <a:t>  </a:t>
              </a:r>
              <a:r>
                <a:rPr b="0" i="1" lang="en-US" sz="13700" spc="-1" strike="noStrike">
                  <a:solidFill>
                    <a:srgbClr val="000000"/>
                  </a:solidFill>
                  <a:latin typeface="Verdana"/>
                </a:rPr>
                <a:t> </a:t>
              </a:r>
              <a:r>
                <a:rPr b="0" i="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105" name=""/>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4003000" y="-1150920"/>
            <a:ext cx="57150000" cy="685800"/>
            <a:chOff x="-24003000" y="-1150920"/>
            <a:chExt cx="57150000" cy="685800"/>
          </a:xfrm>
        </p:grpSpPr>
        <p:grpSp>
          <p:nvGrpSpPr>
            <p:cNvPr id="107" name=""/>
            <p:cNvGrpSpPr/>
            <p:nvPr/>
          </p:nvGrpSpPr>
          <p:grpSpPr>
            <a:xfrm>
              <a:off x="-24003000" y="-1036440"/>
              <a:ext cx="57150000" cy="360"/>
              <a:chOff x="-24003000" y="-1036440"/>
              <a:chExt cx="57150000" cy="360"/>
            </a:xfrm>
          </p:grpSpPr>
          <p:sp>
            <p:nvSpPr>
              <p:cNvPr id="108"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110" name=""/>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1" name="" descr=""/>
          <p:cNvPicPr/>
          <p:nvPr/>
        </p:nvPicPr>
        <p:blipFill>
          <a:blip r:embed="rId4"/>
          <a:stretch/>
        </p:blipFill>
        <p:spPr>
          <a:xfrm>
            <a:off x="-23874480" y="5753160"/>
            <a:ext cx="2914560" cy="2182680"/>
          </a:xfrm>
          <a:prstGeom prst="rect">
            <a:avLst/>
          </a:prstGeom>
          <a:ln w="0">
            <a:noFill/>
          </a:ln>
        </p:spPr>
      </p:pic>
      <p:pic>
        <p:nvPicPr>
          <p:cNvPr id="112" name="" descr=""/>
          <p:cNvPicPr/>
          <p:nvPr/>
        </p:nvPicPr>
        <p:blipFill>
          <a:blip r:embed="rId5"/>
          <a:stretch/>
        </p:blipFill>
        <p:spPr>
          <a:xfrm>
            <a:off x="685800" y="2611440"/>
            <a:ext cx="3809880" cy="285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Tahoma"/>
              </a:rPr>
              <a:t>SIEMPRE DEBEMOS ESTAR ALERTAS</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Tahoma"/>
              </a:rPr>
              <a:t>RECUERDA DONDE ESTAS VIVIE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19360" y="990360"/>
            <a:ext cx="4267080" cy="51051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imes New Roman"/>
              </a:rPr>
              <a:t>Fui miembro de las Naciones Unidas, experto en el Área de Mitigación de desastres (UN-UNIENET) por muchos años. He trabajado en todos y cada uno de los mayores desastres mundiales desde 1985, excepto en el caso de desastres que suceden simultáneamente, y eso por razones que usted mismo entenderá...</a:t>
            </a:r>
            <a:endParaRPr b="0" lang="en-US" sz="2000" spc="-1" strike="noStrike">
              <a:solidFill>
                <a:srgbClr val="000000"/>
              </a:solidFill>
              <a:latin typeface="Times New Roman"/>
            </a:endParaRPr>
          </a:p>
        </p:txBody>
      </p:sp>
      <p:pic>
        <p:nvPicPr>
          <p:cNvPr id="44" name="" descr="">
            <a:hlinkClick r:id="rId2"/>
          </p:cNvPr>
          <p:cNvPicPr/>
          <p:nvPr/>
        </p:nvPicPr>
        <p:blipFill>
          <a:blip r:embed="rId3"/>
          <a:stretch/>
        </p:blipFill>
        <p:spPr>
          <a:xfrm>
            <a:off x="2971800" y="4724280"/>
            <a:ext cx="2666880" cy="1895760"/>
          </a:xfrm>
          <a:prstGeom prst="rect">
            <a:avLst/>
          </a:prstGeom>
          <a:ln w="0">
            <a:noFill/>
          </a:ln>
        </p:spPr>
      </p:pic>
      <p:sp>
        <p:nvSpPr>
          <p:cNvPr id="45" name=""/>
          <p:cNvSpPr/>
          <p:nvPr/>
        </p:nvSpPr>
        <p:spPr>
          <a:xfrm>
            <a:off x="304920" y="838080"/>
            <a:ext cx="3962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Hola, </a:t>
            </a:r>
            <a:r>
              <a:rPr b="1" lang="es-ES" sz="2000" spc="-1" strike="noStrike">
                <a:solidFill>
                  <a:srgbClr val="000000"/>
                </a:solidFill>
                <a:latin typeface="Tahoma"/>
                <a:ea typeface="Tahoma"/>
              </a:rPr>
              <a:t>soy Doug Copp</a:t>
            </a:r>
            <a:r>
              <a:rPr b="0" lang="es-ES" sz="2000" spc="-1" strike="noStrike">
                <a:solidFill>
                  <a:srgbClr val="000000"/>
                </a:solidFill>
                <a:latin typeface="Tahoma"/>
                <a:ea typeface="Tahoma"/>
              </a:rPr>
              <a:t>. Usted no me conoce,</a:t>
            </a: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pero he estado dentro de 875 edificios colapsados y trabajé en grupos de rescate en más de 60 países; he fundado grupos de rescate en muchos otros y soy miembro de grupos de rescate la ONU, la OEA, UNICEF y muchos otros organism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4560" y="685800"/>
            <a:ext cx="4343400" cy="586728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En 1996 hicimos una película que</a:t>
            </a: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prueba que mi método de sobrevivencia en caso de terremotos es correcto! </a:t>
            </a:r>
            <a:endParaRPr b="0" lang="en-US" sz="1800" spc="-1" strike="noStrike">
              <a:solidFill>
                <a:srgbClr val="000000"/>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CO" sz="1800" spc="-1" strike="noStrike">
                <a:solidFill>
                  <a:srgbClr val="000000"/>
                </a:solidFill>
                <a:latin typeface="Tahoma"/>
                <a:ea typeface="Tahoma"/>
              </a:rPr>
              <a:t>L</a:t>
            </a:r>
            <a:r>
              <a:rPr b="0" lang="es-ES" sz="1800" spc="-1" strike="noStrike">
                <a:solidFill>
                  <a:srgbClr val="000000"/>
                </a:solidFill>
                <a:latin typeface="Tahoma"/>
                <a:ea typeface="Tahoma"/>
              </a:rPr>
              <a:t>a película fue hecha por el Gobierno Turco Federal de Estambul y financiada por la Ciudad de Estambul, Universidad de Estambul, Producciones Case, S.A. y ARTI. </a:t>
            </a:r>
            <a:br>
              <a:rPr sz="1800"/>
            </a:br>
            <a:br>
              <a:rPr sz="1800"/>
            </a:br>
            <a:r>
              <a:rPr b="0" lang="es-ES" sz="1800" spc="-1" strike="noStrike">
                <a:solidFill>
                  <a:srgbClr val="000000"/>
                </a:solidFill>
                <a:latin typeface="Tahoma"/>
                <a:ea typeface="Tahoma"/>
              </a:rPr>
              <a:t>En cualquier derrumbe hay un 100% de sobrevivencia para las personas que lo sufren, usando lo que se denomina "El Triángulo de Vida". Este film fue visto en Turquía y el resto de Europa, en los Estados Unidos, Canadá y en toda América Latina en un programa de TV llamado "Real TV". ¿Usted ya lo vio? </a:t>
            </a:r>
            <a:br>
              <a:rPr sz="1800"/>
            </a:br>
            <a:endParaRPr b="0" lang="en-US" sz="1800" spc="-1" strike="noStrike">
              <a:solidFill>
                <a:srgbClr val="000000"/>
              </a:solidFill>
              <a:latin typeface="Times New Roman"/>
            </a:endParaRPr>
          </a:p>
        </p:txBody>
      </p:sp>
      <p:pic>
        <p:nvPicPr>
          <p:cNvPr id="47" name="" descr=""/>
          <p:cNvPicPr/>
          <p:nvPr/>
        </p:nvPicPr>
        <p:blipFill>
          <a:blip r:embed="rId2"/>
          <a:stretch/>
        </p:blipFill>
        <p:spPr>
          <a:xfrm>
            <a:off x="4876920" y="1600200"/>
            <a:ext cx="3809880" cy="27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91120" y="533520"/>
            <a:ext cx="4572000" cy="586728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La experiencia se hizo con 20 maniquíes: 10 de ellos fueron colocados en lugares que hasta ahora se usaban como posibles lugares seguros. Los otros 10 fueron colocados en "El Triángulo de Vida". </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Se hizo explotar el edificio y al entrar vimos que los primeros 10 maniquíes estaban destrozados y los otros, situados en el "El Triángulo de Vida" estaban en perfectas condiciones. </a:t>
            </a:r>
            <a:br>
              <a:rPr sz="2000"/>
            </a:br>
            <a:br>
              <a:rPr sz="2000"/>
            </a:br>
            <a:r>
              <a:rPr b="0" lang="es-ES" sz="2000" spc="-1" strike="noStrike">
                <a:solidFill>
                  <a:srgbClr val="000000"/>
                </a:solidFill>
                <a:latin typeface="Tahoma"/>
                <a:ea typeface="Tahoma"/>
              </a:rPr>
              <a:t>Relato cierto: El primer edificio al que entré durante el terremoto mexicano fue una escuela en México en 1985 y los niños, como era de esperarse, estaban debajo de los pupitres, todos muertos y aplastados. </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685800" y="2676600"/>
            <a:ext cx="3352680" cy="27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380520"/>
            <a:ext cx="4190760" cy="617220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odrían haber sobrevivido si en lugar de estar debajo de los pupitres hubieran estado acostados o en posición fetal al lado ó al costado de ellos. </a:t>
            </a:r>
            <a:endParaRPr b="0" lang="en-US" sz="2200" spc="-1" strike="noStrike">
              <a:solidFill>
                <a:srgbClr val="000000"/>
              </a:solidFill>
              <a:latin typeface="Times New Roman"/>
            </a:endParaRPr>
          </a:p>
          <a:p>
            <a:pPr marL="329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ahoma"/>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ara decirlo de una forma más simple y entendible: Cuando un edificio colapsa, el peso del techo cae sobre los objetos o muebles aplastándolos, pero queda un espacio vacío justo al lado de ellos. Este espacio es el que yo llamo "El Triángulo de Vida". Cuando más grande el objeto, cuanto más pesado y fuerte sea, menos se va a compactar. </a:t>
            </a:r>
            <a:endParaRPr b="0" lang="en-US" sz="2200" spc="-1" strike="noStrike">
              <a:solidFill>
                <a:srgbClr val="000000"/>
              </a:solidFill>
              <a:latin typeface="Times New Roman"/>
            </a:endParaRPr>
          </a:p>
        </p:txBody>
      </p:sp>
      <p:sp>
        <p:nvSpPr>
          <p:cNvPr id="51" name=""/>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 name=""/>
          <p:cNvSpPr/>
          <p:nvPr/>
        </p:nvSpPr>
        <p:spPr>
          <a:xfrm rot="21297000">
            <a:off x="5028840" y="1980720"/>
            <a:ext cx="1981080" cy="26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4" name=""/>
          <p:cNvGraphicFramePr/>
          <p:nvPr/>
        </p:nvGraphicFramePr>
        <p:xfrm>
          <a:off x="6248520" y="3133800"/>
          <a:ext cx="1000080" cy="1209600"/>
        </p:xfrm>
        <a:graphic>
          <a:graphicData uri="http://schemas.openxmlformats.org/presentationml/2006/ole">
            <p:oleObj r:id="rId2" spid="">
              <p:embed/>
              <p:pic>
                <p:nvPicPr>
                  <p:cNvPr id="55" name="" descr=""/>
                  <p:cNvPicPr/>
                  <p:nvPr/>
                </p:nvPicPr>
                <p:blipFill>
                  <a:blip r:embed="rId3"/>
                  <a:stretch/>
                </p:blipFill>
                <p:spPr>
                  <a:xfrm>
                    <a:off x="6248520" y="3133800"/>
                    <a:ext cx="1000080" cy="1209600"/>
                  </a:xfrm>
                  <a:prstGeom prst="rect">
                    <a:avLst/>
                  </a:prstGeom>
                  <a:ln w="0">
                    <a:noFill/>
                  </a:ln>
                </p:spPr>
              </p:pic>
            </p:oleObj>
          </a:graphicData>
        </a:graphic>
      </p:graphicFrame>
      <p:sp>
        <p:nvSpPr>
          <p:cNvPr id="56" name=""/>
          <p:cNvSpPr/>
          <p:nvPr/>
        </p:nvSpPr>
        <p:spPr>
          <a:xfrm>
            <a:off x="152280" y="2346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rot="18757200">
            <a:off x="6225480" y="1767240"/>
            <a:ext cx="2369880" cy="26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029200" y="1676520"/>
            <a:ext cx="29718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495320" y="533160"/>
            <a:ext cx="4343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Cuanto menos el objeto se compacte por el peso, mayor es el espacio vacío o agujero al lado del mismo, mayor es la posibilidad de que la persona que está usando ese espacio vacío no sea lastimada en lo absoluto.</a:t>
            </a:r>
            <a:br>
              <a:rPr sz="2400"/>
            </a:br>
            <a:br>
              <a:rPr sz="2400"/>
            </a:br>
            <a:r>
              <a:rPr b="0" lang="es-ES" sz="2400" spc="-1" strike="noStrike">
                <a:solidFill>
                  <a:srgbClr val="000000"/>
                </a:solidFill>
                <a:latin typeface="Tahoma"/>
                <a:ea typeface="Tahoma"/>
              </a:rPr>
              <a:t>La próxima vez que vea edificios colapsando en un film, cuenten los "Triángulos de Vida" que se forman (o sea espacios vacíos)... ¡Están en todas partes! </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2"/>
          <a:stretch/>
        </p:blipFill>
        <p:spPr>
          <a:xfrm>
            <a:off x="685800" y="2627280"/>
            <a:ext cx="3809880" cy="28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INSTRUCCIONES </a:t>
            </a:r>
            <a:endParaRPr b="0" lang="en-US" sz="4400" spc="-1" strike="noStrike">
              <a:solidFill>
                <a:srgbClr val="000000"/>
              </a:solidFill>
              <a:latin typeface="Times New Roman"/>
            </a:endParaRPr>
          </a:p>
        </p:txBody>
      </p:sp>
      <p:sp>
        <p:nvSpPr>
          <p:cNvPr id="62" name="PlaceHolder 2"/>
          <p:cNvSpPr>
            <a:spLocks noGrp="1"/>
          </p:cNvSpPr>
          <p:nvPr>
            <p:ph/>
          </p:nvPr>
        </p:nvSpPr>
        <p:spPr>
          <a:xfrm>
            <a:off x="304560" y="1981080"/>
            <a:ext cx="4190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ualquier persona que trate de cubrirse o colocarse debajo de algo, cuando un edificio caiga, es aplastado. Cada vez que las personas se colocan debajo de objetos como escritorios, autos, siempre son aplastados. No lo haga y siga algunas de las instrucciones que sigu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038120" y="609120"/>
            <a:ext cx="4800600" cy="5867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Gatos, perros y bebes, naturalmente se ponen en posición fetal. Usted debería hacer lo mismo en un terremoto. Es un instinto natural de supervivencia. Cualquier persona puede sobrevivir en un agujero pequeño, cerca de un sofá, cerca de cualquier objeto grande que será aplastado pero siempre quedará un </a:t>
            </a:r>
            <a:br>
              <a:rPr sz="2800"/>
            </a:br>
            <a:r>
              <a:rPr b="0" lang="en-US" sz="2800" spc="-1" strike="noStrike">
                <a:solidFill>
                  <a:srgbClr val="000000"/>
                </a:solidFill>
                <a:latin typeface="Tahoma"/>
                <a:ea typeface="Tahoma"/>
              </a:rPr>
              <a:t>espacio vacío a ambos lados del mismo. </a:t>
            </a:r>
            <a:endParaRPr b="0" lang="en-US" sz="2800" spc="-1" strike="noStrike">
              <a:solidFill>
                <a:srgbClr val="000000"/>
              </a:solidFill>
              <a:latin typeface="Times New Roman"/>
            </a:endParaRPr>
          </a:p>
        </p:txBody>
      </p:sp>
      <p:sp>
        <p:nvSpPr>
          <p:cNvPr id="65" name=""/>
          <p:cNvSpPr/>
          <p:nvPr/>
        </p:nvSpPr>
        <p:spPr>
          <a:xfrm>
            <a:off x="838080" y="57913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176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67" name=""/>
          <p:cNvGraphicFramePr/>
          <p:nvPr/>
        </p:nvGraphicFramePr>
        <p:xfrm>
          <a:off x="609480" y="1752480"/>
          <a:ext cx="2898720" cy="3864240"/>
        </p:xfrm>
        <a:graphic>
          <a:graphicData uri="http://schemas.openxmlformats.org/presentationml/2006/ole">
            <p:oleObj r:id="rId2" spid="">
              <p:embed/>
              <p:pic>
                <p:nvPicPr>
                  <p:cNvPr id="68" name="" descr=""/>
                  <p:cNvPicPr/>
                  <p:nvPr/>
                </p:nvPicPr>
                <p:blipFill>
                  <a:blip r:embed="rId3"/>
                  <a:stretch/>
                </p:blipFill>
                <p:spPr>
                  <a:xfrm>
                    <a:off x="609480" y="1752480"/>
                    <a:ext cx="2898720" cy="38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295280"/>
            <a:ext cx="4191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Los Edificios hechos de madera son las construcciones más seguras para estar durante un terremoto. Por una simple razón: la madera es flexible y se mueve con la fuerza de un terremoto. Si el edificio colapsa, grandes espacios vacíos se crean. Inclusive una construcción de madera tiene menos peso de caída que los ladrillos.</a:t>
            </a:r>
            <a:endParaRPr b="0" lang="en-US" sz="2400" spc="-1" strike="noStrike">
              <a:solidFill>
                <a:srgbClr val="000000"/>
              </a:solidFill>
              <a:latin typeface="Times New Roman"/>
            </a:endParaRPr>
          </a:p>
        </p:txBody>
      </p:sp>
      <p:pic>
        <p:nvPicPr>
          <p:cNvPr id="70" name="" descr=""/>
          <p:cNvPicPr/>
          <p:nvPr/>
        </p:nvPicPr>
        <p:blipFill>
          <a:blip r:embed="rId2"/>
          <a:stretch/>
        </p:blipFill>
        <p:spPr>
          <a:xfrm>
            <a:off x="4648320" y="2608200"/>
            <a:ext cx="3809880" cy="286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4:36:59Z</dcterms:created>
  <dc:creator>Julius</dc:creator>
  <dc:description/>
  <dc:language>en-US</dc:language>
  <cp:lastModifiedBy>Julius</cp:lastModifiedBy>
  <dcterms:modified xsi:type="dcterms:W3CDTF">2006-09-05T22:22:10Z</dcterms:modified>
  <cp:revision>6</cp:revision>
  <dc:subject/>
  <dc:title>NO SABEMOS SI HOY VA A TEMBLAR</dc:title>
</cp:coreProperties>
</file>