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viatgew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7B02-18A1-4047-9BD3-50DE5DF18E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1E0-9EB7-4DEF-8D59-AA146C20DC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E27-C22A-4232-BF8B-ED236D95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663-E0EA-4B94-9DB7-61787E8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B9F-197C-4255-924B-4CBF80B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973-9D0D-4EFF-8A4C-0B11DF00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DCF-9F7D-4C9A-A5DA-E8821C9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727-6120-479B-B181-8220991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E73-2548-4182-ADB7-28266E1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EBC-FFF0-421F-AD75-59D882A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D05-F464-4BEB-A9DD-55B9EFE0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E9F-CE72-4631-9D5B-99182E5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845-0A92-4D55-A369-5D62652D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0C9-EC68-457C-9B85-F3A26043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2D89B8-DDB6-4454-8032-677665EAF8E6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16:4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D7AD-42F5-459D-A60E-8B516D23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viatge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571500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viaje” de Elena Caraindrou nos ayudará a vivir el CAMI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viatg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04920" y="228600"/>
            <a:ext cx="8643960" cy="679860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dijo: "Un hombre bajaba de Jerusalén a Jericó, cayó en manos de unos bandidos, que lo desnudaron, lo molieron a palos y se marcharon, dejándolo medio muert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85840" y="1214280"/>
            <a:ext cx="2609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que cae herido a tu v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4" descr="C:\Documents and Settings\st benet\Mis documentos\Mis imágenes\Irak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00280" y="838080"/>
            <a:ext cx="5562720" cy="601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42920" y="5699160"/>
            <a:ext cx="3214800" cy="10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achel Corri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(Gaz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228600"/>
            <a:ext cx="8501040" cy="61880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casualidad, un sacerdote bajaba por aquel camino y, al verlo, dio un rodeo y pasó de largo. Y lo mismo hizo un levita que llegó a aquel sitio: al verlo dio un rodeo y pasó de larg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4 Imagen" descr="patera2.jpg"/>
          <p:cNvPicPr/>
          <p:nvPr/>
        </p:nvPicPr>
        <p:blipFill>
          <a:blip r:embed="rId2"/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5929200"/>
            <a:ext cx="8248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que haces pasar de lar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1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28600" y="179280"/>
            <a:ext cx="8915400" cy="667440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un samaritano que iba de viaje, llegó a donde estaba él, y, al verlo, le dio lástima, se le acercó, le vendó las heridas, echándoles aceite y vino, y, montándolo en su propia cabalgadura, lo llevó a una posada y lo cuidó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5 Imagen" descr="Lucio3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2514600"/>
            <a:ext cx="3071880" cy="41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Los humildes que ven Dios en los hermanos que sufren </a:t>
            </a: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(Salm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929280" y="6143760"/>
            <a:ext cx="22147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himbo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29120" y="14292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9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52280"/>
            <a:ext cx="8358480" cy="62805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día siguiente, sacó dos denarios y, dándoselos al posadero, le dijo: "Cuida de él, y lo que gastes de más yo te lo pagaré a la vuelta."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5840" y="5857920"/>
            <a:ext cx="8629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Te comprometes hasta el fin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4 Imagen" descr="monedest.jpg"/>
          <p:cNvPicPr/>
          <p:nvPr/>
        </p:nvPicPr>
        <p:blipFill>
          <a:blip r:embed="rId2"/>
          <a:stretch/>
        </p:blipFill>
        <p:spPr>
          <a:xfrm>
            <a:off x="1146240" y="1135080"/>
            <a:ext cx="7569000" cy="4508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857680" y="285840"/>
            <a:ext cx="600048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onedas del tiemp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2920" y="214200"/>
            <a:ext cx="242892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es un buen prójim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8600" y="214200"/>
            <a:ext cx="8558280" cy="61880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Cuál de estos tres te parece que se portó como prójimo del que cayó en manos de los bandidos?" Él contestó: "El que practicó la misericordia con él." Díjole Jesús: "Anda, haz tú lo mismo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4 Imagen" descr="f33w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43440" y="0"/>
            <a:ext cx="5057640" cy="6276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42920" y="214200"/>
            <a:ext cx="414324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z como el samaritano que no tiene 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2428920"/>
            <a:ext cx="350532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No sabes que en Jesucristo todos somos u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620e"/>
                </a:solidFill>
                <a:latin typeface="Arial Unicode MS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928960" y="6286680"/>
            <a:ext cx="621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uen samaritano” V. Van Go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0040" y="571680"/>
            <a:ext cx="814392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0040" y="2357280"/>
            <a:ext cx="8143920" cy="393444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de la misión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mpieza el tema propio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ste fragmento del CAMI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VERTIRNOS en discípulos de Jesús, es preciso que nos AMEMOS como el buen samarit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928800" y="500040"/>
            <a:ext cx="7500960" cy="56995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Tu, Señor, que nos has enseñado que el caído cerca del camino es nuestro hermano, no permitas nunca que pasemos de lar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Marcador de fecha"/>
          <p:cNvSpPr/>
          <p:nvPr/>
        </p:nvSpPr>
        <p:spPr>
          <a:xfrm>
            <a:off x="71280" y="71280"/>
            <a:ext cx="4143600" cy="78588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ueves, 01 de julio d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D0F-D4A7-4542-90A4-F5CDE44764FB}" type="datetime10"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16:4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4 Imagen" descr="AdummimCastellp.jpg"/>
          <p:cNvPicPr/>
          <p:nvPr/>
        </p:nvPicPr>
        <p:blipFill>
          <a:blip r:embed="rId2"/>
          <a:stretch/>
        </p:blipFill>
        <p:spPr>
          <a:xfrm>
            <a:off x="-5786280" y="0"/>
            <a:ext cx="2150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643120" y="285840"/>
            <a:ext cx="528660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Hacia Jericó para ama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42920" y="6084720"/>
            <a:ext cx="8848800" cy="627480"/>
          </a:xfrm>
          <a:prstGeom prst="rect">
            <a:avLst/>
          </a:prstGeom>
          <a:solidFill>
            <a:srgbClr val="0d230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</a:rPr>
              <a:t>Avanzando hacia la “vida eterna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156 -1.96532E-006 L 0.95729 -1.96532E-006 E">
                                      <p:cBhvr>
                                        <p:cTn id="56" dur="20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28600" y="214200"/>
            <a:ext cx="8763120" cy="52120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0, 25-37 En aquel tiempo, se presentó un maestro de la Ley y le preguntó a Jesús para ponerlo a prueba: "Maestro, ¿qué tengo que hacer para heredar la vida eterna?“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42920" y="6161040"/>
            <a:ext cx="4500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mino hacia Jericó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 Imagen" descr="Korazin9wp.jpg"/>
          <p:cNvPicPr/>
          <p:nvPr/>
        </p:nvPicPr>
        <p:blipFill>
          <a:blip r:embed="rId2"/>
          <a:stretch/>
        </p:blipFill>
        <p:spPr>
          <a:xfrm>
            <a:off x="142920" y="1571760"/>
            <a:ext cx="7500960" cy="528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42920" y="142920"/>
            <a:ext cx="800100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a probar a Jesús, el maestro de la sinagoga pregunta como llegar a la VID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929200" y="3786120"/>
            <a:ext cx="314352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700" spc="-1" strike="noStrike">
                <a:solidFill>
                  <a:srgbClr val="000000"/>
                </a:solidFill>
                <a:latin typeface="Arial"/>
              </a:rPr>
              <a:t>¿Te conviertes de todo  corazón? </a:t>
            </a:r>
            <a:br>
              <a:rPr sz="3700"/>
            </a:br>
            <a:r>
              <a:rPr b="1" lang="ca-ES" sz="37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14200" y="6072120"/>
            <a:ext cx="392904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stos de Sinagog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85840" y="214200"/>
            <a:ext cx="885816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dijo: "¿Qué está escrito en la Ley? ¿Qué lees en ella?" Él contestó: "Amarás al Señor, tu Dios, con todo tu corazón y con toda tu alma y con todas tus fuerzas y con todo tu ser. Y al prójimo como a ti mismo." Él le dijo: "Bien dicho. Haz esto y tendrás la vida."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judaico7w.jpg"/>
          <p:cNvPicPr/>
          <p:nvPr/>
        </p:nvPicPr>
        <p:blipFill>
          <a:blip r:embed="rId2"/>
          <a:stretch/>
        </p:blipFill>
        <p:spPr>
          <a:xfrm>
            <a:off x="3000240" y="214200"/>
            <a:ext cx="5943600" cy="5381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280" y="5786280"/>
            <a:ext cx="907272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da la Ley se resume en A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1500120"/>
            <a:ext cx="3143160" cy="38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o  busques  fuera, este mandamiento  que tienes escrito dentro de ti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S. Basil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8600" y="457200"/>
            <a:ext cx="864396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 maestro de la Ley, queriendo justificarse, preguntó a Jesús: "¿Y quién es mi prójimo?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58" descr="C:\Documents and Settings\st benet\Mis documentos\Mis imágenes\persones\capsraces\percapsw.jpg"/>
          <p:cNvPicPr/>
          <p:nvPr/>
        </p:nvPicPr>
        <p:blipFill>
          <a:blip r:embed="rId2"/>
          <a:stretch/>
        </p:blipFill>
        <p:spPr>
          <a:xfrm>
            <a:off x="1071720" y="758880"/>
            <a:ext cx="8067600" cy="6099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60"/>
          <p:cNvSpPr/>
          <p:nvPr/>
        </p:nvSpPr>
        <p:spPr>
          <a:xfrm>
            <a:off x="3287520" y="214308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61"/>
          <p:cNvSpPr/>
          <p:nvPr/>
        </p:nvSpPr>
        <p:spPr>
          <a:xfrm>
            <a:off x="5483160" y="2617920"/>
            <a:ext cx="7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2"/>
          <p:cNvSpPr/>
          <p:nvPr/>
        </p:nvSpPr>
        <p:spPr>
          <a:xfrm>
            <a:off x="5074200" y="615636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63"/>
          <p:cNvSpPr/>
          <p:nvPr/>
        </p:nvSpPr>
        <p:spPr>
          <a:xfrm>
            <a:off x="2145240" y="407196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64"/>
          <p:cNvSpPr/>
          <p:nvPr/>
        </p:nvSpPr>
        <p:spPr>
          <a:xfrm>
            <a:off x="8169840" y="164304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65"/>
          <p:cNvSpPr/>
          <p:nvPr/>
        </p:nvSpPr>
        <p:spPr>
          <a:xfrm>
            <a:off x="3149640" y="5533920"/>
            <a:ext cx="11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66"/>
          <p:cNvSpPr/>
          <p:nvPr/>
        </p:nvSpPr>
        <p:spPr>
          <a:xfrm>
            <a:off x="7159320" y="493884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5840" y="214200"/>
            <a:ext cx="36432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prójimo es  aquél que tienes del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5784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05T22:25:34Z</dcterms:modified>
  <cp:revision>347</cp:revision>
  <dc:subject>stbenet@benedictinescat.com</dc:subject>
  <dc:title>evangelio</dc:title>
</cp:coreProperties>
</file>