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PLUGIN.WAV" ContentType="audio/x-wav"/>
  <Override PartName="/ppt/media/image1.jpeg" ContentType="image/jpeg"/>
  <Override PartName="/ppt/media/viatgew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chimes.wav" ContentType="audio/x-wav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50B9-E37C-488D-B197-5A4582645C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1157-6C81-4D3D-9C4D-DC4BD027F0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926-E677-40E6-BDA7-10816065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7AF-E5B0-47AD-80DD-279868C0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E16-FDAD-4A16-93ED-D234ACEB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017-4569-4C67-BDCF-D4619BF2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E6F-4F66-48AC-A0CC-B97235A1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7BB-88BD-495D-B843-5E99689D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D56-CC68-4577-B370-C72EFB85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1B0-19E8-4B23-BBD2-7E0E07A3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1FE-0DA6-47EC-916E-DD920B7B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55E-300B-47E1-834C-518ABE8F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647-507D-4CDC-AF9D-1D48528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63B-FE12-44D9-AFBE-C18461A5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6CC0238-6289-43D9-9B22-83B694EC547D}" type="datetime10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07: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DFD2-3C1C-4B8B-B79C-7004ABE48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viatge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PLUGIN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 Imagen" descr="resized_Arbel78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7328880" y="160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71280" y="55440"/>
            <a:ext cx="635796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Aquest epigrama de Casablancas pot insinuar els revolts del cam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9 Imagen" descr="resized_Arbel78w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"/>
          <p:cNvSpPr/>
          <p:nvPr/>
        </p:nvSpPr>
        <p:spPr>
          <a:xfrm>
            <a:off x="7400520" y="214200"/>
            <a:ext cx="1599480" cy="627480"/>
          </a:xfrm>
          <a:prstGeom prst="rect">
            <a:avLst/>
          </a:prstGeom>
          <a:solidFill>
            <a:srgbClr val="ddeaa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Galil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571680" y="1106640"/>
            <a:ext cx="701172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b3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0" y="335772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db32d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db32d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214280" y="5786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eaa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eaa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1143000" y="110664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782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 1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782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4400" y="27147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500040" y="3357720"/>
            <a:ext cx="824400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b61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b61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114300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4292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2d050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14292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3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71280" y="0"/>
            <a:ext cx="5715000" cy="100764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viaje” de Elena Caraindrou nos ayudará a vivir el CAMI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4" name="viatg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21" dur="1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23" dur="8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25" dur="1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27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29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304920" y="228600"/>
            <a:ext cx="8643960" cy="679860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dijo: "Un hombre bajaba de Jerusalén a Jericó, cayó en manos de unos bandidos, que lo desnudaron, lo molieron a palos y se marcharon, dejándolo medio muerto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85840" y="1214280"/>
            <a:ext cx="26096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El que cae herido a tu v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4" descr="C:\Documents and Settings\st benet\Mis documentos\Mis imágenes\Irak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500280" y="838080"/>
            <a:ext cx="5562720" cy="6019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42920" y="5699160"/>
            <a:ext cx="3214800" cy="100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achel Corrie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(Gaz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14200" y="214200"/>
            <a:ext cx="40719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prójimo 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228600"/>
            <a:ext cx="8501040" cy="61880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 casualidad, un sacerdote bajaba por aquel camino y, al verlo, dio un rodeo y pasó de largo. Y lo mismo hizo un levita que llegó a aquel sitio: al verlo dio un rodeo y pasó de larg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4 Imagen" descr="patera2.jpg"/>
          <p:cNvPicPr/>
          <p:nvPr/>
        </p:nvPicPr>
        <p:blipFill>
          <a:blip r:embed="rId2"/>
          <a:stretch/>
        </p:blipFill>
        <p:spPr>
          <a:xfrm>
            <a:off x="0" y="711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609480" y="5929200"/>
            <a:ext cx="82486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El que haces pasar de lar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5840" y="214200"/>
            <a:ext cx="40719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prójimo 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1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228600" y="179280"/>
            <a:ext cx="8915400" cy="667440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un samaritano que iba de viaje, llegó a donde estaba él, y, al verlo, le dio lástima, se le acercó, le vendó las heridas, echándoles aceite y vino, y, montándolo en su propia cabalgadura, lo llevó a una posada y lo cuidó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5 Imagen" descr="Lucio3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2514600"/>
            <a:ext cx="3071880" cy="414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Unicode MS"/>
              </a:rPr>
              <a:t>Los humildes que ven Dios en los hermanos que sufren </a:t>
            </a:r>
            <a:r>
              <a:rPr b="1" lang="en-US" sz="3800" spc="-1" strike="noStrike">
                <a:solidFill>
                  <a:srgbClr val="ff0000"/>
                </a:solidFill>
                <a:latin typeface="Arial Unicode MS"/>
              </a:rPr>
              <a:t>(Salmo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929280" y="6143760"/>
            <a:ext cx="221472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himbo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929120" y="142920"/>
            <a:ext cx="40719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próji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9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80880" y="152280"/>
            <a:ext cx="8358480" cy="628056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día siguiente, sacó dos denarios y, dándoselos al posadero, le dijo: "Cuida de él, y lo que gastes de más yo te lo pagaré a la vuelta."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85840" y="5857920"/>
            <a:ext cx="8629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Te comprometes hasta el fin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4 Imagen" descr="monedest.jpg"/>
          <p:cNvPicPr/>
          <p:nvPr/>
        </p:nvPicPr>
        <p:blipFill>
          <a:blip r:embed="rId2"/>
          <a:stretch/>
        </p:blipFill>
        <p:spPr>
          <a:xfrm>
            <a:off x="1146240" y="1135080"/>
            <a:ext cx="7569000" cy="4508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2857680" y="285840"/>
            <a:ext cx="600048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onedas del tiempo de Jesú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2920" y="214200"/>
            <a:ext cx="242892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res un buen prójim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228600" y="214200"/>
            <a:ext cx="8558280" cy="61880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¿Cuál de estos tres te parece que se portó como prójimo del que cayó en manos de los bandidos?" Él contestó: "El que practicó la misericordia con él." Díjole Jesús: "Anda, haz tú lo mismo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4 Imagen" descr="f33w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943440" y="0"/>
            <a:ext cx="5057640" cy="62769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142920" y="214200"/>
            <a:ext cx="414324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z como el samaritano que no tiene 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2428920"/>
            <a:ext cx="350532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No sabes que en Jesucristo todos somos un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620e"/>
                </a:solidFill>
                <a:latin typeface="Arial Unicode MS"/>
              </a:rPr>
              <a:t>(2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928960" y="6286680"/>
            <a:ext cx="621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Buen samaritano” V. Van Gog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0040" y="571680"/>
            <a:ext cx="8143920" cy="1464480"/>
          </a:xfrm>
          <a:prstGeom prst="rect">
            <a:avLst/>
          </a:prstGeom>
          <a:solidFill>
            <a:srgbClr val="b0ac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ffff00"/>
                </a:solidFill>
                <a:latin typeface="Arial"/>
                <a:ea typeface="Arial"/>
              </a:rPr>
              <a:t>CAMINO de CONVERSIÓN  Lc 9,51   a  13,2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00040" y="2357280"/>
            <a:ext cx="8143920" cy="3934440"/>
          </a:xfrm>
          <a:prstGeom prst="rect">
            <a:avLst/>
          </a:prstGeom>
          <a:solidFill>
            <a:srgbClr val="ffffb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spués de la misión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mpieza el tema propio d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ste fragmento del CAMI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ara CONVERTIRNOS en discípulos de Jesús, es preciso que nos AMEMOS como el buen samarit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928800" y="500040"/>
            <a:ext cx="7500960" cy="56995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a-E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" sz="4800" spc="-1" strike="noStrike">
                <a:solidFill>
                  <a:srgbClr val="ffffff"/>
                </a:solidFill>
                <a:latin typeface="Arial"/>
                <a:ea typeface="Arial"/>
              </a:rPr>
              <a:t>Tu, Señor, que nos has enseñado que el caído cerca del camino es nuestro hermano, no permitas nunca que pasemos de lar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714240" y="5929200"/>
            <a:ext cx="813780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6 Marcador de fecha"/>
          <p:cNvSpPr/>
          <p:nvPr/>
        </p:nvSpPr>
        <p:spPr>
          <a:xfrm>
            <a:off x="71280" y="71280"/>
            <a:ext cx="4143600" cy="785880"/>
          </a:xfrm>
          <a:prstGeom prst="rect">
            <a:avLst/>
          </a:prstGeom>
          <a:solidFill>
            <a:srgbClr val="74350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jueves, 01 de julio de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86CA-384C-4863-BBD2-DD479C861473}" type="datetime10"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07:24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4 Imagen" descr="AdummimCastellp.jpg"/>
          <p:cNvPicPr/>
          <p:nvPr/>
        </p:nvPicPr>
        <p:blipFill>
          <a:blip r:embed="rId2"/>
          <a:stretch/>
        </p:blipFill>
        <p:spPr>
          <a:xfrm>
            <a:off x="-5786280" y="0"/>
            <a:ext cx="215024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643120" y="285840"/>
            <a:ext cx="5286600" cy="550800"/>
          </a:xfrm>
          <a:prstGeom prst="rect">
            <a:avLst/>
          </a:prstGeom>
          <a:solidFill>
            <a:srgbClr val="08160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Hacia Jericó para amar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42920" y="6084720"/>
            <a:ext cx="8848800" cy="627480"/>
          </a:xfrm>
          <a:prstGeom prst="rect">
            <a:avLst/>
          </a:prstGeom>
          <a:solidFill>
            <a:srgbClr val="0d230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 Unicode MS"/>
              </a:rPr>
              <a:t>Avanzando hacia la “vida eterna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156 -1.96532E-006 L 0.95729 -1.96532E-006 E">
                                      <p:cBhvr>
                                        <p:cTn id="56" dur="20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28600" y="214200"/>
            <a:ext cx="8763120" cy="521208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10, 25-37 En aquel tiempo, se presentó un maestro de la Ley y le preguntó a Jesús para ponerlo a prueba: "Maestro, ¿qué tengo que hacer para heredar la vida eterna?“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42920" y="6161040"/>
            <a:ext cx="4500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amino hacia Jericó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 Imagen" descr="Korazin9wp.jpg"/>
          <p:cNvPicPr/>
          <p:nvPr/>
        </p:nvPicPr>
        <p:blipFill>
          <a:blip r:embed="rId2"/>
          <a:stretch/>
        </p:blipFill>
        <p:spPr>
          <a:xfrm>
            <a:off x="142920" y="1571760"/>
            <a:ext cx="7500960" cy="5286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42920" y="142920"/>
            <a:ext cx="800100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a probar a Jesús, el maestro de la sinagoga pregunta como llegar a la VID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929200" y="3786120"/>
            <a:ext cx="3143520" cy="29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700" spc="-1" strike="noStrike">
                <a:solidFill>
                  <a:srgbClr val="000000"/>
                </a:solidFill>
                <a:latin typeface="Arial"/>
              </a:rPr>
              <a:t>¿Te conviertes de todo  corazón? </a:t>
            </a:r>
            <a:br>
              <a:rPr sz="3700"/>
            </a:br>
            <a:r>
              <a:rPr b="1" lang="ca-ES" sz="3700" spc="-1" strike="noStrike">
                <a:solidFill>
                  <a:srgbClr val="ff0000"/>
                </a:solidFill>
                <a:latin typeface="Arial"/>
              </a:rPr>
              <a:t>(1a lectur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14200" y="6072120"/>
            <a:ext cx="392904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estos de Sinagog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85840" y="214200"/>
            <a:ext cx="8858160" cy="61268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le dijo: "¿Qué está escrito en la Ley? ¿Qué lees en ella?" Él contestó: "Amarás al Señor, tu Dios, con todo tu corazón y con toda tu alma y con todas tus fuerzas y con todo tu ser. Y al prójimo como a ti mismo." Él le dijo: "Bien dicho. Haz esto y tendrás la vida."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 Imagen" descr="judaico7w.jpg"/>
          <p:cNvPicPr/>
          <p:nvPr/>
        </p:nvPicPr>
        <p:blipFill>
          <a:blip r:embed="rId2"/>
          <a:stretch/>
        </p:blipFill>
        <p:spPr>
          <a:xfrm>
            <a:off x="3000240" y="214200"/>
            <a:ext cx="5943600" cy="5381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71280" y="5786280"/>
            <a:ext cx="907272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da la Ley se resume en A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1500120"/>
            <a:ext cx="3143160" cy="38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No  busques  fuera, este mandamiento  que tienes escrito dentro de ti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S. Basili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28600" y="457200"/>
            <a:ext cx="8643960" cy="6126840"/>
          </a:xfrm>
          <a:prstGeom prst="rect">
            <a:avLst/>
          </a:prstGeom>
          <a:solidFill>
            <a:srgbClr val="0d0d0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el maestro de la Ley, queriendo justificarse, preguntó a Jesús: "¿Y quién es mi prójimo?"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58" descr="C:\Documents and Settings\st benet\Mis documentos\Mis imágenes\persones\capsraces\percapsw.jpg"/>
          <p:cNvPicPr/>
          <p:nvPr/>
        </p:nvPicPr>
        <p:blipFill>
          <a:blip r:embed="rId2"/>
          <a:stretch/>
        </p:blipFill>
        <p:spPr>
          <a:xfrm>
            <a:off x="1071720" y="758880"/>
            <a:ext cx="8067600" cy="6099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60"/>
          <p:cNvSpPr/>
          <p:nvPr/>
        </p:nvSpPr>
        <p:spPr>
          <a:xfrm>
            <a:off x="3287520" y="2143080"/>
            <a:ext cx="10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72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61"/>
          <p:cNvSpPr/>
          <p:nvPr/>
        </p:nvSpPr>
        <p:spPr>
          <a:xfrm>
            <a:off x="5483160" y="2617920"/>
            <a:ext cx="70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62"/>
          <p:cNvSpPr/>
          <p:nvPr/>
        </p:nvSpPr>
        <p:spPr>
          <a:xfrm>
            <a:off x="5074200" y="615636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63"/>
          <p:cNvSpPr/>
          <p:nvPr/>
        </p:nvSpPr>
        <p:spPr>
          <a:xfrm>
            <a:off x="2145240" y="4071960"/>
            <a:ext cx="9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6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64"/>
          <p:cNvSpPr/>
          <p:nvPr/>
        </p:nvSpPr>
        <p:spPr>
          <a:xfrm>
            <a:off x="8169840" y="1643040"/>
            <a:ext cx="9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6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65"/>
          <p:cNvSpPr/>
          <p:nvPr/>
        </p:nvSpPr>
        <p:spPr>
          <a:xfrm>
            <a:off x="3149640" y="5533920"/>
            <a:ext cx="113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80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66"/>
          <p:cNvSpPr/>
          <p:nvPr/>
        </p:nvSpPr>
        <p:spPr>
          <a:xfrm>
            <a:off x="7159320" y="4938840"/>
            <a:ext cx="10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72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85840" y="214200"/>
            <a:ext cx="36432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 prójimo es  aquél que tienes del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857840" y="214200"/>
            <a:ext cx="407196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prójimo 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7-05T22:25:34Z</dcterms:modified>
  <cp:revision>347</cp:revision>
  <dc:subject>stbenet@benedictinescat.com</dc:subject>
  <dc:title>evangelio</dc:title>
</cp:coreProperties>
</file>