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On.wav" ContentType="audio/x-wav"/>
  <Override PartName="/ppt/media/pianosuave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2DC-D317-48BF-8024-DE0FE5A5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66F-57FF-4DF6-8744-B6F6966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4F5-A90B-445E-ADC7-5BE8469D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959-9CA6-49F2-B983-D95EB559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A16-94AB-429D-8FA4-F8A0D785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78E-6174-4F2C-80F5-D3C3188D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E82-A524-4F02-8F19-54C8F8D5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59D-63F7-41AB-860F-27044F92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05F-6C46-429E-8899-B805B4F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21C-8BEA-484E-892F-5920250D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5A9-84D6-4020-BF1C-2085B09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DB9-39B3-46E2-8AA3-D0F38B8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C44-AAE5-4109-A268-19D0AE006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ianosua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O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533520"/>
            <a:ext cx="453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Times New Roman"/>
              </a:rPr>
              <a:t>¿Recuerdas todos los mensajes que hemos intercambiad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Diapositiva1" descr=""/>
          <p:cNvPicPr/>
          <p:nvPr/>
        </p:nvPicPr>
        <p:blipFill>
          <a:blip r:embed="rId1"/>
          <a:srcRect l="3937" t="20997" r="55512" b="15748"/>
          <a:stretch/>
        </p:blipFill>
        <p:spPr>
          <a:xfrm>
            <a:off x="0" y="0"/>
            <a:ext cx="3711600" cy="4343400"/>
          </a:xfrm>
          <a:prstGeom prst="rect">
            <a:avLst/>
          </a:prstGeom>
          <a:ln w="0">
            <a:noFill/>
          </a:ln>
        </p:spPr>
      </p:pic>
      <p:pic>
        <p:nvPicPr>
          <p:cNvPr id="43" name="Diapositiva3" descr=""/>
          <p:cNvPicPr/>
          <p:nvPr/>
        </p:nvPicPr>
        <p:blipFill>
          <a:blip r:embed="rId2"/>
          <a:srcRect l="51181" t="20997" r="15748" b="15748"/>
          <a:stretch/>
        </p:blipFill>
        <p:spPr>
          <a:xfrm>
            <a:off x="5715000" y="3048120"/>
            <a:ext cx="2452680" cy="351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327560"/>
            <a:ext cx="453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Times New Roman"/>
              </a:rPr>
              <a:t>...donde reafirmábamos nuestra amist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2560" y="-1080"/>
            <a:ext cx="65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 Erasmo,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que llegue siempre al orga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iapositiva16" descr=""/>
          <p:cNvPicPr/>
          <p:nvPr/>
        </p:nvPicPr>
        <p:blipFill>
          <a:blip r:embed="rId1"/>
          <a:srcRect l="0" t="7874" r="0" b="7874"/>
          <a:stretch/>
        </p:blipFill>
        <p:spPr>
          <a:xfrm>
            <a:off x="0" y="60948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06960"/>
            <a:ext cx="184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 Mart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ín del manto rojo, que le guste cómo coj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Diapositiva17" descr=""/>
          <p:cNvPicPr/>
          <p:nvPr/>
        </p:nvPicPr>
        <p:blipFill>
          <a:blip r:embed="rId1"/>
          <a:srcRect l="26378" t="6299" r="26378" b="0"/>
          <a:stretch/>
        </p:blipFill>
        <p:spPr>
          <a:xfrm>
            <a:off x="237636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16000" y="18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ta Amable,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 s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insa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iapositiva18" descr=""/>
          <p:cNvPicPr/>
          <p:nvPr/>
        </p:nvPicPr>
        <p:blipFill>
          <a:blip r:embed="rId1"/>
          <a:srcRect l="0" t="12073" r="0" b="0"/>
          <a:stretch/>
        </p:blipFill>
        <p:spPr>
          <a:xfrm>
            <a:off x="0" y="533520"/>
            <a:ext cx="9144000" cy="60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0000" y="-108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 Pas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al, a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yúdam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elegir... ¿cuá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iapositiva19" descr=""/>
          <p:cNvPicPr/>
          <p:nvPr/>
        </p:nvPicPr>
        <p:blipFill>
          <a:blip r:embed="rId1"/>
          <a:srcRect l="0" t="10499" r="0" b="10499"/>
          <a:stretch/>
        </p:blipFill>
        <p:spPr>
          <a:xfrm>
            <a:off x="0" y="719280"/>
            <a:ext cx="9144000" cy="54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71840" y="6257880"/>
            <a:ext cx="210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840" y="43200"/>
            <a:ext cx="88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San Jonás, que siempre así se muestre, de frente y de at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55240" y="64184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¡AM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Diapositiva20" descr=""/>
          <p:cNvPicPr/>
          <p:nvPr/>
        </p:nvPicPr>
        <p:blipFill>
          <a:blip r:embed="rId1"/>
          <a:srcRect l="51969" t="6299" r="4724" b="6299"/>
          <a:stretch/>
        </p:blipFill>
        <p:spPr>
          <a:xfrm>
            <a:off x="457200" y="685800"/>
            <a:ext cx="3726000" cy="5638680"/>
          </a:xfrm>
          <a:prstGeom prst="rect">
            <a:avLst/>
          </a:prstGeom>
          <a:ln w="0">
            <a:noFill/>
          </a:ln>
        </p:spPr>
      </p:pic>
      <p:pic>
        <p:nvPicPr>
          <p:cNvPr id="80" name="Diapositiva20" descr=""/>
          <p:cNvPicPr/>
          <p:nvPr/>
        </p:nvPicPr>
        <p:blipFill>
          <a:blip r:embed="rId2"/>
          <a:srcRect l="3937" t="7349" r="51969" b="6299"/>
          <a:stretch/>
        </p:blipFill>
        <p:spPr>
          <a:xfrm>
            <a:off x="4800600" y="685800"/>
            <a:ext cx="383868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52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1080" y="947880"/>
            <a:ext cx="345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Envía esta plegaria a todos los amigos que deseas sean “bendecidos”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 se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egoist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apositiva21" descr=""/>
          <p:cNvPicPr/>
          <p:nvPr/>
        </p:nvPicPr>
        <p:blipFill>
          <a:blip r:embed="rId1"/>
          <a:srcRect l="2756" t="1575" r="51181" b="3675"/>
          <a:stretch/>
        </p:blipFill>
        <p:spPr>
          <a:xfrm>
            <a:off x="304920" y="228600"/>
            <a:ext cx="414972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cc"/>
                </a:solidFill>
                <a:latin typeface="Times New Roman"/>
              </a:rPr>
              <a:t>Y nos decíamos que “un amigo es el que”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523880"/>
            <a:ext cx="403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a50021"/>
                </a:solidFill>
                <a:latin typeface="Arial"/>
              </a:rPr>
              <a:t>... etc... etc...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apositiva8" descr=""/>
          <p:cNvPicPr/>
          <p:nvPr/>
        </p:nvPicPr>
        <p:blipFill>
          <a:blip r:embed="rId1"/>
          <a:srcRect l="0" t="15748" r="61024" b="10499"/>
          <a:stretch/>
        </p:blipFill>
        <p:spPr>
          <a:xfrm>
            <a:off x="6461280" y="228600"/>
            <a:ext cx="2307960" cy="32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22096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a50021"/>
                </a:solidFill>
                <a:latin typeface="Arial"/>
              </a:rPr>
              <a:t>... Y luego etc... etc... etc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iapositiva7" descr=""/>
          <p:cNvPicPr/>
          <p:nvPr/>
        </p:nvPicPr>
        <p:blipFill>
          <a:blip r:embed="rId2"/>
          <a:srcRect l="0" t="15748" r="59055" b="20997"/>
          <a:stretch/>
        </p:blipFill>
        <p:spPr>
          <a:xfrm>
            <a:off x="0" y="2819520"/>
            <a:ext cx="328788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95640" y="342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Arial"/>
              </a:rPr>
              <a:t>Para confortarte, AMIGO, en este mundo lleno de violencia, odios y miser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9528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Arial"/>
              </a:rPr>
              <a:t>...te envío esta pequeña plegaria, que todo hombre debería rezar cada noche, antes de entregarse al su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solidFill>
            <a:srgbClr val="a0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0640"/>
            <a:ext cx="16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ahoma"/>
              </a:rPr>
              <a:t>San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  <a:ea typeface="Tahoma"/>
              </a:rPr>
              <a:t>ta Patrona, hazme encontrar una bella teto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solidFill>
            <a:srgbClr val="a0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Diapositiva9" descr=""/>
          <p:cNvPicPr/>
          <p:nvPr/>
        </p:nvPicPr>
        <p:blipFill>
          <a:blip r:embed="rId1"/>
          <a:srcRect l="26772" t="6299" r="26772" b="0"/>
          <a:stretch/>
        </p:blipFill>
        <p:spPr>
          <a:xfrm>
            <a:off x="2411280" y="0"/>
            <a:ext cx="4534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63640" y="-10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ta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Joaquina... ¿cómo conquistar a esta m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positiva10" descr=""/>
          <p:cNvPicPr/>
          <p:nvPr/>
        </p:nvPicPr>
        <p:blipFill>
          <a:blip r:embed="rId1"/>
          <a:srcRect l="0" t="7874" r="0" b="2625"/>
          <a:stretch/>
        </p:blipFill>
        <p:spPr>
          <a:xfrm>
            <a:off x="0" y="49536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2600"/>
            <a:ext cx="233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ta Rosa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que sea gu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apositiva11" descr=""/>
          <p:cNvPicPr/>
          <p:nvPr/>
        </p:nvPicPr>
        <p:blipFill>
          <a:blip r:embed="rId1"/>
          <a:srcRect l="26378" t="6299" r="26378" b="0"/>
          <a:stretch/>
        </p:blipFill>
        <p:spPr>
          <a:xfrm>
            <a:off x="236232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77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 Gabriel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, haz que me sea f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iapositiva12" descr=""/>
          <p:cNvPicPr/>
          <p:nvPr/>
        </p:nvPicPr>
        <p:blipFill>
          <a:blip r:embed="rId1"/>
          <a:srcRect l="26772" t="6299" r="26772" b="0"/>
          <a:stretch/>
        </p:blipFill>
        <p:spPr>
          <a:xfrm>
            <a:off x="2209680" y="0"/>
            <a:ext cx="45342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2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nta  Brigida, 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</a:rPr>
              <a:t>que no sea fríg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positiva13" descr=""/>
          <p:cNvPicPr/>
          <p:nvPr/>
        </p:nvPicPr>
        <p:blipFill>
          <a:blip r:embed="rId1"/>
          <a:srcRect l="26772" t="6299" r="26772" b="0"/>
          <a:stretch/>
        </p:blipFill>
        <p:spPr>
          <a:xfrm>
            <a:off x="2286000" y="0"/>
            <a:ext cx="4532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iapositiva14" descr=""/>
          <p:cNvPicPr/>
          <p:nvPr/>
        </p:nvPicPr>
        <p:blipFill>
          <a:blip r:embed="rId1"/>
          <a:srcRect l="0" t="6299" r="0" b="0"/>
          <a:stretch/>
        </p:blipFill>
        <p:spPr>
          <a:xfrm>
            <a:off x="0" y="378000"/>
            <a:ext cx="9144000" cy="642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34920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 Clemente, que siempre esté caliente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1760" y="-108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nta </a:t>
            </a: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Catalina, que esté siempre mojada esa vagin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iapositiva15" descr=""/>
          <p:cNvPicPr/>
          <p:nvPr/>
        </p:nvPicPr>
        <p:blipFill>
          <a:blip r:embed="rId1"/>
          <a:srcRect l="0" t="10499" r="0" b="1050"/>
          <a:stretch/>
        </p:blipFill>
        <p:spPr>
          <a:xfrm>
            <a:off x="0" y="53352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5:54:43Z</dcterms:created>
  <dc:creator/>
  <dc:description/>
  <dc:language>en-US</dc:language>
  <cp:lastModifiedBy>Usuario</cp:lastModifiedBy>
  <dcterms:modified xsi:type="dcterms:W3CDTF">2010-04-16T21:03:17Z</dcterms:modified>
  <cp:revision>62</cp:revision>
  <dc:subject/>
  <dc:title>Presentación de PowerPoint</dc:title>
</cp:coreProperties>
</file>