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6EF-0CC4-4C95-9A64-68AF801D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993-C080-4118-8DCC-240D5199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D8D-8492-4637-8914-FB5152DE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3B9-648E-43DE-97D2-A8DBFFCD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42A-08F2-47BB-86E3-8AA2AC77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A43-E25C-42F0-8B28-8D51F7B9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2BC-73A1-49A5-8968-07BBC9B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D86-A547-4A5D-9145-0A20A1CD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808-4266-4AC3-9C07-89EC2B7C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CA0-D66E-4777-8D5C-64976A80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F18-A19A-48D6-841E-972E278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C6F-F0DD-4B93-85C8-C74F60C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73DB-105E-4F16-8689-9C719ED0F66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alquie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Ingeniero aprende, desde la infanci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notación matemática según la cual la su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 dos números reales, como por ejemplo,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819520" y="3505320"/>
                <a:ext cx="33861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4876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uede ser escrita de manera muy simple. </a:t>
            </a:r>
            <a:br>
              <a:rPr sz="3200"/>
            </a:b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Sin embargo, podemos decir, que está </a:t>
            </a:r>
            <a:r>
              <a:rPr b="0" lang="es-ES_tradnl" sz="3200" spc="-1" strike="noStrike" u="sng">
                <a:solidFill>
                  <a:srgbClr val="ffff99"/>
                </a:solidFill>
                <a:uFillTx/>
                <a:latin typeface="Times New Roman"/>
              </a:rPr>
              <a:t>totalmente</a:t>
            </a: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 carente de estilo</a:t>
            </a:r>
            <a:r>
              <a:rPr b="0" lang="es-ES_tradnl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 sobre todo para un Ingenie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Times New Roman"/>
              </a:rPr>
              <a:t>Elegancia Profesional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esde las primeras clases de Matemátic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abemos que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0056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492360" y="1628640"/>
                <a:ext cx="2051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243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y también qu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90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286000" y="3124080"/>
                <a:ext cx="48006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434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Además, todos saben que,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19520" y="5029200"/>
                <a:ext cx="342900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or lo tanto la expresión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76720" y="1295280"/>
                <a:ext cx="2590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2514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uede ser reescrita de una forma más elegante así,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5800" y="3276720"/>
                <a:ext cx="77342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5486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ual, como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ácilment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n observar, es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ucho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ás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prensible y científica.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r otra parte, sabido es 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2057400"/>
                <a:ext cx="6019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h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qu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13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95480" y="4667400"/>
                <a:ext cx="2928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z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e donde resul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057400" y="1295280"/>
                <a:ext cx="53341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2819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que, a su vez, puede ser escrita de la sigui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forma, más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lara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nsparente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38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4920" y="4343400"/>
                <a:ext cx="83818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Teniendo además en cuenta qu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666880"/>
            <a:ext cx="93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86200" y="990720"/>
                <a:ext cx="1233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19051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y que la matriz invertida de la matriz transpuesta es igual a la matriz transpuesta de la matriz inverti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(bajo la hipótesis de un espacio unidimensional), conseguimos la siguiente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mplificación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(gracias al uso de la notación vectorial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74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666880" y="4952880"/>
                <a:ext cx="3886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Si unificamos las expresiones simplificada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962520" y="1143000"/>
                <a:ext cx="1157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74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048120" y="2590920"/>
                <a:ext cx="3124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80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erá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vio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obtener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00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286000" y="4800600"/>
                <a:ext cx="480060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5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Aplicando las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mplificaciones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descritas anteriormente, resulta que, de la ecu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362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obtenemos finalmente, de forma totalmente elegante, legible, sucinta y, sobre todo,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rensible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ara todos,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la bellísima ecu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36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57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que, convengamos, es mucho más profesional que la parbulienta, vulgarísima, anodina y plebeya ecuación original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708360" y="6093000"/>
                <a:ext cx="19051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28600" y="3933720"/>
            <a:ext cx="8686800" cy="1219320"/>
            <a:chOff x="228600" y="3933720"/>
            <a:chExt cx="8686800" cy="121932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411120" y="4086000"/>
                  <a:ext cx="839628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z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lim>
                          </m:limLow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sSup>
                                                <m:e>
                                                  <m:bar>
                                                    <m:barPr>
                                                      <m:pos m:val="top"/>
                                                    </m:barPr>
                                                    <m:e>
                                                      <m:r>
                                                        <m:t xml:space="preserve">X</m:t>
                                                      </m:r>
                                                    </m:e>
                                                  </m:bar>
                                                </m:e>
                                                <m:sup>
                                                  <m:r>
                                                    <m:t xml:space="preserve">T</m:t>
                                                  </m:r>
                                                </m:sup>
                                              </m:sSup>
                                            </m:e>
                                          </m:d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sSup>
                                                <m:e>
                                                  <m:bar>
                                                    <m:barPr>
                                                      <m:pos m:val="top"/>
                                                    </m:barPr>
                                                    <m:e>
                                                      <m:r>
                                                        <m:t xml:space="preserve">X</m:t>
                                                      </m:r>
                                                    </m:e>
                                                  </m:bar>
                                                </m:e>
                                                <m:sup>
                                                  <m:r>
                                                    <m:t xml:space="preserve">−</m:t>
                                                  </m:r>
                                                  <m:r>
                                                    <m:t xml:space="preserve">1</m:t>
                                                  </m:r>
                                                </m:sup>
                                              </m:sSup>
                                            </m:e>
                                          </m:d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e>
                                  </m:d>
                                  <m:r>
                                    <m:t xml:space="preserve">!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z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sh</m:t>
                              </m:r>
                              <m:r>
                                <m:t xml:space="preserve">(</m:t>
                              </m:r>
                              <m:r>
                                <m:t xml:space="preserve">q</m:t>
                              </m:r>
                              <m:r>
                                <m:t xml:space="preserve">)</m:t>
                              </m:r>
                              <m:r>
                                <m:t xml:space="preserve">∗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anh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q</m:t>
                                  </m:r>
                                  <m:r>
                                    <m:t xml:space="preserve">)</m:t>
                                  </m:r>
                                </m:e>
                              </m:rad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>
              <a:off x="228600" y="3933720"/>
              <a:ext cx="8686800" cy="121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0920" y="1197000"/>
            <a:ext cx="8686800" cy="1219320"/>
            <a:chOff x="250920" y="1197000"/>
            <a:chExt cx="8686800" cy="121932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1262160" y="1349280"/>
                  <a:ext cx="673920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z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lim>
                          </m:limLow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z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cosh</m:t>
                              </m:r>
                              <m:r>
                                <m:t xml:space="preserve">(</m:t>
                              </m:r>
                              <m:r>
                                <m:t xml:space="preserve">q</m:t>
                              </m:r>
                              <m:r>
                                <m:t xml:space="preserve">)</m:t>
                              </m:r>
                              <m:r>
                                <m:t xml:space="preserve">∗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anh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q</m:t>
                                  </m:r>
                                  <m:r>
                                    <m:t xml:space="preserve">)</m:t>
                                  </m:r>
                                </m:e>
                              </m:rad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250920" y="1197000"/>
              <a:ext cx="8686800" cy="121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3099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914400"/>
            <a:ext cx="8126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Esta presentación fue confeccionada para los amigos abogados, para que sepan que también los ingenieros poseemos la suficiente capacidad para complicar las cosas, y enredarlas en GRANDE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Pueden enviarla también a sus amigos ingenieros, quienes sabrán apreciar la </a:t>
            </a:r>
            <a:r>
              <a:rPr b="0" i="1" lang="es-AR" sz="24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 alma ingenieri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que nos anima a seguir transformando al mun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Saludos cord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37:43Z</dcterms:created>
  <dc:creator>Jean Alexis Desvars</dc:creator>
  <dc:description/>
  <dc:language>en-US</dc:language>
  <cp:lastModifiedBy>Otepi Consultores</cp:lastModifiedBy>
  <dcterms:modified xsi:type="dcterms:W3CDTF">2008-11-28T12:12:14Z</dcterms:modified>
  <cp:revision>88</cp:revision>
  <dc:subject/>
  <dc:title>1+1 = 2</dc:title>
</cp:coreProperties>
</file>