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8E1-6319-4299-910B-E25D1E22D2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B06-AA7D-4D35-9ABE-9A81B0C078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BB01-80D4-4591-96F6-08FB5F7FE7C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8D3-2BCF-4C14-9CE2-CE22C8EB3E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2CCD-E144-4F53-97CE-ABD1C7B1E1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6B7-D925-49E5-996E-63ADADE1CB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544B-A6A0-450C-AC41-5D48A05039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673-601E-4EB2-B61C-5A168279EE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5FB-BCC4-4210-86B2-E226A664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D37-2241-4005-9E99-22B58FB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862-BE21-4764-962E-0F79543D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465-E780-418C-AE42-9B9D5023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A48-14B6-43A7-AAD7-77C7F7C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864-2321-4766-8A84-05F4170A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8CF-CE93-4A3C-B274-D6E2E33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EA1-D585-4649-B7A4-60FB756D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F86-718F-4ED6-A6A6-0973C990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A34-3D78-478F-9397-B75EB52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13A-04FA-48B7-B4A3-F1F91C4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E66-17DC-42B3-AE4F-4EC1E39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75A-DF25-47CA-BD51-32532D65FFF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AUL RIVERA\Music\dalai lama leonardo boff 02.jpg"/>
          <p:cNvPicPr/>
          <p:nvPr/>
        </p:nvPicPr>
        <p:blipFill>
          <a:blip r:embed="rId1"/>
          <a:stretch/>
        </p:blipFill>
        <p:spPr>
          <a:xfrm>
            <a:off x="1320840" y="1020600"/>
            <a:ext cx="6502320" cy="48168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1285920" y="5473800"/>
            <a:ext cx="6572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Calibri"/>
              </a:rPr>
              <a:t>Leonardo es uno de los renovadores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Calibri"/>
              </a:rPr>
              <a:t>Teología de la Lib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-214200" y="135720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Calibri"/>
              </a:rPr>
              <a:t>Breve diálogo entre  el teólogo brasil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00"/>
                </a:solidFill>
                <a:latin typeface="Calibri"/>
              </a:rPr>
              <a:t>Leonardo Boff  y el Dalai Lama.</a:t>
            </a:r>
            <a:r>
              <a:rPr b="0" lang="es-CO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1482480" y="142920"/>
            <a:ext cx="61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  IMPORTA  TU 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RAUL RIVERA\Music\dalai lama leonardo boff 01.jpg"/>
          <p:cNvPicPr/>
          <p:nvPr/>
        </p:nvPicPr>
        <p:blipFill>
          <a:blip r:embed="rId1"/>
          <a:srcRect l="18014" t="0" r="5880" b="0"/>
          <a:stretch/>
        </p:blipFill>
        <p:spPr>
          <a:xfrm>
            <a:off x="4357800" y="996840"/>
            <a:ext cx="4500360" cy="4864320"/>
          </a:xfrm>
          <a:prstGeom prst="rect">
            <a:avLst/>
          </a:prstGeom>
          <a:ln w="0">
            <a:noFill/>
          </a:ln>
        </p:spPr>
      </p:pic>
      <p:sp>
        <p:nvSpPr>
          <p:cNvPr id="53" name="2 Rectángulo"/>
          <p:cNvSpPr/>
          <p:nvPr/>
        </p:nvSpPr>
        <p:spPr>
          <a:xfrm>
            <a:off x="214200" y="428760"/>
            <a:ext cx="41436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"En el intervalo de una mesa redonda sobre </a:t>
            </a:r>
            <a:r>
              <a:rPr b="1" i="1" lang="es-CO" sz="2400" spc="-1" strike="noStrike">
                <a:solidFill>
                  <a:srgbClr val="ffffff"/>
                </a:solidFill>
                <a:latin typeface="Calibri"/>
              </a:rPr>
              <a:t>religión y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entre los pueblos, en la cual participaba el Dalai Lam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un servidor, maliciosamente, mas también con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teológico, le pregunté en mi inglés defectuo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Santidad, cuál es la mejor religión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Your holiness, what’s the best religion? 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TUTOS\TALLER\MULTIMEDIA\Imágenes\dalai lama3.jpg"/>
          <p:cNvPicPr/>
          <p:nvPr/>
        </p:nvPicPr>
        <p:blipFill>
          <a:blip r:embed="rId1"/>
          <a:stretch/>
        </p:blipFill>
        <p:spPr>
          <a:xfrm>
            <a:off x="1357200" y="1000080"/>
            <a:ext cx="6429600" cy="4508640"/>
          </a:xfrm>
          <a:prstGeom prst="rect">
            <a:avLst/>
          </a:prstGeom>
          <a:ln w="0">
            <a:noFill/>
          </a:ln>
        </p:spPr>
      </p:pic>
      <p:sp>
        <p:nvSpPr>
          <p:cNvPr id="55" name="2 Rectángulo"/>
          <p:cNvSpPr/>
          <p:nvPr/>
        </p:nvSpPr>
        <p:spPr>
          <a:xfrm>
            <a:off x="0" y="5411880"/>
            <a:ext cx="9144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-Lo que me desconcertó un poco porque yo sabía la malicia contenida en la preg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Y afirm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"La mejor religión es la que te aproxima más a Dios, al Infinito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Es aquella que te hace mejor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463680" y="0"/>
            <a:ext cx="82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Esperaba que dijera: "El budismo tibetano“ o las religiones orient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mucho más antiguas que el cristianismo ..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El Dalai Lama hizo una pequeña pausa, sonrió, me miró fijamente a los oj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TUTOS\TALLER\MULTIMEDIA\Imágenes\dalai lama.jpg"/>
          <p:cNvPicPr/>
          <p:nvPr/>
        </p:nvPicPr>
        <p:blipFill>
          <a:blip r:embed="rId1"/>
          <a:stretch/>
        </p:blipFill>
        <p:spPr>
          <a:xfrm>
            <a:off x="285840" y="412920"/>
            <a:ext cx="5263920" cy="5587920"/>
          </a:xfrm>
          <a:prstGeom prst="rect">
            <a:avLst/>
          </a:prstGeom>
          <a:ln w="0">
            <a:noFill/>
          </a:ln>
        </p:spPr>
      </p:pic>
      <p:sp>
        <p:nvSpPr>
          <p:cNvPr id="58" name="4 Rectángulo"/>
          <p:cNvSpPr/>
          <p:nvPr/>
        </p:nvSpPr>
        <p:spPr>
          <a:xfrm>
            <a:off x="5572080" y="50004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Para salir de la perplejidad del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de tan sabia respuesta, pregunté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¿Qué es lo que me hace mejor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Rectángulo"/>
          <p:cNvSpPr/>
          <p:nvPr/>
        </p:nvSpPr>
        <p:spPr>
          <a:xfrm>
            <a:off x="5429160" y="2395440"/>
            <a:ext cx="35006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  <a:ea typeface="Arial"/>
              </a:rPr>
              <a:t>El respondió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-"Aquello que te hace más compas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más sensi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más desapeg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  <a:ea typeface="Arial"/>
              </a:rPr>
              <a:t>más amoro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más humanitar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más respons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más étic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2060"/>
                </a:solidFill>
                <a:latin typeface="Calibri"/>
              </a:rPr>
              <a:t>La religión que consiga hacer eso de ti es la mejor religión." </a:t>
            </a: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TUTOS\TALLER\MULTIMEDIA\Imágenes\dalai lama2.jpg"/>
          <p:cNvPicPr/>
          <p:nvPr/>
        </p:nvPicPr>
        <p:blipFill>
          <a:blip r:embed="rId1"/>
          <a:stretch/>
        </p:blipFill>
        <p:spPr>
          <a:xfrm>
            <a:off x="4429080" y="534960"/>
            <a:ext cx="4173480" cy="5788080"/>
          </a:xfrm>
          <a:prstGeom prst="rect">
            <a:avLst/>
          </a:prstGeom>
          <a:ln w="0">
            <a:noFill/>
          </a:ln>
        </p:spPr>
      </p:pic>
      <p:sp>
        <p:nvSpPr>
          <p:cNvPr id="61" name="2 Rectángulo"/>
          <p:cNvSpPr/>
          <p:nvPr/>
        </p:nvSpPr>
        <p:spPr>
          <a:xfrm>
            <a:off x="214200" y="785880"/>
            <a:ext cx="41436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Callé, maravillado, y hasta los días de hoy esto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rumiando su respuesta sabia e irrefu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No me interesa amigo tu religión o si tienes o no tienes relig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Lo que realmente me importa es tu conducta delante de tu semejante, de tu fami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de tu trabajo, de tu comunidad, delante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Recordem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"El Universo es el eco de nuestras acciones y nuestros pensamiento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TUTOS\TALLER\MULTIMEDIA\Imágenes\dalai lama -casa.jpg"/>
          <p:cNvPicPr/>
          <p:nvPr/>
        </p:nvPicPr>
        <p:blipFill>
          <a:blip r:embed="rId1"/>
          <a:srcRect l="0" t="35634" r="0" b="0"/>
          <a:stretch/>
        </p:blipFill>
        <p:spPr>
          <a:xfrm>
            <a:off x="743040" y="1989000"/>
            <a:ext cx="7630920" cy="3154680"/>
          </a:xfrm>
          <a:prstGeom prst="rect">
            <a:avLst/>
          </a:prstGeom>
          <a:ln w="0">
            <a:noFill/>
          </a:ln>
        </p:spPr>
      </p:pic>
      <p:sp>
        <p:nvSpPr>
          <p:cNvPr id="63" name="2 Rectángulo"/>
          <p:cNvSpPr/>
          <p:nvPr/>
        </p:nvSpPr>
        <p:spPr>
          <a:xfrm>
            <a:off x="1035000" y="142920"/>
            <a:ext cx="7074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La Ley de Acción y Reacción no es exclusiva de la Fí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Es también de las relaciones hu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Si yo actúo con el bien, recibiré el 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Si actúo con el mal, recibiré el 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642960" y="5286240"/>
            <a:ext cx="7858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Aquello que nuestros abuelos nos dijeron es la más pura ver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Tendrás siempre el doble de aquello que desees a los otro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Ser feliz no es cuestión de destino. Es cuestión de elección.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TUTOS\TALLER\MULTIMEDIA\Imágenes\dalai lama -casa.jpg"/>
          <p:cNvPicPr/>
          <p:nvPr/>
        </p:nvPicPr>
        <p:blipFill>
          <a:blip r:embed="rId1"/>
          <a:stretch/>
        </p:blipFill>
        <p:spPr>
          <a:xfrm>
            <a:off x="341280" y="428760"/>
            <a:ext cx="8373960" cy="5378400"/>
          </a:xfrm>
          <a:prstGeom prst="rect">
            <a:avLst/>
          </a:prstGeom>
          <a:ln w="0">
            <a:noFill/>
          </a:ln>
        </p:spPr>
      </p:pic>
      <p:sp>
        <p:nvSpPr>
          <p:cNvPr id="66" name="4 Rectángulo"/>
          <p:cNvSpPr/>
          <p:nvPr/>
        </p:nvSpPr>
        <p:spPr>
          <a:xfrm>
            <a:off x="892080" y="428760"/>
            <a:ext cx="7359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Pensamientos porque se volverá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Palabras porque se volverá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Actos porque se hará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Costum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s Costumbres porque forjarán tu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Cará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Cuida tu Carácter porque formará tu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</a:rPr>
              <a:t>Y tu Destino será tu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878760" y="585792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No hay religión más elevada que la Ver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23:20:13Z</dcterms:created>
  <dc:creator>.</dc:creator>
  <dc:description/>
  <dc:language>en-US</dc:language>
  <cp:lastModifiedBy>.</cp:lastModifiedBy>
  <dcterms:modified xsi:type="dcterms:W3CDTF">2009-09-17T02:20:39Z</dcterms:modified>
  <cp:revision>12</cp:revision>
  <dc:subject/>
  <dc:title>Diapositiva 1</dc:title>
</cp:coreProperties>
</file>