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A88-A475-45C3-A6BF-E5FE8E98E7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526-BBEE-4FDD-9F4C-46492887CF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DA2-34C0-4B2F-9D2D-86CD4B8F41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2F9-08D5-4661-BDFD-4395B87E06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3E0-20AC-4AB2-AC11-D82F089DEE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D3D-AA9F-4743-B89A-6DC05C3D88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0F9A-D47B-4F33-B890-09237F880E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025-74D0-415C-82B1-52017F0B46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330-D384-498C-889D-A0FE36BA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1D6-60AD-4837-9F93-C8DA22B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D7B-FF34-40A7-B289-E67DA928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B25-E813-498D-B8CB-3F9214FE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5B4-02E8-48F1-A247-47A133F2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38D-BEDF-4C0A-AFB6-167BB4E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6EE-7913-4233-B12E-D02E98E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959-1A71-44B2-917D-20AC89E2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D44-444E-42E2-AD6B-A4033B01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2D7-EADF-4A40-8744-83B5ABC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1DD-3914-4C92-9DF6-C41CCA2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317-2E1E-4EA2-A441-B76AC2A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E7F-5B9E-4B08-97F1-B721C789A76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320840" y="1020600"/>
            <a:ext cx="6502320" cy="48168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Leonardo es uno de los renovadores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Teología de la Lib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-214200" y="135720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Calibri"/>
              </a:rPr>
              <a:t>Breve diálogo entre  el teólogo brasil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Calibri"/>
              </a:rPr>
              <a:t>Leonardo Boff  y el Dalai Lama.</a:t>
            </a: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1482480" y="14292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  IMPORTA  TU 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357800" y="996840"/>
            <a:ext cx="4500360" cy="4864320"/>
          </a:xfrm>
          <a:prstGeom prst="rect">
            <a:avLst/>
          </a:prstGeom>
          <a:ln w="0">
            <a:noFill/>
          </a:ln>
        </p:spPr>
      </p:pic>
      <p:sp>
        <p:nvSpPr>
          <p:cNvPr id="53" name="2 Rectángulo"/>
          <p:cNvSpPr/>
          <p:nvPr/>
        </p:nvSpPr>
        <p:spPr>
          <a:xfrm>
            <a:off x="214200" y="428760"/>
            <a:ext cx="41436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"En el intervalo de una mesa redonda sobre </a:t>
            </a:r>
            <a:r>
              <a:rPr b="1" i="1" lang="es-CO" sz="2400" spc="-1" strike="noStrike">
                <a:solidFill>
                  <a:srgbClr val="ffffff"/>
                </a:solidFill>
                <a:latin typeface="Calibri"/>
              </a:rPr>
              <a:t>religión y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entre los pueblos, en la cual participaba el Dalai Lam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un servidor, maliciosamente, mas también con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teológico, le pregunté en mi inglés defectuo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antidad, cuál es la mejor religió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Your holiness, what’s the best religion? 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357200" y="1000080"/>
            <a:ext cx="6429600" cy="4508640"/>
          </a:xfrm>
          <a:prstGeom prst="rect">
            <a:avLst/>
          </a:prstGeom>
          <a:ln w="0">
            <a:noFill/>
          </a:ln>
        </p:spPr>
      </p:pic>
      <p:sp>
        <p:nvSpPr>
          <p:cNvPr id="55" name="2 Rectángulo"/>
          <p:cNvSpPr/>
          <p:nvPr/>
        </p:nvSpPr>
        <p:spPr>
          <a:xfrm>
            <a:off x="0" y="541188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-Lo que me desconcertó un poco porque yo sabía la malicia contenida en la preg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Y afirm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"La mejor religión es la que te aproxima más a Dios, al Infinito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Es aquella que te hace mejor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463680" y="0"/>
            <a:ext cx="82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speraba que dijera: "El budismo tibetano“ o las religiones orient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mucho más antiguas que el cristianismo ..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l Dalai Lama hizo una pequeña pausa, sonrió, me miró fijamente a los oj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285840" y="412920"/>
            <a:ext cx="5263920" cy="5587920"/>
          </a:xfrm>
          <a:prstGeom prst="rect">
            <a:avLst/>
          </a:prstGeom>
          <a:ln w="0">
            <a:noFill/>
          </a:ln>
        </p:spPr>
      </p:pic>
      <p:sp>
        <p:nvSpPr>
          <p:cNvPr id="58" name="4 Rectángulo"/>
          <p:cNvSpPr/>
          <p:nvPr/>
        </p:nvSpPr>
        <p:spPr>
          <a:xfrm>
            <a:off x="5572080" y="50004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Para salir de la perplejidad de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e tan sabia respuesta, pregunt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¿Qué es lo que me hace mejo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5429160" y="2395440"/>
            <a:ext cx="35006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  <a:ea typeface="Arial"/>
              </a:rPr>
              <a:t>El respondi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-"Aquello que te hace más compas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sensi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desapeg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amoro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humanitar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respons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étic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La religión que consiga hacer eso de ti es la mejor religión." </a:t>
            </a: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4429080" y="534960"/>
            <a:ext cx="4173480" cy="5788080"/>
          </a:xfrm>
          <a:prstGeom prst="rect">
            <a:avLst/>
          </a:prstGeom>
          <a:ln w="0">
            <a:noFill/>
          </a:ln>
        </p:spPr>
      </p:pic>
      <p:sp>
        <p:nvSpPr>
          <p:cNvPr id="61" name="2 Rectángulo"/>
          <p:cNvSpPr/>
          <p:nvPr/>
        </p:nvSpPr>
        <p:spPr>
          <a:xfrm>
            <a:off x="214200" y="785880"/>
            <a:ext cx="41436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Callé, maravillado, y hasta los días de hoy est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rumiando su respuesta sabia e irrefu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No me interesa amigo tu religión o si tienes o no tienes relig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o que realmente me importa es tu conducta delante de tu semejante, de tu fami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e tu trabajo, de tu comunidad, delante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Record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"El Universo es el eco de nuestras acciones y nuestros pensamien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3" name="2 Rectángulo"/>
          <p:cNvSpPr/>
          <p:nvPr/>
        </p:nvSpPr>
        <p:spPr>
          <a:xfrm>
            <a:off x="1035000" y="142920"/>
            <a:ext cx="707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a Ley de Acción y Reacción no es exclusiva de la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s también de las relacion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i yo actúo con el bien, recibiré el 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i actúo con el mal, recibiré el 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642960" y="5286240"/>
            <a:ext cx="7858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Aquello que nuestros abuelos nos dijeron es la más pura ver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Tendrás siempre el doble de aquello que desees a los otro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er feliz no es cuestión de destino. Es cuestión de elección.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6" name="4 Rectángulo"/>
          <p:cNvSpPr/>
          <p:nvPr/>
        </p:nvSpPr>
        <p:spPr>
          <a:xfrm>
            <a:off x="892080" y="428760"/>
            <a:ext cx="7359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Pensamientos porque se volve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Palabras porque se volve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Actos porque se ha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Costum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Costumbres porque forjarán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 Carácter porque formará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Y tu Destino será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878760" y="585792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No hay religión más elevada que la Ver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3:20:13Z</dcterms:created>
  <dc:creator>.</dc:creator>
  <dc:description/>
  <dc:language>en-US</dc:language>
  <cp:lastModifiedBy>.</cp:lastModifiedBy>
  <dcterms:modified xsi:type="dcterms:W3CDTF">2009-09-17T02:20:39Z</dcterms:modified>
  <cp:revision>12</cp:revision>
  <dc:subject/>
  <dc:title>Diapositiva 1</dc:title>
</cp:coreProperties>
</file>