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10.jpeg" ContentType="image/jpeg"/>
  <Override PartName="/ppt/media/image11.gif" ContentType="image/gif"/>
  <Override PartName="/ppt/media/image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005%20-%20Oxygene%204.wav" ContentType="audio/x-wav"/>
  <Override PartName="/ppt/media/image36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37.png" ContentType="image/png"/>
  <Override PartName="/ppt/media/image33.jpeg" ContentType="image/jpeg"/>
  <Override PartName="/ppt/media/image38.png" ContentType="image/png"/>
  <Override PartName="/ppt/media/image39.jpeg" ContentType="image/jpeg"/>
  <Override PartName="/ppt/media/image28.png" ContentType="image/png"/>
  <Override PartName="/ppt/media/image7.jpeg" ContentType="image/jpeg"/>
  <Override PartName="/ppt/media/image6.gif" ContentType="image/gif"/>
  <Override PartName="/ppt/media/image29.png" ContentType="image/png"/>
  <Override PartName="/ppt/media/image8.gif" ContentType="image/gif"/>
  <Override PartName="/ppt/media/image15.png" ContentType="image/png"/>
  <Override PartName="/ppt/media/image18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362-FF09-4404-AF9E-2235CAEA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D72-5BE4-4358-AE88-B5A810B7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0C0-4FDF-4866-8E1E-EF3845D0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5CC-DBDE-47E4-9AAE-92DD7B34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CE50-E82F-4963-87D8-D5DDB83E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79B-5A4C-464C-AE3C-9F68F83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80EA-920B-4FC7-9700-D3C74745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6BF3-7E80-40E9-B534-39903688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049-A542-4F40-A350-EEC9B37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254-4025-4245-8465-F250ADA8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0B6-596B-4692-9902-B414A63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DF9-B05D-47D2-A557-320551E6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01F-854C-4EC2-A105-F6F5354D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56E-3F9D-4C24-9BDE-DAB9C11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4C32-02D5-4E45-AD9E-B09A1637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1B8-CFB9-46C0-BA3B-28D5B129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DA12-6BE3-4971-8A06-A6307023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C7112-E208-4AB8-8106-410CF91B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91220-81B0-4D16-B134-00334702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A863-A002-4413-8B48-67570AE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A0E6-086F-4A58-8B9B-3540E62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93ADA-EA1B-49DA-AF2F-D73D70B8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62C-758A-4FA1-AD89-E17812E2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4D561-3183-4617-8BA4-6378395D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5EF62-C97F-4D5B-95C6-5ECA757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05FE7-5BC8-451F-B9F7-F233569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5EE1D-D43B-4CDE-9E92-EE0C199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CA0A8-F416-44D8-A224-EC202975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C18DC-EEDF-4E14-8DA4-5010AA72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9FE2F-9CC5-4FA9-82ED-2BFB45C7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DD88-58F3-4D1F-9A4A-3D1A8402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9E0A-7129-4D15-BE84-0DE4F69D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3602-53CD-4AD1-B41D-A2F91356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8E9-4F29-4C97-979B-4D805918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A9F3-892C-4176-BFC8-F7AFCEEE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002E-5596-4F62-8FB0-1291E9B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9BD8-0217-4152-AC97-4F4E06D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4D2D-9AC2-47F0-A9CB-FAEA7339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F0D4-2EE4-4510-86ED-BC4E8D1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5DAB-CCBC-471E-BBA8-AF0E6A9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EF5C-9B78-4FB9-9833-8DF63786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1281-C89E-4A99-84C1-8CEBFAC8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5D07-9C8C-453B-9765-C45FD0F6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72673-E3E4-45C7-96A3-A41E7A57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B15-DE89-47FE-B9B8-9067F60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FB623-7499-44FA-962A-B20EFC7A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4E4E2-E8FC-4BEB-9A92-BC8EB81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BA121-307F-4507-82C7-7C15B91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0A087-28D5-401E-8B2A-E3032984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99B40-BBBC-48E0-84D3-51C95E85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28011-8BAB-4AB1-B9F4-BF513B3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15604-0B8C-4F31-AE11-B969BA64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1926C-7A65-450B-B3E5-8B9A705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7225D-9235-4DCC-A933-9BB9E63A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31A40-0EE1-4CDE-9366-3034296B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BA1-556D-45AD-B9AE-77E7ED9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D3194-874D-4C44-B6C2-D2950645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7D59-5B43-497D-B511-9FBA159B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646A-F428-4A08-8084-2D9DE9B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596F-534A-427A-AA0C-7ABDB388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006C-F231-4096-AA92-DEA4114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77DA-2225-4F10-A1DF-23CE0F90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ED667-CC46-44D1-AB1F-631411B4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B136-01FD-48BB-8600-20D27FD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E86E-3525-4242-A38E-D879FE8F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D256-37A9-4C88-943E-094ED86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7AD-BD7C-465B-A5EF-EEAEED7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350FC-881E-4493-AA0F-7F7A00B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3A8A-6C89-48E7-B5BB-D98E0EEA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5AC7-84BE-4E6D-AA41-0E820404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26676-0ABC-4281-BAAC-3C64E27F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E9CDD-9476-482F-B66F-0DC3DD8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59EF9-7C28-4A53-B8AE-66B7382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75FCA-AD17-46DE-8701-5D0007D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518DA-B456-418E-AE77-89CD216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FA8F2-F8D4-43B5-A770-7B555ABA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5D52A-F836-4A1F-AA5D-C11C50E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299-642A-4FFC-8E05-7E5D922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14CFF-0F8E-4F9B-B9F8-D6A87806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AC6D7-938F-470E-BD4C-714AD01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10E53-16A3-4284-A966-15EC3A9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DB422-8C69-4AFA-BEF2-25E47189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76825-1237-4318-9B99-91680E34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BCE-65A2-40AA-804C-FE64F4A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03D8-C4BC-47AA-96ED-683D8CC870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502-AACC-44C5-9163-DEB0ED8739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D3BC-20F8-4A50-A8C2-6109EAF579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1E7F-B57B-4505-804B-3BBF4EFDA3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791-6C7D-402B-B14C-72B3F1099C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E094-E9E9-47B9-84A7-8EB272AB8FB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DCD-B6BA-4276-8C94-4F8607C32AC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05%20-%20Oxygene%2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jiendoelmundo.wordpress.com/2009/01/03/las-piramides-de-china/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005%20-%20Oxygene%204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29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argemto.com.ar/" TargetMode="External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floweb.com/cristo/profecias.htm" TargetMode="External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futuropasado.com/?p=853" TargetMode="External"/><Relationship Id="rId5" Type="http://schemas.openxmlformats.org/officeDocument/2006/relationships/audio" Target="../media/005%20-%20Oxygene%204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68360" y="4589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Vivaldi"/>
              </a:rPr>
              <a:t>Música: Jean Michel Jar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Vivaldi"/>
              </a:rPr>
              <a:t>Oxigeno 4.w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8000" y="32986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Times New Roman"/>
              </a:rPr>
              <a:t>Perspectivas de existencia para el ser humano en el planeta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609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asa manualmente el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476280"/>
            <a:ext cx="8642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800000"/>
                </a:solidFill>
                <a:latin typeface="Vivaldi"/>
              </a:rPr>
              <a:t>Inversión de los Polos Terrestres en el 2.0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755e"/>
            </a:gs>
            <a:gs pos="100000">
              <a:srgbClr val="6dff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3685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La ingeniera oceánica Rusa-canadiense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</a:rPr>
              <a:t>Paulina Zelitsky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en el año 2.000 halló en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</a:rPr>
              <a:t>guanahacabibes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a 650 metros de profundidad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en el mar, las ruinas de una antigua civilización y con extrañas inscripciones y una </a:t>
            </a:r>
            <a:r>
              <a:rPr b="0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antigüedad de 6.000 años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i="1" lang="es-MX" sz="2000" spc="-1" strike="noStrike" u="sng">
                <a:solidFill>
                  <a:srgbClr val="ffff00"/>
                </a:solidFill>
                <a:uFillTx/>
                <a:latin typeface="Times New Roman"/>
              </a:rPr>
              <a:t>5.125 años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). Mire el gráfico hecho sobre rastreos de so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http://www.taringa.net/posts/info/1068173/Cuba:-El-Descubrimiento-de-una-Ciudad-Hundida.htm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0" r="0" b="39162"/>
          <a:stretch/>
        </p:blipFill>
        <p:spPr>
          <a:xfrm rot="2930400">
            <a:off x="3890520" y="3287520"/>
            <a:ext cx="320760" cy="536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rcRect l="39162" t="0" r="0" b="0"/>
          <a:stretch/>
        </p:blipFill>
        <p:spPr>
          <a:xfrm rot="14684400">
            <a:off x="5258520" y="4620240"/>
            <a:ext cx="201600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8000" y="537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servemos las ruinas de otra ciudad hundida al noreste de norte América, en Long Island, con una ciudadela de pirámides que tienen la misma alineación estelar de Las Pléy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8000" y="3789360"/>
            <a:ext cx="554364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China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en la región de 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Xi'an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aparecieron unas </a:t>
            </a:r>
            <a:r>
              <a:rPr b="1" i="1" lang="es-MX" sz="21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pirámides, unas de ellas más grandes que la pirámide de Keop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su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altura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es de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76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y su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largo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350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Times New Roman"/>
              </a:rPr>
              <a:t>de lado tiene 345 metros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, y su antigüedad de más de 10.000 años (</a:t>
            </a:r>
            <a:r>
              <a:rPr b="0" lang="es-MX" sz="2100" spc="-1" strike="noStrike">
                <a:solidFill>
                  <a:srgbClr val="ff0000"/>
                </a:solidFill>
                <a:latin typeface="Times New Roman"/>
              </a:rPr>
              <a:t>¿10.250 años?</a:t>
            </a:r>
            <a:r>
              <a:rPr b="0" lang="es-MX" sz="2100" spc="-1" strike="noStrike">
                <a:solidFill>
                  <a:srgbClr val="000000"/>
                </a:solidFill>
                <a:latin typeface="Times New Roman"/>
              </a:rPr>
              <a:t>). El gobierno chino se niega a mostrarlas al públ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tejiendoelmundo.wordpress.com/2009/01/03/las-piramides-de-china/</a:t>
            </a:r>
            <a:r>
              <a:rPr b="0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pyramiden4ye12"/>
          <p:cNvPicPr/>
          <p:nvPr/>
        </p:nvPicPr>
        <p:blipFill>
          <a:blip r:embed="rId3"/>
          <a:srcRect l="0" t="17032" r="0" b="8262"/>
          <a:stretch/>
        </p:blipFill>
        <p:spPr>
          <a:xfrm>
            <a:off x="0" y="-27000"/>
            <a:ext cx="9144000" cy="3672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piramides-xian51"/>
          <p:cNvPicPr/>
          <p:nvPr/>
        </p:nvPicPr>
        <p:blipFill>
          <a:blip r:embed="rId4"/>
          <a:stretch/>
        </p:blipFill>
        <p:spPr>
          <a:xfrm>
            <a:off x="5651640" y="3645000"/>
            <a:ext cx="352872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8000" y="3645000"/>
            <a:ext cx="8964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allaron la pirámide más grande del mu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no la más alta) construida por los Mayas en la cuenca del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irad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eté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Guatema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dentro de una espesa selva. Tiene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2 metros de alt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u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e de 300 metros de anch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or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0 metros de larg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 altura mide menos que la de Keops, pero a lo ancho tiene más piedras que la pirámide egipcia. Forma parte de las ruinas de la ciudad más grande de esta civilización precolomb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ttp://escoscia.blogspot.com/2009/11/piramide-la-danta.htm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3640" y="115920"/>
            <a:ext cx="59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os antiguos Atlantes sabían mucho sobre la catástrofe, guiados por Osiris e Isis, fabricaron muchos barcos flotantes y huyeron en el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año 9.792 A.c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Unos al oriente y otros al occidente, fundaron nuevas culturas. En oriente: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Egipt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En occidente: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Mayas, Olmeca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y otras. La figura de los 2 leones es una imagen del Sol que sale por el Oriente y luego sale por el occidente al invertirs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67280" y="573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s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4920" y="19080"/>
            <a:ext cx="3086280" cy="68198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rcRect l="39162" t="0" r="0" b="0"/>
          <a:stretch/>
        </p:blipFill>
        <p:spPr>
          <a:xfrm>
            <a:off x="3203640" y="5877000"/>
            <a:ext cx="1008000" cy="353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rcRect l="16767" t="50979" r="19375" b="20881"/>
          <a:stretch/>
        </p:blipFill>
        <p:spPr>
          <a:xfrm>
            <a:off x="5580000" y="4437000"/>
            <a:ext cx="352908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5954760" cy="2590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4920" y="0"/>
            <a:ext cx="5905440" cy="4149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40360" y="11592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Los Egipcios pintaron este gráfico del escape de la inundación en barcos llamados </a:t>
            </a:r>
            <a:r>
              <a:rPr b="0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ndjit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El grafico les exhibe antes y después de la inund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42320" y="608976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Mandj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rcRect l="39162" t="0" r="0" b="0"/>
          <a:stretch/>
        </p:blipFill>
        <p:spPr>
          <a:xfrm>
            <a:off x="5940360" y="6243480"/>
            <a:ext cx="1008000" cy="3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8000" y="400536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antiguos Atlantes estaban al corriente sobre la catástrofe. Y con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l horóscopo de Dender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nos anuncian con jeroglíficos, el tamaño de la catástrofe que se nos aproxima. Percibe en las 4 esquinas del gráfico las 4 figuras del Tarot, o sea: Los 4 evangelistas. Signos de: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e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scorpión, Acuario y Tau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cuyas imágenes ligadas muestran la figura de: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La Esfing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que mira a la constelación de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de espaldas a </a:t>
            </a:r>
            <a:r>
              <a:rPr b="0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Acu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y con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Escorp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Taur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sus co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4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Un cambio en el eje terrestre alrededor del año 2000 ocurri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; la tierra se romperá en la porción oeste de América, y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provoca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 inundación de muchas regiones costeras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vio los grandes lagos drenando en el Golfo de México.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Gran parte de Japón se hundirá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la inundación de Europa del norte sucederá rápid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Emergerá una nueva tierra a las afueras de la costa oriental de América del Norte, se descubriría afuera de la costa de Bimini. Será la mítica 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Atlántida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.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Destrucción general de las ciudades de Los Ángeles, San Francisco, Manhattan y Nueva York por grandes terremotos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". "Un gran deshielo polar afectará a gran parte del territorio de Inglaterra y Europa del norte, que sucederá rápidamente”. "Erupciones volcánicas en regiones tropicales e incremento de actividad volcánica en el borde del Pacífico". "Un calentamiento general en áreas frías, y un enfriamiento de la áreas cálidas del globo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25600" cy="182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547640" y="316080"/>
            <a:ext cx="741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Un personaje Clarividente fue 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dgar Cayce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l profeta durmiente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" sz="22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http://www.argemto.com.ar/</a:t>
            </a: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 He aquí algunas de sus predicciones expresadas en trance auto-hipnó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08000" y="44280"/>
            <a:ext cx="8856720" cy="64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Juan de Jerusalém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Fue otra persona capaz de “Ver” el futuro, y uno de los fundadores de la “Orden del Temple”: Escribió "</a:t>
            </a:r>
            <a:r>
              <a:rPr b="1" i="1" lang="es-ES" sz="2200" spc="-1" strike="noStrike">
                <a:solidFill>
                  <a:srgbClr val="ff0000"/>
                </a:solidFill>
                <a:latin typeface="Times New Roman"/>
              </a:rPr>
              <a:t>El Protocolo Secreto de las Profecí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" He aquí algo de lo que prev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ffcc"/>
                </a:solidFill>
                <a:uFillTx/>
                <a:latin typeface="Times New Roman"/>
                <a:hlinkClick r:id="rId1"/>
              </a:rPr>
              <a:t>http://www.tifloweb.com/cristo/profecias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Cuando empiece e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 tierra temblará en muchos lugares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s ciudades se hundirá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todo lo que se haya construido sin escuchar a los sabios será amenazado y destruido;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lodo hundirá los puebl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suelo se abrirá bajo los palaci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hombre se obstinará porque el orgullo es su locur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no escuchará las advertencias repetidas de la tierra, pero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incendio destruirá las nuevas Rom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y, entre los escombros acumulados, los pobres y los bárbaros, a pesar de las legiones, saquearán las riquezas abandon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Cuando empiece e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el sol quemará la tierra; el aire ya no será velo que protege del fuego. No será más que una cortina agujereada y la luz ardiente consumirá las pieles y los ojos.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mar se alzará como agua enfurecid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las ciudades y las riberas quedarán inundadas y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continentes enteros desaparecerá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ff00"/>
                </a:solidFill>
                <a:uFillTx/>
                <a:latin typeface="Times New Roman"/>
              </a:rPr>
              <a:t>los hombres se refugiarán en las alturas</a:t>
            </a:r>
            <a:r>
              <a:rPr b="1" i="1" lang="es-ES" sz="2200" spc="-1" strike="noStrike">
                <a:solidFill>
                  <a:srgbClr val="ffff00"/>
                </a:solidFill>
                <a:latin typeface="Times New Roman"/>
              </a:rPr>
              <a:t> y olvidando lo ocurrido, iniciarán la reconstrucción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79280" y="44280"/>
            <a:ext cx="878544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el hombre ya no será el único soberano, pues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la mujer empuñará el cetro; será la gran maestra de los tiempos futuros y lo que piense lo impondrá a los hombr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será la madre de ese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Difundirá la dulzura tierna de la madre tras los días del diablo; será la belleza después de la fealdad de los tiempos bárbaros;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el año mil que viene después de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cambiará en poco tiempo; se amará y se compartirá, se soñará y se dará vida a los s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el hombre conocerá un segundo nacimiento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el espíritu se apoderará de las gent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que comulgarán en fraternidad; entonces </a:t>
            </a: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e anunciará el fin de los tiempos bárbaro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Será el tiempo de un nuevo vigor de la fe;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después de los días negros del inicio de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año mil que viene después de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empezarán los días felice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el hombre reconocerá el camino de los hombres y </a:t>
            </a:r>
            <a:r>
              <a:rPr b="1" i="1" lang="es-ES" sz="2200" spc="-1" strike="noStrike">
                <a:solidFill>
                  <a:srgbClr val="ffcc00"/>
                </a:solidFill>
                <a:latin typeface="Times New Roman"/>
              </a:rPr>
              <a:t>la tierra será ordenada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legados plenamente al año mil que sigue al año mil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el hombre sabrá que todos los seres vivos son portadores de luz y que son criaturas que deben ser respetadas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habrá construido las ciudades nuevas en el cielo, sobre la tierra y sobre el mar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. Conservará en la memoria lo que fue y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Times New Roman"/>
              </a:rPr>
              <a:t>sabrá leer lo que será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i="1" lang="es-ES" sz="2200" spc="-1" strike="noStrike" u="sng">
                <a:solidFill>
                  <a:srgbClr val="ffcc00"/>
                </a:solidFill>
                <a:uFillTx/>
                <a:latin typeface="Times New Roman"/>
              </a:rPr>
              <a:t>ya no tendrá miedo de su propia muerte</a:t>
            </a: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, pues en su vida habrá vivido muchas vidas y sabrá que la luz nunca se apagará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995640" y="44280"/>
            <a:ext cx="50752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Este mensaje se basa en los estudios del astrónomo belga </a:t>
            </a:r>
            <a:r>
              <a:rPr b="1" i="1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rick Geryl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. Él halló en “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Las Profecías Maya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 que </a:t>
            </a:r>
            <a:r>
              <a:rPr b="0" i="1" lang="es-MX" sz="2600" spc="-1" strike="noStrike">
                <a:solidFill>
                  <a:srgbClr val="000000"/>
                </a:solidFill>
                <a:latin typeface="Times New Roman"/>
              </a:rPr>
              <a:t>cad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5.125 año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el centro de la galaxia emite un “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Pulso energético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 que induce una </a:t>
            </a:r>
            <a:r>
              <a:rPr b="1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inversión a los polos de la tierr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, y el 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hundimiento de placas tectónicas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y por eso, muchos pueblos antiguos se hundieron en el mar, </a:t>
            </a:r>
            <a:r>
              <a:rPr b="0" i="1" lang="es-MX" sz="2600" spc="-1" strike="noStrike">
                <a:solidFill>
                  <a:srgbClr val="000000"/>
                </a:solidFill>
                <a:latin typeface="Times New Roman"/>
              </a:rPr>
              <a:t>Patrick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desea salvar personas; por eso Él escribió el libro “</a:t>
            </a:r>
            <a:r>
              <a:rPr b="0" i="1" lang="es-MX" sz="2600" spc="-1" strike="noStrike" u="sng">
                <a:solidFill>
                  <a:srgbClr val="ff0000"/>
                </a:solidFill>
                <a:uFillTx/>
                <a:latin typeface="Times New Roman"/>
              </a:rPr>
              <a:t>La Profecía de Orión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97360" cy="5157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529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Times New Roman"/>
              </a:rPr>
              <a:t>Puedes leerlo en Internet. Aquí está su li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ttp://www.bibliotecapleyades.net/ciencia/profeciaorion/ciencia_profeciaorion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79280" y="115920"/>
            <a:ext cx="878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ichel de Nostradamu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(1503-1566)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 un personaje “vidente” de tiempos futuros. Estudiante destacado de Medicina, Astronomía, Herbostería y Química. Tuvo 4 hijos y 4 hijas a quienes perdió en la peste; esto le llevó al aislamiento en donde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desarrolló sus dotes paranormal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y a escribir una cantidad de profecías agrupadas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Centurias y Cuartet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redactadas en lenguaje críptico para que solo personas iniciadas las entendieran. He aquí algunas de e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ttp://www.argemto.com.ar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Habrá Terremotos y erupciones volcánicas, se deberán a actividad causada por la conjunción de los planetas, lo que también causará un cambio de dirección de ést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Una desviación ocurrirá cerca del siglo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Será tan abrupto como un período de 6 a 10 hor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El fin de la civilizació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a civilización como la conocemos,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jará de existi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(I. P53)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as ciudades ya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serán como las vem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(I. p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Geograf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Los continentes como se conocen, dejarán de existir, o cambiarán dramáticamente (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. P52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parte central de los continentes se separará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Los continentes de todo el mundo serán afect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es-ES" sz="2000" spc="-1" strike="noStrike">
                <a:solidFill>
                  <a:srgbClr val="ffcc00"/>
                </a:solidFill>
                <a:latin typeface="Times New Roman"/>
              </a:rPr>
              <a:t>Las masas de agua cubrirán un mayor porcentaje de la tierr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Los continentes que están unidos se separarán, siendo divididos por agua donde no lo estaban. </a:t>
            </a:r>
            <a:r>
              <a:rPr b="1" i="1" lang="es-ES" sz="2000" spc="-1" strike="noStrike">
                <a:solidFill>
                  <a:srgbClr val="ff0000"/>
                </a:solidFill>
                <a:latin typeface="Times New Roman"/>
              </a:rPr>
              <a:t>No habrá un solo continente que no sea afecta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Una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gran parte de Asia será cubierta por el mar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 África será atravesada por un canal. (I. P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8000" y="11592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cc00"/>
                </a:solidFill>
                <a:latin typeface="Times New Roman"/>
              </a:rPr>
              <a:t>Continuación de: </a:t>
            </a:r>
            <a:r>
              <a:rPr b="1" i="1" lang="es-ES" sz="2100" spc="-1" strike="noStrike">
                <a:solidFill>
                  <a:srgbClr val="ff0000"/>
                </a:solidFill>
                <a:latin typeface="Times New Roman"/>
              </a:rPr>
              <a:t>Michel de Nostradamu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cc00"/>
                </a:solidFill>
                <a:latin typeface="Times New Roman"/>
              </a:rPr>
              <a:t>Preparación / Sobrevivencia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humanidad debe ser advertida. La gente debe prepararse espiritualmente e intelectualmente para los cambios climático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53)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os problemas de supervivencia serán más duros en los países convertidos en isla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6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 u="sng">
                <a:solidFill>
                  <a:srgbClr val="ff0000"/>
                </a:solidFill>
                <a:uFillTx/>
                <a:latin typeface="Times New Roman"/>
              </a:rPr>
              <a:t>El desviamiento de los planetas marcará el inicio de una nueva era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. (I p53, I. p56)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0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habrá muertes físic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no habrá muerte de la conciencia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sino una nueva perspectiva. Habrá aquellos que quedarán para hacer un nuevo comienzo para la Tierra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. P5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ff0000"/>
                </a:solidFill>
                <a:latin typeface="Times New Roman"/>
              </a:rPr>
              <a:t>Nostradamus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afirma que sus comunicaciones pretenden ayudarnos a evitar sus peores visiones, que podrían ser evitadas con gran determinación. Los tiempos problemáticos serán un tiempo cansador, desgastador. </a:t>
            </a:r>
            <a:r>
              <a:rPr b="1" i="1" lang="es-ES" sz="2100" spc="-1" strike="noStrike" u="sng">
                <a:solidFill>
                  <a:srgbClr val="ffffff"/>
                </a:solidFill>
                <a:uFillTx/>
                <a:latin typeface="Times New Roman"/>
              </a:rPr>
              <a:t>Los espíritus en la tierra están aquí por elección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para trabajar sobre su karma. Vivir en este período será como concentrar el karma o el equivalente a 10 vidas humanas prome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humanidad empezará a concentrarse en su desarrollo espiritual. El conocimiento ha estado en frente de Él, pero no ha sido notado o comprendido. Cuando empiece a darse cuenta lo que es posible, se asombrará. En el futuro lejano, </a:t>
            </a:r>
            <a:r>
              <a:rPr b="1" i="1" lang="es-ES" sz="2100" spc="-1" strike="noStrike" u="sng">
                <a:solidFill>
                  <a:srgbClr val="ffcc00"/>
                </a:solidFill>
                <a:uFillTx/>
                <a:latin typeface="Times New Roman"/>
              </a:rPr>
              <a:t>los viajes interestelares serán mentale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" sz="2100" spc="-1" strike="noStrike">
                <a:solidFill>
                  <a:srgbClr val="ffffff"/>
                </a:solidFill>
                <a:latin typeface="Times New Roman"/>
              </a:rPr>
              <a:t>por emanaciones del poder PSI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, más que mecánicos. Aunque también los habrá mecánicos.</a:t>
            </a: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 (I p 307) (CIV-25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e75"/>
            </a:gs>
            <a:gs pos="100000">
              <a:srgbClr val="aff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79280" y="115920"/>
            <a:ext cx="87854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ste mensaje va a ser aceptado (+) por una parte de quienes lo lean, va a ser rechazado (-) por otra parte de las personas que lo vean, y le va a ser neutro o indiferente (-) a otra porción de los lectores a quienes les llegue, de acuerdo a la ley de la “Triple energía”, energía positiva (+) energía negativa (-) y energía neutra (+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0000"/>
                </a:solidFill>
                <a:latin typeface="Times New Roman"/>
              </a:rPr>
              <a:t>Los Mayas, Michel de Nostradamus, Edgar Cayce, Juan de Jerusalém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 y otros videntes, pronosticaron que se va a dar ese giro de la tierra. El Sol disminuirá su energía y su magnetismo, por eso habrá </a:t>
            </a:r>
            <a:r>
              <a:rPr b="1" i="1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tres días de oscuridad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. Mientras el Sol reactiva su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Luego de eso llegará un tiempo glorioso de mucha luz y de plenitud de Consciencia. Este es un mensaje de aviso y reflexión para nosotros de parte de esos personajes clarivi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Si el giro sucede, estemos prepa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Y si el giro </a:t>
            </a:r>
            <a:r>
              <a:rPr b="0" lang="es-MX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 llega a suceder, ¡</a:t>
            </a:r>
            <a:r>
              <a:rPr b="0" i="1" lang="es-MX" sz="2400" spc="-1" strike="noStrike">
                <a:solidFill>
                  <a:srgbClr val="ff0000"/>
                </a:solidFill>
                <a:latin typeface="Times New Roman"/>
              </a:rPr>
              <a:t>Muy bien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db"/>
            </a:gs>
            <a:gs pos="100000">
              <a:srgbClr val="54756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ble Mapamundi luego del giro de los P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44280"/>
            <a:ext cx="91440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Llegados los tiempos duros de la inversión polar, posiblemente escasearán los alimentos. Se ha creado un súper alimento llamado </a:t>
            </a:r>
            <a:r>
              <a:rPr b="1" lang="es-ES" sz="23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Sampa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 y con una pelotita del tamaño de 1 bola de Ping pong y buena cantidad de agua, alimentaría por todo 1 día a 1 ser humano. Conviene producir muchas bolitas de este alimento y tenerlas disponibles. Todos los ingredientes se muelen </a:t>
            </a:r>
            <a:r>
              <a:rPr b="1" lang="es-ES" sz="23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uy bien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, se mezclan </a:t>
            </a:r>
            <a:r>
              <a:rPr b="1" lang="es-ES" sz="23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muy bien</a:t>
            </a: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 y se mojan con la miel. 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http://members.fortunecity.es/jt/recetas.ht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Sampa Ingredientes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fríjol roj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lentej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garbanz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maní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maíz porva (maíz amarillo con cáscara, no trillado ni refin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trig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1 libra de plátano verde (Tres plátanos hartones grand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2 botellas de miel de abej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Con la cantidad indicada salen unas 210 bolitas, bien almacenadas en frascos de vidrio o plástico se pueden conservar hasta por 4  años</a:t>
            </a:r>
            <a:r>
              <a:rPr b="0" lang="es-ES" sz="2300" spc="-1" strike="noStrike">
                <a:solidFill>
                  <a:srgbClr val="ffffff"/>
                </a:solidFill>
                <a:latin typeface="Times New Roman"/>
                <a:ea typeface="SimSu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5075"/>
            </a:gs>
            <a:gs pos="100000">
              <a:srgbClr val="d7a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084720" y="5877000"/>
            <a:ext cx="25146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ivaldi"/>
              </a:rPr>
              <a:t>Keve Jack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635280" y="2349360"/>
            <a:ext cx="216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Fi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75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24000" y="44280"/>
            <a:ext cx="842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ayo energético viniendo del centro galáctic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254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Cada </a:t>
            </a:r>
            <a:r>
              <a:rPr b="0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5.125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años, </a:t>
            </a:r>
            <a:r>
              <a:rPr b="1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Hunab-Ku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(o sea el centro de la galaxia, así llamado por los mayas) emite un rayo de </a:t>
            </a:r>
            <a:r>
              <a:rPr b="0" i="1" lang="es-MX" sz="2700" spc="-1" strike="noStrike">
                <a:solidFill>
                  <a:srgbClr val="ffff00"/>
                </a:solidFill>
                <a:latin typeface="Times New Roman"/>
              </a:rPr>
              <a:t>sincronización energética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 que invierte la energía de los polos del planeta Tierra y eso hace fluctuar las </a:t>
            </a:r>
            <a:r>
              <a:rPr b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placas tectónicas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unas placas emergen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, y </a:t>
            </a:r>
            <a:r>
              <a:rPr b="0" i="1" lang="es-MX" sz="2700" spc="-1" strike="noStrike" u="sng">
                <a:solidFill>
                  <a:srgbClr val="ffff00"/>
                </a:solidFill>
                <a:uFillTx/>
                <a:latin typeface="Times New Roman"/>
              </a:rPr>
              <a:t>otras placas se hunden</a:t>
            </a:r>
            <a:r>
              <a:rPr b="0" lang="es-MX" sz="2700" spc="-1" strike="noStrike">
                <a:solidFill>
                  <a:srgbClr val="ffff00"/>
                </a:solidFill>
                <a:latin typeface="Times New Roman"/>
              </a:rPr>
              <a:t>. Ciudades construidas sobre esas placas en la superficie terrestre se hundieron en el m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 rot="6313200">
            <a:off x="5442840" y="1041120"/>
            <a:ext cx="319320" cy="5033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8101080" y="4076640"/>
            <a:ext cx="431640" cy="414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 rot="1375800">
            <a:off x="7921440" y="389700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08000" y="549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iajamos en el planeta Tierra, orbitando alrededor del sistema Solar y alrededor de la galaxia la Vía Láctea y nuestro planeta se encuentra con ese chorro energético cada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125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 rot="3792000">
            <a:off x="2282400" y="2366640"/>
            <a:ext cx="287280" cy="4691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 rot="14505000">
            <a:off x="6294240" y="913680"/>
            <a:ext cx="298440" cy="31687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 rot="8185200">
            <a:off x="3276360" y="475920"/>
            <a:ext cx="215640" cy="3097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 rot="19111200">
            <a:off x="6122520" y="3213000"/>
            <a:ext cx="249480" cy="388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00720" y="3203640"/>
            <a:ext cx="502920" cy="482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 rot="3460800">
            <a:off x="4356000" y="3057480"/>
            <a:ext cx="82728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rcRect l="0" t="0" r="0" b="229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7240" y="4797360"/>
            <a:ext cx="328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Antes del 22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iciembre del 2.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a tierra gira as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4863960"/>
            <a:ext cx="35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spués del 22 de diciembre del 2.012 la tierra girará as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79280" y="105876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 rot="10800000">
            <a:off x="5225760" y="54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 rot="16512000">
            <a:off x="4691880" y="1738800"/>
            <a:ext cx="2779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627280" y="154080"/>
            <a:ext cx="352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Los antiguos ya sabían que cada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5.125</a:t>
            </a:r>
            <a:r>
              <a:rPr b="1" i="1" lang="es-MX" sz="2400" spc="-1" strike="noStrike">
                <a:solidFill>
                  <a:srgbClr val="ffff00"/>
                </a:solidFill>
                <a:latin typeface="Arial"/>
              </a:rPr>
              <a:t> años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la tierra invierte polos y lo mostraron en la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carta 10 del Tarot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y asimismo en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a Esfinge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que mira al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Signo 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. Y deja ver que en las 4 Eras zodiacales de los signos fijos: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Taur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Escorp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Acuar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es cuando se da el cambio polar, y es más intenso en las Eras de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e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0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Acuario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La Esfinge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 es la síntesis de esas 4 eras que señala es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rcRect l="6488" t="4632" r="2673" b="0"/>
          <a:stretch/>
        </p:blipFill>
        <p:spPr>
          <a:xfrm>
            <a:off x="6156360" y="-27000"/>
            <a:ext cx="3024000" cy="3887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0" t="0" r="0" b="8867"/>
          <a:stretch/>
        </p:blipFill>
        <p:spPr>
          <a:xfrm>
            <a:off x="0" y="0"/>
            <a:ext cx="2619360" cy="4176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rcRect l="4557" t="0" r="0" b="0"/>
          <a:stretch/>
        </p:blipFill>
        <p:spPr>
          <a:xfrm>
            <a:off x="6156360" y="3860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0" y="4221000"/>
            <a:ext cx="26272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50920" y="400536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Cuando ese rayo de sincronización llega cada </a:t>
            </a:r>
            <a:r>
              <a:rPr b="0" i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5.125 años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, produce muchos cambios. Muchas culturas antiguas se hundieron en el mar. Mu y La Atlántida fueron dos de ellas. Han existido más civilizaciones extinguidas. Se afirma sobre 82 de ellas. Hoy día se han hallado las huellas de algunas. Te invito a mir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3456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463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3780000" y="3443400"/>
            <a:ext cx="5400360" cy="3414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3573360"/>
            <a:ext cx="37800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Japón el buzo </a:t>
            </a:r>
            <a:r>
              <a:rPr b="0" lang="es-MX" sz="2200" spc="-1" strike="noStrike">
                <a:solidFill>
                  <a:srgbClr val="ff0000"/>
                </a:solidFill>
                <a:latin typeface="Times New Roman"/>
              </a:rPr>
              <a:t>Masaaki Kimur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halló en 1.986 la ciudad sumergida de </a:t>
            </a:r>
            <a:r>
              <a:rPr b="0" lang="es-MX" sz="2200" spc="-1" strike="noStrike">
                <a:solidFill>
                  <a:srgbClr val="cc0000"/>
                </a:solidFill>
                <a:latin typeface="Times New Roman"/>
              </a:rPr>
              <a:t>Yonaguni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, a 30 metros de profundidad en las islas </a:t>
            </a:r>
            <a:r>
              <a:rPr b="0" lang="es-MX" sz="2200" spc="-1" strike="noStrike">
                <a:solidFill>
                  <a:srgbClr val="cc0000"/>
                </a:solidFill>
                <a:latin typeface="Times New Roman"/>
              </a:rPr>
              <a:t>Ryu-Ryu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, hundida hace unos 5.000 años (¿5.125?) luego de un cataclis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9999"/>
                </a:solidFill>
                <a:uFillTx/>
                <a:latin typeface="Times New Roman"/>
                <a:ea typeface="SimSun"/>
                <a:hlinkClick r:id="rId4"/>
              </a:rPr>
              <a:t>http://www.futuropasado.com/?p=853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rcRect l="0" t="0" r="6191" b="0"/>
          <a:stretch/>
        </p:blipFill>
        <p:spPr>
          <a:xfrm>
            <a:off x="0" y="134136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4365720"/>
            <a:ext cx="4643280" cy="2492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rcRect l="3212" t="9339" r="0" b="8630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352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1587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cc00"/>
                </a:solidFill>
                <a:latin typeface="Arial"/>
              </a:rPr>
              <a:t>Yonaguni. Ubicación y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cc00"/>
                </a:solidFill>
                <a:latin typeface="Arial"/>
              </a:rPr>
              <a:t>Tridimens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0:11:15Z</dcterms:created>
  <dc:creator>Rika Vandepitte</dc:creator>
  <dc:description/>
  <dc:language>en-US</dc:language>
  <cp:lastModifiedBy>Keve Jacko</cp:lastModifiedBy>
  <dcterms:modified xsi:type="dcterms:W3CDTF">2010-02-28T09:18:11Z</dcterms:modified>
  <cp:revision>39</cp:revision>
  <dc:subject/>
  <dc:title>Dia 1</dc:title>
</cp:coreProperties>
</file>