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22.jpeg" ContentType="image/jpeg"/>
  <Override PartName="/ppt/media/image10.jpeg" ContentType="image/jpeg"/>
  <Override PartName="/ppt/media/image11.gif" ContentType="image/gif"/>
  <Override PartName="/ppt/media/image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005%20-%20Oxygene%204.wav" ContentType="audio/x-wav"/>
  <Override PartName="/ppt/media/image36.jpeg" ContentType="image/jpeg"/>
  <Override PartName="/ppt/media/image4.jpeg" ContentType="image/jpeg"/>
  <Override PartName="/ppt/media/image40.png" ContentType="image/png"/>
  <Override PartName="/ppt/media/image9.jpeg" ContentType="image/jpeg"/>
  <Override PartName="/ppt/media/image37.png" ContentType="image/png"/>
  <Override PartName="/ppt/media/image33.jpeg" ContentType="image/jpeg"/>
  <Override PartName="/ppt/media/image38.png" ContentType="image/png"/>
  <Override PartName="/ppt/media/image39.jpeg" ContentType="image/jpeg"/>
  <Override PartName="/ppt/media/image28.png" ContentType="image/png"/>
  <Override PartName="/ppt/media/image7.jpeg" ContentType="image/jpeg"/>
  <Override PartName="/ppt/media/image6.gif" ContentType="image/gif"/>
  <Override PartName="/ppt/media/image29.png" ContentType="image/png"/>
  <Override PartName="/ppt/media/image8.gif" ContentType="image/gif"/>
  <Override PartName="/ppt/media/image15.png" ContentType="image/png"/>
  <Override PartName="/ppt/media/image18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4E1-1F4D-48A2-8CDC-0D626F57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52F-20BF-4317-803F-4537BDE0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1EE-8C3F-48D5-B531-E8926C63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B06-75B2-4CCC-A637-5451F611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C85E-BB63-4899-89F8-05CE7193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6C52-1F0E-4DF4-AF56-C192A65A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C99C-28E8-4200-9E70-569AC2F1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474F-DD3B-4545-AC0B-C666249E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E83B-C319-4B6C-BE1E-6E98E03C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7B84-E3A8-4F14-8073-B44B5898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E705-3F65-4340-B909-25539648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860-B705-44DE-B23C-A71B56E8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0C9E-83CD-42AE-91E0-CE4FDA33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468F-141C-49F8-996F-693A5F4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2FC4-E29E-4281-8263-342B606C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B040-67C7-429C-AF2B-107F878C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AC62-D809-475A-B11C-AE264AFA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E7F6A-09EE-49E5-8EBF-1DF0904C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7F91F-2F88-42E8-BC84-3DDCBEDA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A6D8B-8977-4060-A5CE-C39C5D68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C3CBE-CAD8-442A-96F2-4EE20A40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2F7A0-BE8E-4EF9-99CA-AECA817E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9B7-2C53-478E-AF4C-8A5D6FA0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11521-5330-4844-82F3-127B8B9B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5721B-E858-4BA6-8800-2F664E14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99EB0-212E-4A48-A60B-553FDD46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8F5C1-4D77-4F26-BE65-53AB5701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C89E3-EE91-4D14-975F-E38E1F99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91838-CD14-4EB3-BA3B-675A375A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38B20-695B-4779-834E-22D584C5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8D349-7B6F-4E71-94EB-3EFD1D8D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6F5B1-0927-4B1C-B636-03655159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9623F-C22C-4C50-926C-2011D3FE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8DF-93E6-4E39-9D61-FDE67690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0A0D1-C940-4DC8-B56B-92132D54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9F7FB-8354-483A-B010-7902C419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B6A52-3B18-4D95-8A6E-B1DCB429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3AB1E-F96A-4D42-B179-519A1B9F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A2E7B-52CA-4186-86C2-565E033D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5EE31-3BDC-4533-9520-DB21E7AA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4DF70-1B24-43D2-AFE3-E1358F96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CF4FC-4696-4986-AA01-5CDC22B2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EA5DF-A4D3-43EC-B8D8-5D89A263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0CAA40-5E62-41A9-BD2C-3F091398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0B4-897E-4422-B755-886E4795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7EEC3-4A26-4821-9D2B-488F1E2B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F8C30-40CB-409E-8B0F-54782F63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6714A-EFCB-47F6-B05A-4770766D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578DAA-88DA-4BF5-8760-62347D77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335D5-52B0-4426-B6E1-35FB8844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958A0-1F17-4698-A892-42E74755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10214-138C-432C-8F1B-C3096C15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A502B-0427-4CC4-B8A8-67B29057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D12B9-32A6-45A2-B708-785FCF03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0286A-68C5-4805-81E5-09AD19BF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624-A7F4-4382-9099-F6844E9A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AA8CE-9FCD-4924-96B7-F99E1A32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62D89-F8DB-4993-B2A1-3B3C0B2D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8542B-6A57-470B-A679-C42C65F1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3978A-A953-40C9-B79F-92DAE99A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6529D-DEE8-4C13-A498-297B8D8D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A17F6-1579-4524-82A2-F911D188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C0A29-8B20-405D-8B84-03EAF594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0EE3D-17F3-41F9-B547-E3668A59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BD229-3C3D-45C9-9BA2-9EAD815E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509F5-9B4D-478B-8742-8524A476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11CD-E80D-40FD-AC91-61ACE794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A431A-8ED2-4823-A510-75B94575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249BC-83BE-43DC-B9B1-808308C9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5AE7C-6703-4FB4-BD94-D099056F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53DB7-5E72-4A07-8A0E-8E3B18F7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AA837-5D66-4665-9931-6921DC3D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95807-A738-42E3-B96D-9EB11D22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178C9-2A23-4297-A32F-84905FB6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3FFC6-431A-4A26-A186-7750EBCA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58118-576A-4240-B95D-9C284BB3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6075F1-3BCB-415B-A745-54390309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1EB-EB77-405F-8C2A-FE1DFEA7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3953BA-6A1E-4690-A465-8A1840F7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E130E6-0E2E-47DE-BFB4-F6D91242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9A25B-2E11-4673-9344-779AB8F6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A1EC9-9C14-478D-A3F9-217BDA3E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2D8C9-5EFF-473E-B97D-B91C0B9E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38C-CD93-40B3-91FD-10EE7A24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631F-00EC-4844-BFB3-01C50AF796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5DDB-0717-4DD2-A555-58EA70675A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9BC2-9174-4A91-A2B4-7B61A97EF6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6789-8E3E-4758-88CE-CDE4A0D897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1F73-92A0-4832-87AD-6AE5349804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53B9-5031-4722-BCAE-FA3E6462E3C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6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9360-4558-4225-9CF1-D2917634C66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005%20-%20Oxygene%204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jiendoelmundo.wordpress.com/2009/01/03/las-piramides-de-china/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audio" Target="../media/005%20-%20Oxygene%204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29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argemto.com.ar/" TargetMode="External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floweb.com/cristo/profecias.htm" TargetMode="External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hyperlink" Target="http://www.futuropasado.com/?p=853" TargetMode="External"/><Relationship Id="rId5" Type="http://schemas.openxmlformats.org/officeDocument/2006/relationships/audio" Target="../media/005%20-%20Oxygene%204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68360" y="458964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Vivaldi"/>
              </a:rPr>
              <a:t>Música: Jean Michel Jar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Vivaldi"/>
              </a:rPr>
              <a:t>Oxigeno 4.w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08000" y="32986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Times New Roman"/>
              </a:rPr>
              <a:t>Perspectivas de existencia para el ser humano en el planeta Ti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51280" y="6093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asa manualmente el mens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476280"/>
            <a:ext cx="8642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800000"/>
                </a:solidFill>
                <a:latin typeface="Vivaldi"/>
              </a:rPr>
              <a:t>Inversión de los Polos Terrestres en el 2.0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755e"/>
            </a:gs>
            <a:gs pos="100000">
              <a:srgbClr val="6dffc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3685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La ingeniera oceánica Rusa-canadiense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</a:rPr>
              <a:t>Paulina Zelitsky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 en el año 2.000 halló en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</a:rPr>
              <a:t>guanahacabibes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s-MX" sz="2000" spc="-1" strike="noStrike" u="sng">
                <a:solidFill>
                  <a:srgbClr val="ffff00"/>
                </a:solidFill>
                <a:uFillTx/>
                <a:latin typeface="Times New Roman"/>
              </a:rPr>
              <a:t>a 650 metros de profundidad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 en el mar, las ruinas de una antigua civilización y con extrañas inscripciones y una </a:t>
            </a:r>
            <a:r>
              <a:rPr b="0" lang="es-MX" sz="2000" spc="-1" strike="noStrike" u="sng">
                <a:solidFill>
                  <a:srgbClr val="ffff00"/>
                </a:solidFill>
                <a:uFillTx/>
                <a:latin typeface="Times New Roman"/>
              </a:rPr>
              <a:t>antigüedad de 6.000 años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¿</a:t>
            </a:r>
            <a:r>
              <a:rPr b="1" i="1" lang="es-MX" sz="2000" spc="-1" strike="noStrike" u="sng">
                <a:solidFill>
                  <a:srgbClr val="ffff00"/>
                </a:solidFill>
                <a:uFillTx/>
                <a:latin typeface="Times New Roman"/>
              </a:rPr>
              <a:t>5.125 años</a:t>
            </a: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?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). Mire el gráfico hecho sobre rastreos de son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http://www.taringa.net/posts/info/1068173/Cuba:-El-Descubrimiento-de-una-Ciudad-Hundida.html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rcRect l="0" t="0" r="0" b="39162"/>
          <a:stretch/>
        </p:blipFill>
        <p:spPr>
          <a:xfrm rot="2930400">
            <a:off x="3890520" y="3287520"/>
            <a:ext cx="320760" cy="5367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rcRect l="39162" t="0" r="0" b="0"/>
          <a:stretch/>
        </p:blipFill>
        <p:spPr>
          <a:xfrm rot="14684400">
            <a:off x="5258520" y="4620240"/>
            <a:ext cx="2016000" cy="35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8000" y="53737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bservemos las ruinas de otra ciudad hundida al noreste de norte América, en Long Island, con una ciudadela de pirámides que tienen la misma alineación estelar de Las Pléy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08000" y="3789360"/>
            <a:ext cx="5543640" cy="30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0" lang="es-MX" sz="2100" spc="-1" strike="noStrike">
                <a:solidFill>
                  <a:srgbClr val="ff0000"/>
                </a:solidFill>
                <a:latin typeface="Times New Roman"/>
              </a:rPr>
              <a:t>China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, en la región de </a:t>
            </a:r>
            <a:r>
              <a:rPr b="0" lang="es-MX" sz="2100" spc="-1" strike="noStrike">
                <a:solidFill>
                  <a:srgbClr val="ff0000"/>
                </a:solidFill>
                <a:latin typeface="Times New Roman"/>
              </a:rPr>
              <a:t>Xi'an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 aparecieron unas </a:t>
            </a:r>
            <a:r>
              <a:rPr b="1" i="1" lang="es-MX" sz="21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2100" spc="-1" strike="noStrike" u="sng">
                <a:solidFill>
                  <a:srgbClr val="000000"/>
                </a:solidFill>
                <a:uFillTx/>
                <a:latin typeface="Times New Roman"/>
              </a:rPr>
              <a:t>pirámides, unas de ellas más grandes que la pirámide de Keops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, su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Times New Roman"/>
              </a:rPr>
              <a:t>altura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 es de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Times New Roman"/>
              </a:rPr>
              <a:t>76 metros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 y su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Times New Roman"/>
              </a:rPr>
              <a:t>largo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Times New Roman"/>
              </a:rPr>
              <a:t>350 metros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Times New Roman"/>
              </a:rPr>
              <a:t>de lado tiene 345 metros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, y su antigüedad de más de 10.000 años (</a:t>
            </a:r>
            <a:r>
              <a:rPr b="0" lang="es-MX" sz="2100" spc="-1" strike="noStrike">
                <a:solidFill>
                  <a:srgbClr val="ff0000"/>
                </a:solidFill>
                <a:latin typeface="Times New Roman"/>
              </a:rPr>
              <a:t>¿10.250 años?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). El gobierno chino se niega a mostrarlas al públ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http://tejiendoelmundo.wordpress.com/2009/01/03/las-piramides-de-china/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pyramiden4ye12"/>
          <p:cNvPicPr/>
          <p:nvPr/>
        </p:nvPicPr>
        <p:blipFill>
          <a:blip r:embed="rId3"/>
          <a:srcRect l="0" t="17032" r="0" b="8262"/>
          <a:stretch/>
        </p:blipFill>
        <p:spPr>
          <a:xfrm>
            <a:off x="0" y="-27000"/>
            <a:ext cx="9144000" cy="36720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piramides-xian51"/>
          <p:cNvPicPr/>
          <p:nvPr/>
        </p:nvPicPr>
        <p:blipFill>
          <a:blip r:embed="rId4"/>
          <a:stretch/>
        </p:blipFill>
        <p:spPr>
          <a:xfrm>
            <a:off x="5651640" y="3645000"/>
            <a:ext cx="3528720" cy="31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08000" y="3645000"/>
            <a:ext cx="89647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Hallaron la pirámide más grande del mun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no la más alta) construida por los Mayas en la cuenca del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Mirado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en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eté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Guatema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dentro de una espesa selva. Tiene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72 metros de altu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su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se de 300 metros de anch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or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00 metros de larg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en altura mide menos que la de Keops, pero a lo ancho tiene más piedras que la pirámide egipcia. Forma parte de las ruinas de la ciudad más grande de esta civilización precolomb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http://escoscia.blogspot.com/2009/11/piramide-la-danta.htm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203640" y="115920"/>
            <a:ext cx="594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os antiguos Atlantes sabían mucho sobre la catástrofe, guiados por Osiris e Isis, fabricaron muchos barcos flotantes y huyeron en el 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año 9.792 A.c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. Unos al oriente y otros al occidente, fundaron nuevas culturas. En oriente: 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Egipto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. En occidente: 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Mayas, Olmeca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y otras. La figura de los 2 leones es una imagen del Sol que sale por el Oriente y luego sale por el occidente al invertirse la ti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067280" y="573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Os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4920" y="19080"/>
            <a:ext cx="3086280" cy="68198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rcRect l="39162" t="0" r="0" b="0"/>
          <a:stretch/>
        </p:blipFill>
        <p:spPr>
          <a:xfrm>
            <a:off x="3203640" y="5877000"/>
            <a:ext cx="1008000" cy="3538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rcRect l="16767" t="50979" r="19375" b="20881"/>
          <a:stretch/>
        </p:blipFill>
        <p:spPr>
          <a:xfrm>
            <a:off x="5580000" y="4437000"/>
            <a:ext cx="352908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5954760" cy="2590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34920" y="0"/>
            <a:ext cx="5905440" cy="4149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5940360" y="115920"/>
            <a:ext cx="32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Los Egipcios pintaron este gráfico del escape de la inundación en barcos llamados </a:t>
            </a:r>
            <a:r>
              <a:rPr b="0" lang="es-MX" sz="2600" spc="-1" strike="noStrike" u="sng">
                <a:solidFill>
                  <a:srgbClr val="000000"/>
                </a:solidFill>
                <a:uFillTx/>
                <a:latin typeface="Times New Roman"/>
              </a:rPr>
              <a:t>Mandjits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El grafico les exhibe antes y después de la inund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042320" y="6089760"/>
            <a:ext cx="14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Mandj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4"/>
          <a:srcRect l="39162" t="0" r="0" b="0"/>
          <a:stretch/>
        </p:blipFill>
        <p:spPr>
          <a:xfrm>
            <a:off x="5940360" y="6243480"/>
            <a:ext cx="1008000" cy="3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8000" y="400536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s antiguos Atlantes estaban al corriente sobre la catástrofe. Y con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el horóscopo de Dender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nos anuncian con jeroglíficos, el tamaño de la catástrofe que se nos aproxima. Percibe en las 4 esquinas del gráfico las 4 figuras del Tarot, o sea: Los 4 evangelistas. Signos de: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Le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Escorpión, Acuario y Taur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cuyas imágenes ligadas muestran la figura de: </a:t>
            </a:r>
            <a:r>
              <a:rPr b="1" i="1" lang="es-MX" sz="2400" spc="-1" strike="noStrike" u="sng">
                <a:solidFill>
                  <a:srgbClr val="ff0000"/>
                </a:solidFill>
                <a:uFillTx/>
                <a:latin typeface="Times New Roman"/>
              </a:rPr>
              <a:t>La Esfing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que mira a la constelación de </a:t>
            </a:r>
            <a:r>
              <a:rPr b="1" i="1" lang="es-MX" sz="2400" spc="-1" strike="noStrike" u="sng">
                <a:solidFill>
                  <a:srgbClr val="ff0000"/>
                </a:solidFill>
                <a:uFillTx/>
                <a:latin typeface="Times New Roman"/>
              </a:rPr>
              <a:t>Le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de espaldas a </a:t>
            </a:r>
            <a:r>
              <a:rPr b="0" i="1" lang="es-MX" sz="2400" spc="-1" strike="noStrike" u="sng">
                <a:solidFill>
                  <a:srgbClr val="ff0000"/>
                </a:solidFill>
                <a:uFillTx/>
                <a:latin typeface="Times New Roman"/>
              </a:rPr>
              <a:t>Acu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y con </a:t>
            </a:r>
            <a:r>
              <a:rPr b="1" i="1" lang="es-MX" sz="2400" spc="-1" strike="noStrike" u="sng">
                <a:solidFill>
                  <a:srgbClr val="ff0000"/>
                </a:solidFill>
                <a:uFillTx/>
                <a:latin typeface="Times New Roman"/>
              </a:rPr>
              <a:t>Escorp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i="1" lang="es-MX" sz="2400" spc="-1" strike="noStrike" u="sng">
                <a:solidFill>
                  <a:srgbClr val="ff0000"/>
                </a:solidFill>
                <a:uFillTx/>
                <a:latin typeface="Times New Roman"/>
              </a:rPr>
              <a:t>Taur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a sus co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3808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5003640" y="0"/>
            <a:ext cx="4140360" cy="37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184464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i="1" lang="es-ES" sz="2200" spc="-1" strike="noStrike">
                <a:solidFill>
                  <a:srgbClr val="ff0000"/>
                </a:solidFill>
                <a:latin typeface="Times New Roman"/>
              </a:rPr>
              <a:t>Un cambio en el eje terrestre alrededor del año 2000 ocurrirá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; la tierra se romperá en la porción oeste de América, y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provocará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la inundación de muchas regiones costeras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, vio los grandes lagos drenando en el Golfo de México. </a:t>
            </a:r>
            <a:r>
              <a:rPr b="1" i="1" lang="es-ES" sz="2200" spc="-1" strike="noStrike">
                <a:solidFill>
                  <a:srgbClr val="ffcc00"/>
                </a:solidFill>
                <a:latin typeface="Times New Roman"/>
              </a:rPr>
              <a:t>Gran parte de Japón se hundirá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, la inundación de Europa del norte sucederá rápida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"Emergerá una nueva tierra a las afueras de la costa oriental de América del Norte, se descubriría afuera de la costa de Bimini. Será la mítica "</a:t>
            </a:r>
            <a:r>
              <a:rPr b="1" i="1" lang="es-ES" sz="2200" spc="-1" strike="noStrike">
                <a:solidFill>
                  <a:srgbClr val="ff0000"/>
                </a:solidFill>
                <a:latin typeface="Times New Roman"/>
              </a:rPr>
              <a:t>Atlántida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".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Destrucción general de las ciudades de Los Ángeles, San Francisco, Manhattan y Nueva York por grandes terremotos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". "Un gran deshielo polar afectará a gran parte del territorio de Inglaterra y Europa del norte, que sucederá rápidamente”. "Erupciones volcánicas en regiones tropicales e incremento de actividad volcánica en el borde del Pacífico". "Un calentamiento general en áreas frías, y un enfriamiento de la áreas cálidas del globo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25600" cy="1828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547640" y="316080"/>
            <a:ext cx="741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Un personaje Clarividente fue </a:t>
            </a:r>
            <a:r>
              <a:rPr b="1" i="1" lang="es-ES" sz="2200" spc="-1" strike="noStrike">
                <a:solidFill>
                  <a:srgbClr val="ff0000"/>
                </a:solidFill>
                <a:latin typeface="Times New Roman"/>
              </a:rPr>
              <a:t>Edgar Cayce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s-ES" sz="2200" spc="-1" strike="noStrike">
                <a:solidFill>
                  <a:srgbClr val="ff0000"/>
                </a:solidFill>
                <a:latin typeface="Times New Roman"/>
              </a:rPr>
              <a:t>el profeta durmiente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s-ES" sz="22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http://www.argemto.com.ar/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 He aquí algunas de sus predicciones expresadas en trance auto-hipnóti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08000" y="44280"/>
            <a:ext cx="8856720" cy="64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Juan de Jerusalém</a:t>
            </a:r>
            <a:r>
              <a:rPr b="1" i="1" lang="es-ES" sz="2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Fue otra persona capaz de “Ver” el futuro, y uno de los fundadores de la “Orden del Temple”: Escribió "</a:t>
            </a:r>
            <a:r>
              <a:rPr b="1" i="1" lang="es-ES" sz="2200" spc="-1" strike="noStrike">
                <a:solidFill>
                  <a:srgbClr val="ff0000"/>
                </a:solidFill>
                <a:latin typeface="Times New Roman"/>
              </a:rPr>
              <a:t>El Protocolo Secreto de las Profecía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" He aquí algo de lo que previ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ffcc"/>
                </a:solidFill>
                <a:uFillTx/>
                <a:latin typeface="Times New Roman"/>
                <a:hlinkClick r:id="rId1"/>
              </a:rPr>
              <a:t>http://www.tifloweb.com/cristo/profecias.ht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Cuando empiece el año mil que sigue al año mi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la tierra temblará en muchos lugares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las ciudades se hundirán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todo lo que se haya construido sin escuchar a los sabios será amenazado y destruido; 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el lodo hundirá los pueblo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el suelo se abrirá bajo los palacio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El hombre se obstinará porque el orgullo es su locura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no escuchará las advertencias repetidas de la tierra, pero 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el incendio destruirá las nuevas Roma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y, entre los escombros acumulados, los pobres y los bárbaros, a pesar de las legiones, saquearán las riquezas abandon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Cuando empiece el año mil que sigue al año mi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, el sol quemará la tierra; el aire ya no será velo que protege del fuego. No será más que una cortina agujereada y la luz ardiente consumirá las pieles y los ojos. </a:t>
            </a: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El mar se alzará como agua enfurecida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las ciudades y las riberas quedarán inundadas y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continentes enteros desaparecerán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1" i="1" lang="es-ES" sz="2200" spc="-1" strike="noStrike" u="sng">
                <a:solidFill>
                  <a:srgbClr val="ffff00"/>
                </a:solidFill>
                <a:uFillTx/>
                <a:latin typeface="Times New Roman"/>
              </a:rPr>
              <a:t>los hombres se refugiarán en las alturas</a:t>
            </a:r>
            <a:r>
              <a:rPr b="1" i="1" lang="es-ES" sz="2200" spc="-1" strike="noStrike">
                <a:solidFill>
                  <a:srgbClr val="ffff00"/>
                </a:solidFill>
                <a:latin typeface="Times New Roman"/>
              </a:rPr>
              <a:t> y olvidando lo ocurrido, iniciarán la reconstrucción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79280" y="44280"/>
            <a:ext cx="8785440" cy="66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Llegados plenamente al año mil que sigue al año mi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, el hombre ya no será el único soberano, pues </a:t>
            </a:r>
            <a:r>
              <a:rPr b="1" i="1" lang="es-ES" sz="2200" spc="-1" strike="noStrike">
                <a:solidFill>
                  <a:srgbClr val="ffcc00"/>
                </a:solidFill>
                <a:latin typeface="Times New Roman"/>
              </a:rPr>
              <a:t>la mujer empuñará el cetro; será la gran maestra de los tiempos futuros y lo que piense lo impondrá a los hombre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será la madre de ese </a:t>
            </a: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año mil que sigue al año mi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. Difundirá la dulzura tierna de la madre tras los días del diablo; será la belleza después de la fealdad de los tiempos bárbaros; </a:t>
            </a: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el año mil que viene después del año mi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cambiará en poco tiempo; se amará y se compartirá, se soñará y se dará vida a los sue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Llegados plenamente al año mil que sigue al año mi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el hombre conocerá un segundo nacimiento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1" i="1" lang="es-ES" sz="2200" spc="-1" strike="noStrike">
                <a:solidFill>
                  <a:srgbClr val="ffcc00"/>
                </a:solidFill>
                <a:latin typeface="Times New Roman"/>
              </a:rPr>
              <a:t>el espíritu se apoderará de las gente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, que comulgarán en fraternidad; entonces </a:t>
            </a: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se anunciará el fin de los tiempos bárbaro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. Será el tiempo de un nuevo vigor de la fe;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después de los días negros del inicio de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año mil que viene después del año mi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empezarán los días felice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el hombre reconocerá el camino de los hombres y </a:t>
            </a:r>
            <a:r>
              <a:rPr b="1" i="1" lang="es-ES" sz="2200" spc="-1" strike="noStrike">
                <a:solidFill>
                  <a:srgbClr val="ffcc00"/>
                </a:solidFill>
                <a:latin typeface="Times New Roman"/>
              </a:rPr>
              <a:t>la tierra será ordenada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Llegados plenamente al año mil que sigue al año mi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el hombre sabrá que todos los seres vivos son portadores de luz y que son criaturas que deben ser respetada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habrá construido las ciudades nuevas en el cielo, sobre la tierra y sobre el mar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. Conservará en la memoria lo que fue y 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sabrá leer lo que será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1" i="1" lang="es-ES" sz="2200" spc="-1" strike="noStrike" u="sng">
                <a:solidFill>
                  <a:srgbClr val="ffcc00"/>
                </a:solidFill>
                <a:uFillTx/>
                <a:latin typeface="Times New Roman"/>
              </a:rPr>
              <a:t>ya no tendrá miedo de su propia muerte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, pues en su vida habrá vivido muchas vidas y sabrá que la luz nunca se apagará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995640" y="44280"/>
            <a:ext cx="50752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Este mensaje se basa en los estudios del astrónomo belga </a:t>
            </a:r>
            <a:r>
              <a:rPr b="1" i="1" lang="es-MX" sz="2600" spc="-1" strike="noStrike" u="sng">
                <a:solidFill>
                  <a:srgbClr val="000000"/>
                </a:solidFill>
                <a:uFillTx/>
                <a:latin typeface="Times New Roman"/>
              </a:rPr>
              <a:t>Patrick Geryl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. Él halló en “</a:t>
            </a:r>
            <a:r>
              <a:rPr b="1" i="1" lang="es-MX" sz="2600" spc="-1" strike="noStrike" u="sng">
                <a:solidFill>
                  <a:srgbClr val="ff0000"/>
                </a:solidFill>
                <a:uFillTx/>
                <a:latin typeface="Times New Roman"/>
              </a:rPr>
              <a:t>Las Profecías Mayas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” que </a:t>
            </a:r>
            <a:r>
              <a:rPr b="0" i="1" lang="es-MX" sz="2600" spc="-1" strike="noStrike">
                <a:solidFill>
                  <a:srgbClr val="000000"/>
                </a:solidFill>
                <a:latin typeface="Times New Roman"/>
              </a:rPr>
              <a:t>cada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2600" spc="-1" strike="noStrike" u="sng">
                <a:solidFill>
                  <a:srgbClr val="ff0000"/>
                </a:solidFill>
                <a:uFillTx/>
                <a:latin typeface="Times New Roman"/>
              </a:rPr>
              <a:t>5.125 años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 el centro de la galaxia emite un “</a:t>
            </a:r>
            <a:r>
              <a:rPr b="0" i="1" lang="es-MX" sz="2600" spc="-1" strike="noStrike" u="sng">
                <a:solidFill>
                  <a:srgbClr val="ff0000"/>
                </a:solidFill>
                <a:uFillTx/>
                <a:latin typeface="Times New Roman"/>
              </a:rPr>
              <a:t>Pulso energético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” que induce una </a:t>
            </a:r>
            <a:r>
              <a:rPr b="1" i="1" lang="es-MX" sz="2600" spc="-1" strike="noStrike" u="sng">
                <a:solidFill>
                  <a:srgbClr val="ff0000"/>
                </a:solidFill>
                <a:uFillTx/>
                <a:latin typeface="Times New Roman"/>
              </a:rPr>
              <a:t>inversión a los polos de la tierra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, y el </a:t>
            </a:r>
            <a:r>
              <a:rPr b="0" i="1" lang="es-MX" sz="2600" spc="-1" strike="noStrike" u="sng">
                <a:solidFill>
                  <a:srgbClr val="ff0000"/>
                </a:solidFill>
                <a:uFillTx/>
                <a:latin typeface="Times New Roman"/>
              </a:rPr>
              <a:t>hundimiento de placas tectónicas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 y por eso, muchos pueblos antiguos se hundieron en el mar, </a:t>
            </a:r>
            <a:r>
              <a:rPr b="0" i="1" lang="es-MX" sz="26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 desea salvar personas; por eso Él escribió el libro “</a:t>
            </a:r>
            <a:r>
              <a:rPr b="0" i="1" lang="es-MX" sz="2600" spc="-1" strike="noStrike" u="sng">
                <a:solidFill>
                  <a:srgbClr val="ff0000"/>
                </a:solidFill>
                <a:uFillTx/>
                <a:latin typeface="Times New Roman"/>
              </a:rPr>
              <a:t>La Profecía de Orión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97360" cy="51577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0" y="52959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00"/>
                </a:solidFill>
                <a:latin typeface="Times New Roman"/>
              </a:rPr>
              <a:t>Puedes leerlo en Internet. Aquí está su li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ttp://www.bibliotecapleyades.net/ciencia/profeciaorion/ciencia_profeciaorion.h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79280" y="115920"/>
            <a:ext cx="87854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Times New Roman"/>
              </a:rPr>
              <a:t>Michel de Nostradamu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(1503-1566)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 un personaje “vidente” de tiempos futuros. Estudiante destacado de Medicina, Astronomía, Herbostería y Química. Tuvo 4 hijos y 4 hijas a quienes perdió en la peste; esto le llevó al aislamiento en donde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000" spc="-1" strike="noStrike">
                <a:solidFill>
                  <a:srgbClr val="ffcc00"/>
                </a:solidFill>
                <a:latin typeface="Times New Roman"/>
              </a:rPr>
              <a:t>desarrolló sus dotes paranormale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y a escribir una cantidad de profecías agrupadas e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000" spc="-1" strike="noStrike">
                <a:solidFill>
                  <a:srgbClr val="ff0000"/>
                </a:solidFill>
                <a:latin typeface="Times New Roman"/>
              </a:rPr>
              <a:t>Centurias y Cuarteta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, redactadas en lenguaje críptico para que solo personas iniciadas las entendieran. He aquí algunas de el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http://www.argemto.com.ar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Habrá Terremotos y erupciones volcánicas, se deberán a actividad causada por la conjunción de los planetas, lo que también causará un cambio de dirección de ésto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s-ES" sz="2000" spc="-1" strike="noStrike">
                <a:solidFill>
                  <a:srgbClr val="ff0000"/>
                </a:solidFill>
                <a:latin typeface="Times New Roman"/>
              </a:rPr>
              <a:t>Una desviación ocurrirá cerca del siglo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s-ES" sz="2000" spc="-1" strike="noStrike">
                <a:solidFill>
                  <a:srgbClr val="ffcc00"/>
                </a:solidFill>
                <a:latin typeface="Times New Roman"/>
              </a:rPr>
              <a:t>Será tan abrupto como un período de 6 a 10 hora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Times New Roman"/>
              </a:rPr>
              <a:t>El fin de la civilizació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La civilización como la conocemos, </a:t>
            </a: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jará de existir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(I. P53)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Las ciudades ya </a:t>
            </a: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serán como las vemo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(I. p5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Times New Roman"/>
              </a:rPr>
              <a:t>Geografí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Los continentes como se conocen, dejarán de existir, o cambiarán dramáticamente (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I. P52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La parte central de los continentes se separará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s-ES" sz="2000" spc="-1" strike="noStrike">
                <a:solidFill>
                  <a:srgbClr val="ff0000"/>
                </a:solidFill>
                <a:latin typeface="Times New Roman"/>
              </a:rPr>
              <a:t>Los continentes de todo el mundo serán afectado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s-ES" sz="2000" spc="-1" strike="noStrike">
                <a:solidFill>
                  <a:srgbClr val="ffcc00"/>
                </a:solidFill>
                <a:latin typeface="Times New Roman"/>
              </a:rPr>
              <a:t>Las masas de agua cubrirán un mayor porcentaje de la tierr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Los continentes que están unidos se separarán, siendo divididos por agua donde no lo estaban. </a:t>
            </a:r>
            <a:r>
              <a:rPr b="1" i="1" lang="es-ES" sz="2000" spc="-1" strike="noStrike">
                <a:solidFill>
                  <a:srgbClr val="ff0000"/>
                </a:solidFill>
                <a:latin typeface="Times New Roman"/>
              </a:rPr>
              <a:t>No habrá un solo continente que no sea afectad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Una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gran parte de Asia será cubierta por el mar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África será atravesada por un canal. (I. P5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08000" y="115920"/>
            <a:ext cx="9036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ffcc00"/>
                </a:solidFill>
                <a:latin typeface="Times New Roman"/>
              </a:rPr>
              <a:t>Continuación de: </a:t>
            </a:r>
            <a:r>
              <a:rPr b="1" i="1" lang="es-ES" sz="2100" spc="-1" strike="noStrike">
                <a:solidFill>
                  <a:srgbClr val="ff0000"/>
                </a:solidFill>
                <a:latin typeface="Times New Roman"/>
              </a:rPr>
              <a:t>Michel de Nostradamus.</a:t>
            </a: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cc00"/>
                </a:solidFill>
                <a:latin typeface="Times New Roman"/>
              </a:rPr>
              <a:t>Preparación / Sobrevivencia</a:t>
            </a: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humanidad debe ser advertida. La gente debe prepararse espiritualmente e intelectualmente para los cambios climáticos.</a:t>
            </a: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 (I. P53) 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os problemas de supervivencia serán más duros en los países convertidos en islas.</a:t>
            </a: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 (I. P6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 u="sng">
                <a:solidFill>
                  <a:srgbClr val="ff0000"/>
                </a:solidFill>
                <a:uFillTx/>
                <a:latin typeface="Times New Roman"/>
              </a:rPr>
              <a:t>El desviamiento de los planetas marcará el inicio de una nueva era</a:t>
            </a: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. (I p53, I. p56) 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Aunque </a:t>
            </a:r>
            <a:r>
              <a:rPr b="0" lang="es-ES" sz="2100" spc="-1" strike="noStrike" u="sng">
                <a:solidFill>
                  <a:srgbClr val="ffffff"/>
                </a:solidFill>
                <a:uFillTx/>
                <a:latin typeface="Times New Roman"/>
              </a:rPr>
              <a:t>habrá muertes físicas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" sz="2100" spc="-1" strike="noStrike" u="sng">
                <a:solidFill>
                  <a:srgbClr val="ffffff"/>
                </a:solidFill>
                <a:uFillTx/>
                <a:latin typeface="Times New Roman"/>
              </a:rPr>
              <a:t>no habrá muerte de la conciencia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, sino una nueva perspectiva. Habrá aquellos que quedarán para hacer un nuevo comienzo para la Tierra.</a:t>
            </a: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 (I. P5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ff0000"/>
                </a:solidFill>
                <a:latin typeface="Times New Roman"/>
              </a:rPr>
              <a:t>Nostradamus</a:t>
            </a: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afirma que sus comunicaciones pretenden ayudarnos a evitar sus peores visiones, que podrían ser evitadas con gran determinación. Los tiempos problemáticos serán un tiempo cansador, desgastador. </a:t>
            </a:r>
            <a:r>
              <a:rPr b="1" i="1" lang="es-ES" sz="2100" spc="-1" strike="noStrike" u="sng">
                <a:solidFill>
                  <a:srgbClr val="ffffff"/>
                </a:solidFill>
                <a:uFillTx/>
                <a:latin typeface="Times New Roman"/>
              </a:rPr>
              <a:t>Los espíritus en la tierra están aquí por elección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, para trabajar sobre su karma. Vivir en este período será como concentrar el karma o el equivalente a 10 vidas humanas promedi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humanidad empezará a concentrarse en su desarrollo espiritual. El conocimiento ha estado en frente de Él, pero no ha sido notado o comprendido. Cuando empiece a darse cuenta lo que es posible, se asombrará. En el futuro lejano, </a:t>
            </a:r>
            <a:r>
              <a:rPr b="1" i="1" lang="es-ES" sz="2100" spc="-1" strike="noStrike" u="sng">
                <a:solidFill>
                  <a:srgbClr val="ffcc00"/>
                </a:solidFill>
                <a:uFillTx/>
                <a:latin typeface="Times New Roman"/>
              </a:rPr>
              <a:t>los viajes interestelares serán mentales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s-ES" sz="2100" spc="-1" strike="noStrike">
                <a:solidFill>
                  <a:srgbClr val="ffffff"/>
                </a:solidFill>
                <a:latin typeface="Times New Roman"/>
              </a:rPr>
              <a:t>por emanaciones del poder PSI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, más que mecánicos. Aunque también los habrá mecánicos.</a:t>
            </a: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 (I p 307) (CIV-25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e75"/>
            </a:gs>
            <a:gs pos="100000">
              <a:srgbClr val="aff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79280" y="115920"/>
            <a:ext cx="878544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Este mensaje va a ser aceptado (+) por una parte de quienes lo lean, va a ser rechazado (-) por otra parte de las personas que lo vean, y le va a ser neutro o indiferente (-) a otra porción de los lectores a quienes les llegue, de acuerdo a la ley de la “Triple energía”, energía positiva (+) energía negativa (-) y energía neutra (+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0000"/>
                </a:solidFill>
                <a:latin typeface="Times New Roman"/>
              </a:rPr>
              <a:t>Los Mayas, Michel de Nostradamus, Edgar Cayce, Juan de Jerusalém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 y otros videntes, pronosticaron que se va a dar ese giro de la tierra. El Sol disminuirá su energía y su magnetismo, por eso habrá </a:t>
            </a:r>
            <a:r>
              <a:rPr b="1" i="1" lang="es-MX" sz="2400" spc="-1" strike="noStrike" u="sng">
                <a:solidFill>
                  <a:srgbClr val="ff0000"/>
                </a:solidFill>
                <a:uFillTx/>
                <a:latin typeface="Times New Roman"/>
              </a:rPr>
              <a:t>tres días de oscuridad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. Mientras el Sol reactiva su po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Luego de eso llegará un tiempo glorioso de mucha luz y de plenitud de Consciencia. Este es un mensaje de aviso y reflexión para nosotros de parte de esos personajes clarivid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Si el giro sucede, estemos prepa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Y si el giro </a:t>
            </a:r>
            <a:r>
              <a:rPr b="0" lang="es-MX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 llega a suceder, ¡</a:t>
            </a:r>
            <a:r>
              <a:rPr b="0" i="1" lang="es-MX" sz="2400" spc="-1" strike="noStrike">
                <a:solidFill>
                  <a:srgbClr val="ff0000"/>
                </a:solidFill>
                <a:latin typeface="Times New Roman"/>
              </a:rPr>
              <a:t>Muy bien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fdb"/>
            </a:gs>
            <a:gs pos="100000">
              <a:srgbClr val="54756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112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ble Mapamundi luego del giro de los Po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44280"/>
            <a:ext cx="914400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Llegados los tiempos duros de la inversión polar, posiblemente escasearán los alimentos. Se ha creado un súper alimento llamado </a:t>
            </a:r>
            <a:r>
              <a:rPr b="1" lang="es-ES" sz="23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Sampa</a:t>
            </a:r>
            <a:r>
              <a:rPr b="1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 y con una pelotita del tamaño de 1 bola de Ping pong y buena cantidad de agua, alimentaría por todo 1 día a 1 ser humano. Conviene producir muchas bolitas de este alimento y tenerlas disponibles. Todos los ingredientes se muelen </a:t>
            </a:r>
            <a:r>
              <a:rPr b="1" lang="es-ES" sz="23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muy bien</a:t>
            </a:r>
            <a:r>
              <a:rPr b="1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, se mezclan </a:t>
            </a:r>
            <a:r>
              <a:rPr b="1" lang="es-ES" sz="23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muy bien</a:t>
            </a:r>
            <a:r>
              <a:rPr b="1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 y se mojan con la miel. </a:t>
            </a: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http://members.fortunecity.es/jt/recetas.ht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Sampa Ingredientes</a:t>
            </a: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1 libra de fríjol roj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1 libra de lentej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1 libra de garbanz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1 libra de maní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1 libra de maíz porva (maíz amarillo con cáscara, no trillado ni refinad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1 libra de trig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1 libra de plátano verde (Tres plátanos hartones grande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2 botellas de miel de abej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Con la cantidad indicada salen unas 210 bolitas, bien almacenadas en frascos de vidrio o plástico se pueden conservar hasta por 4  años</a:t>
            </a: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5075"/>
            </a:gs>
            <a:gs pos="100000">
              <a:srgbClr val="d7a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6084720" y="5877000"/>
            <a:ext cx="251460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ivaldi"/>
              </a:rPr>
              <a:t>Keve Jacko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635280" y="2349360"/>
            <a:ext cx="2160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Vivaldi"/>
              </a:rPr>
              <a:t>Fin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4675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24000" y="44280"/>
            <a:ext cx="842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ayo energético viniendo del centro galáctic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42544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00"/>
                </a:solidFill>
                <a:latin typeface="Times New Roman"/>
              </a:rPr>
              <a:t>Cada </a:t>
            </a:r>
            <a:r>
              <a:rPr b="0" lang="es-MX" sz="2700" spc="-1" strike="noStrike" u="sng">
                <a:solidFill>
                  <a:srgbClr val="ffff00"/>
                </a:solidFill>
                <a:uFillTx/>
                <a:latin typeface="Times New Roman"/>
              </a:rPr>
              <a:t>5.125</a:t>
            </a:r>
            <a:r>
              <a:rPr b="0" lang="es-MX" sz="2700" spc="-1" strike="noStrike">
                <a:solidFill>
                  <a:srgbClr val="ffff00"/>
                </a:solidFill>
                <a:latin typeface="Times New Roman"/>
              </a:rPr>
              <a:t> años, </a:t>
            </a:r>
            <a:r>
              <a:rPr b="1" i="1" lang="es-MX" sz="2700" spc="-1" strike="noStrike" u="sng">
                <a:solidFill>
                  <a:srgbClr val="ffff00"/>
                </a:solidFill>
                <a:uFillTx/>
                <a:latin typeface="Times New Roman"/>
              </a:rPr>
              <a:t>Hunab-Ku</a:t>
            </a:r>
            <a:r>
              <a:rPr b="0" lang="es-MX" sz="2700" spc="-1" strike="noStrike">
                <a:solidFill>
                  <a:srgbClr val="ffff00"/>
                </a:solidFill>
                <a:latin typeface="Times New Roman"/>
              </a:rPr>
              <a:t> (o sea el centro de la galaxia, así llamado por los mayas) emite un rayo de </a:t>
            </a:r>
            <a:r>
              <a:rPr b="0" i="1" lang="es-MX" sz="2700" spc="-1" strike="noStrike">
                <a:solidFill>
                  <a:srgbClr val="ffff00"/>
                </a:solidFill>
                <a:latin typeface="Times New Roman"/>
              </a:rPr>
              <a:t>sincronización energética</a:t>
            </a:r>
            <a:r>
              <a:rPr b="0" lang="es-MX" sz="2700" spc="-1" strike="noStrike">
                <a:solidFill>
                  <a:srgbClr val="ffff00"/>
                </a:solidFill>
                <a:latin typeface="Times New Roman"/>
              </a:rPr>
              <a:t> que invierte la energía de los polos del planeta Tierra y eso hace fluctuar las </a:t>
            </a:r>
            <a:r>
              <a:rPr b="1" lang="es-MX" sz="2700" spc="-1" strike="noStrike" u="sng">
                <a:solidFill>
                  <a:srgbClr val="ffff00"/>
                </a:solidFill>
                <a:uFillTx/>
                <a:latin typeface="Times New Roman"/>
              </a:rPr>
              <a:t>placas tectónicas</a:t>
            </a:r>
            <a:r>
              <a:rPr b="0" lang="es-MX" sz="27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s-MX" sz="2700" spc="-1" strike="noStrike" u="sng">
                <a:solidFill>
                  <a:srgbClr val="ffff00"/>
                </a:solidFill>
                <a:uFillTx/>
                <a:latin typeface="Times New Roman"/>
              </a:rPr>
              <a:t>unas placas emergen</a:t>
            </a:r>
            <a:r>
              <a:rPr b="0" lang="es-MX" sz="2700" spc="-1" strike="noStrike">
                <a:solidFill>
                  <a:srgbClr val="ffff00"/>
                </a:solidFill>
                <a:latin typeface="Times New Roman"/>
              </a:rPr>
              <a:t>, y </a:t>
            </a:r>
            <a:r>
              <a:rPr b="0" i="1" lang="es-MX" sz="2700" spc="-1" strike="noStrike" u="sng">
                <a:solidFill>
                  <a:srgbClr val="ffff00"/>
                </a:solidFill>
                <a:uFillTx/>
                <a:latin typeface="Times New Roman"/>
              </a:rPr>
              <a:t>otras placas se hunden</a:t>
            </a:r>
            <a:r>
              <a:rPr b="0" lang="es-MX" sz="2700" spc="-1" strike="noStrike">
                <a:solidFill>
                  <a:srgbClr val="ffff00"/>
                </a:solidFill>
                <a:latin typeface="Times New Roman"/>
              </a:rPr>
              <a:t>. Ciudades construidas sobre esas placas en la superficie terrestre se hundieron en el ma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 rot="6313200">
            <a:off x="5442840" y="1041120"/>
            <a:ext cx="319320" cy="5033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8101080" y="4076640"/>
            <a:ext cx="431640" cy="4143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6"/>
          <a:stretch/>
        </p:blipFill>
        <p:spPr>
          <a:xfrm rot="1375800">
            <a:off x="7921440" y="389700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08000" y="549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iajamos en el planeta Tierra, orbitando alrededor del sistema Solar y alrededor de la galaxia la Vía Láctea y nuestro planeta se encuentra con ese chorro energético cada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125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 rot="3792000">
            <a:off x="2282400" y="2366640"/>
            <a:ext cx="287280" cy="46911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 rot="14505000">
            <a:off x="6294240" y="913680"/>
            <a:ext cx="298440" cy="31687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 rot="8185200">
            <a:off x="3276360" y="475920"/>
            <a:ext cx="215640" cy="30970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 rot="19111200">
            <a:off x="6122520" y="3213000"/>
            <a:ext cx="249480" cy="3888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6"/>
          <a:stretch/>
        </p:blipFill>
        <p:spPr>
          <a:xfrm>
            <a:off x="4500720" y="3203640"/>
            <a:ext cx="502920" cy="4824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7"/>
          <a:stretch/>
        </p:blipFill>
        <p:spPr>
          <a:xfrm rot="3460800">
            <a:off x="4356000" y="3057480"/>
            <a:ext cx="82728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rcRect l="0" t="0" r="0" b="229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87240" y="4797360"/>
            <a:ext cx="328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Antes del 22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iciembre del 2.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la tierra gira as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4863960"/>
            <a:ext cx="35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spués del 22 de diciembre del 2.012 la tierra girará as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79280" y="105876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 rot="10800000">
            <a:off x="5225760" y="5490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 rot="16512000">
            <a:off x="4691880" y="1738800"/>
            <a:ext cx="277920" cy="12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627280" y="154080"/>
            <a:ext cx="352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Los antiguos ya sabían que cada </a:t>
            </a: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5.125</a:t>
            </a:r>
            <a:r>
              <a:rPr b="1" i="1" lang="es-MX" sz="2400" spc="-1" strike="noStrike">
                <a:solidFill>
                  <a:srgbClr val="ffff00"/>
                </a:solidFill>
                <a:latin typeface="Arial"/>
              </a:rPr>
              <a:t> años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la tierra invierte polos y lo mostraron en la </a:t>
            </a: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carta 10 del Tarot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, y asimismo en </a:t>
            </a: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La Esfinge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que mira al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Signo Leo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. Y deja ver que en las 4 Eras zodiacales de los signos fijos: </a:t>
            </a: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Tauro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Leo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Escorpio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Acuario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es cuando se da el cambio polar, y es más intenso en las Eras de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Leo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Acuario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La Esfinge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es la síntesis de esas 4 eras que señala es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rcRect l="6488" t="4632" r="2673" b="0"/>
          <a:stretch/>
        </p:blipFill>
        <p:spPr>
          <a:xfrm>
            <a:off x="6156360" y="-27000"/>
            <a:ext cx="3024000" cy="3887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rcRect l="0" t="0" r="0" b="8867"/>
          <a:stretch/>
        </p:blipFill>
        <p:spPr>
          <a:xfrm>
            <a:off x="0" y="0"/>
            <a:ext cx="2619360" cy="4176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rcRect l="4557" t="0" r="0" b="0"/>
          <a:stretch/>
        </p:blipFill>
        <p:spPr>
          <a:xfrm>
            <a:off x="6156360" y="386064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0" y="4221000"/>
            <a:ext cx="262728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250920" y="4005360"/>
            <a:ext cx="864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Cuando ese rayo de sincronización llega cada </a:t>
            </a:r>
            <a:r>
              <a:rPr b="0" i="1" lang="es-MX" sz="2800" spc="-1" strike="noStrike" u="sng">
                <a:solidFill>
                  <a:srgbClr val="ffff00"/>
                </a:solidFill>
                <a:uFillTx/>
                <a:latin typeface="Times New Roman"/>
              </a:rPr>
              <a:t>5.125 años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, produce muchos cambios. Muchas culturas antiguas se hundieron en el mar. Mu y La Atlántida fueron dos de ellas. Han existido más civilizaciones extinguidas. Se afirma sobre 82 de ellas. Hoy día se han hallado las huellas de algunas. Te invito a mir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0000" cy="3456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3463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3780000" y="3443400"/>
            <a:ext cx="5400360" cy="34146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0" y="3573360"/>
            <a:ext cx="378000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n Japón el buzo </a:t>
            </a:r>
            <a:r>
              <a:rPr b="0" lang="es-MX" sz="2200" spc="-1" strike="noStrike">
                <a:solidFill>
                  <a:srgbClr val="ff0000"/>
                </a:solidFill>
                <a:latin typeface="Times New Roman"/>
              </a:rPr>
              <a:t>Masaaki Kimura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 halló en 1.986 la ciudad sumergida de </a:t>
            </a:r>
            <a:r>
              <a:rPr b="0" lang="es-MX" sz="2200" spc="-1" strike="noStrike">
                <a:solidFill>
                  <a:srgbClr val="cc0000"/>
                </a:solidFill>
                <a:latin typeface="Times New Roman"/>
              </a:rPr>
              <a:t>Yonaguni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, a 30 metros de profundidad en las islas </a:t>
            </a:r>
            <a:r>
              <a:rPr b="0" lang="es-MX" sz="2200" spc="-1" strike="noStrike">
                <a:solidFill>
                  <a:srgbClr val="cc0000"/>
                </a:solidFill>
                <a:latin typeface="Times New Roman"/>
              </a:rPr>
              <a:t>Ryu-Ryu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, hundida hace unos 5.000 años (¿5.125?) luego de un cataclis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9999"/>
                </a:solidFill>
                <a:uFillTx/>
                <a:latin typeface="Times New Roman"/>
                <a:ea typeface="SimSun"/>
                <a:hlinkClick r:id="rId4"/>
              </a:rPr>
              <a:t>http://www.futuropasado.com/?p=853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2"/>
          <a:srcRect l="0" t="0" r="6191" b="0"/>
          <a:stretch/>
        </p:blipFill>
        <p:spPr>
          <a:xfrm>
            <a:off x="0" y="1341360"/>
            <a:ext cx="4643280" cy="2997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0" y="4365720"/>
            <a:ext cx="4643280" cy="24922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rcRect l="3212" t="9339" r="0" b="8630"/>
          <a:stretch/>
        </p:blipFill>
        <p:spPr>
          <a:xfrm>
            <a:off x="464328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33526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0" y="15876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cc00"/>
                </a:solidFill>
                <a:latin typeface="Arial"/>
              </a:rPr>
              <a:t>Yonaguni. Ubicación y mod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cc00"/>
                </a:solidFill>
                <a:latin typeface="Arial"/>
              </a:rPr>
              <a:t>Tridimens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0:11:15Z</dcterms:created>
  <dc:creator>Rika Vandepitte</dc:creator>
  <dc:description/>
  <dc:language>en-US</dc:language>
  <cp:lastModifiedBy>Keve Jacko</cp:lastModifiedBy>
  <dcterms:modified xsi:type="dcterms:W3CDTF">2010-02-28T09:18:11Z</dcterms:modified>
  <cp:revision>39</cp:revision>
  <dc:subject/>
  <dc:title>Dia 1</dc:title>
</cp:coreProperties>
</file>