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328-C9EB-4055-A74D-501502DB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087-25F5-4A61-8B38-F4982A2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ACA-6C05-4111-AC19-387C7F08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D76-21B7-4B01-B57F-CBA815EA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F88-295E-4D2D-837A-F0A66626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593-0A31-4486-AA8C-D6C1880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0AAD-F754-410C-9D37-122A087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550-0A06-404F-B813-E6810A8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3989-FB53-4713-BE37-519C2D31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9DB-33BB-4B7A-9499-7615D5B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065F-CBC3-4D2B-B10F-3E36491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92D-BA3B-4752-96CF-1B6C8930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1E8-7F1A-404B-89C1-6E4B047C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F73-3A46-403E-B2D8-EFD2FA3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4A0E-E366-478B-BEBF-AF02E2D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E194-9AB5-4071-BD21-A4FB3791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D4A7-CAB0-418B-AAB4-6080C9F3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90B-D74C-4863-AE87-26E7557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4CD-622A-467C-9265-ECFD97F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B98-9CEE-42E6-94AB-0F66152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396-DD92-4306-B7B6-321C6BD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549-2973-42A2-8B68-DA74187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16F-91F0-42B0-BC00-74FC940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CDC-D168-4133-B6E6-28716EF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24A-A0A5-4890-9E04-6D3126F0C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1015-177B-4872-9200-462D6AD45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92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ahoma"/>
              </a:rPr>
              <a:t>Las escenas que vas a ver a continuación son duras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sto es la aplicación de la sharia, es decir: la ley islámica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Los delitos son juzgados por tribunales religiosos.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Es que ya has visto las fotos del niño y te suena al cuento de nuca acabar. </a:t>
            </a:r>
            <a:br>
              <a:rPr sz="5400"/>
            </a:b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No te preocupes que hay muchas más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te parecen las lapidaciones a mujeres adulteras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4388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n pleno siglo XXI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683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Las piedras tienen su medida exac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54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No vaya a ser </a:t>
            </a:r>
            <a:br>
              <a:rPr sz="4800"/>
            </a:b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se muera enseguida.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2984760" cy="255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3095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683320" cy="426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Esto lo dice Amnistía Internacional no me lo he inventado y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h, por cierto, a un niño que se atreva a hacer el siguiente dibujo, habrá que cortarle la mano con la que cometió el sacrilegi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59040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Si crees que esto es vid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50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Un niño de ocho años es capturado en un mercado en Irán  tras haber robado pan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No existe la justicia civil, como la entendemos en Occidente. </a:t>
            </a: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l Corán es la única ley.  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97180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14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6048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048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Y todavía hay muchas má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79600" cy="505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79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345600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07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21300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213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7920" y="90792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782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odavía crees que todas las creencias son respetab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ú también te has tragado lo de la «alianza de civilizaciones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N ESPAÑA,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CON EL DINERO DE TUS IMPUESTOS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, SE ESTÁN CONSTRUYENDO ESCUELAS CORÁNICAS Y MEZQUIT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3447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SI NO ESTÁS DE ACUERDO CON TODO ELLO, ENTONCES ERES RACISTA, FACH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POCO SOLIDARIO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50403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a a ser castigado en ese mismo lugar, en nombre del islam. Su brazo deberá ser aplastado por un vehículo. Así no volverá a roba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fectivamente, no volverá a robar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e5ffff"/>
                </a:solidFill>
                <a:latin typeface="Tahoma"/>
              </a:rPr>
              <a:t>Ya están aquí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920" y="249228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171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e5ffff"/>
                </a:solidFill>
                <a:latin typeface="Tahoma"/>
              </a:rPr>
              <a:t>Por que nuestras hijas y nuestras mujeres nunca se tengan que ver así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8768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3645000"/>
            <a:ext cx="2814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YA ESTÁ BIEN DE TANTA HIPOCRESÍA Y DE DEFENDER LO POLÍTICAMENTE CORRECT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ahoma"/>
              </a:rPr>
              <a:t>PROTESTA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8800" spc="-1" strike="noStrike">
                <a:solidFill>
                  <a:srgbClr val="ffcc00"/>
                </a:solidFill>
                <a:latin typeface="Tahoma"/>
              </a:rPr>
              <a:t>P Á S A L O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74680" cy="309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155680" cy="3068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843280" y="304812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376200"/>
            <a:ext cx="7632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318960"/>
            <a:ext cx="7488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76200"/>
            <a:ext cx="74883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318960"/>
            <a:ext cx="7559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376200"/>
            <a:ext cx="73454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7:08:10Z</dcterms:created>
  <dc:creator>Franck</dc:creator>
  <dc:description/>
  <dc:language>en-US</dc:language>
  <cp:lastModifiedBy>JUAN LUCAS NAVALON ANGEL</cp:lastModifiedBy>
  <dcterms:modified xsi:type="dcterms:W3CDTF">2009-03-02T02:37:08Z</dcterms:modified>
  <cp:revision>9</cp:revision>
  <dc:subject/>
  <dc:title>Un enfant de 8 ans, attrapé sur un marché en Iran pour avoir volé du     pain      </dc:title>
</cp:coreProperties>
</file>