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0E9-FC64-487C-AE34-AC4A57F9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7930-CDFC-48A9-AFE2-E6500DD0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5A4-4B70-459B-ADD0-F1F551E6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EB44-5749-4D8E-B03D-2799929A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49B1-46C2-4806-9EF5-48D1AD1D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B44F-F708-4F57-B021-AE6CC8C4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84E5-D001-4DB4-B8AE-D6077F5B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5D21-F79F-4735-9DB5-7F9150C1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C933-529C-4989-856B-30AA8CBD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FEE9-22A5-4914-8EA2-6E770658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3AF3-716F-48F6-9716-663ADA7B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24F-1F77-461B-B4BB-CA3BD880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EE04-3C8F-42A2-ADF7-DF79C2DE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3434-5ADE-4D43-BE67-E8D8794E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07BF-E134-43AE-BBC6-2369D82E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29D9-2DBD-454B-8135-B4440170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E2BE-94D2-46F3-A30F-FBD8DB15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552-B5F3-4B84-8057-75E31681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7F3-2F40-4D96-99A4-782BFA63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06B-2E29-4FF1-8979-6CA70758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1118-2355-42FE-BDA0-79D83071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884-DCB6-4163-8603-6096ACF5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D32-A321-458F-AE7E-6B3A22E5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4117-58FD-433D-A9D8-68FA91F8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94A1-60BE-4E4F-A43A-0BCC42DA45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4761-CAF8-4F6E-B7E2-87A52B8A30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392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3300"/>
                </a:solidFill>
                <a:latin typeface="Tahoma"/>
              </a:rPr>
              <a:t>Las escenas que vas a ver a continuación son duras.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Esto es la aplicación de la sharia, es decir: la ley islámica. 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Los delitos son juzgados por tribunales religiosos.   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5ffff"/>
                </a:solidFill>
                <a:latin typeface="Tahoma"/>
              </a:rPr>
              <a:t>Es que ya has visto las fotos del niño y te suena al cuento de nuca acabar. </a:t>
            </a:r>
            <a:br>
              <a:rPr sz="5400"/>
            </a:br>
            <a:r>
              <a:rPr b="0" lang="es-ES" sz="5400" spc="-1" strike="noStrike">
                <a:solidFill>
                  <a:srgbClr val="e5ffff"/>
                </a:solidFill>
                <a:latin typeface="Tahoma"/>
              </a:rPr>
              <a:t>No te preocupes que hay muchas más.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e5ffff"/>
                </a:solidFill>
                <a:latin typeface="Tahoma"/>
              </a:rPr>
              <a:t>Que te parecen las lapidaciones a mujeres adulteras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08000" y="2060640"/>
            <a:ext cx="54388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n pleno siglo XXI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050920" y="2565360"/>
            <a:ext cx="568332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Las piedras tienen su medida exacta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43280" y="1628640"/>
            <a:ext cx="3549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e5ffff"/>
                </a:solidFill>
                <a:latin typeface="Tahoma"/>
              </a:rPr>
              <a:t>No vaya a ser </a:t>
            </a:r>
            <a:br>
              <a:rPr sz="4800"/>
            </a:br>
            <a:r>
              <a:rPr b="0" lang="es-ES" sz="4800" spc="-1" strike="noStrike">
                <a:solidFill>
                  <a:srgbClr val="e5ffff"/>
                </a:solidFill>
                <a:latin typeface="Tahoma"/>
              </a:rPr>
              <a:t>que se muera enseguida.</a:t>
            </a: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26920" y="3068640"/>
            <a:ext cx="2984760" cy="2550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508720" y="2924280"/>
            <a:ext cx="309564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5683320" cy="4262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e5ffff"/>
                </a:solidFill>
                <a:latin typeface="Tahoma"/>
              </a:rPr>
              <a:t>Esto lo dice Amnistía Internacional no me lo he inventado y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Ah, por cierto, a un niño que se atreva a hacer el siguiente dibujo, habrá que cortarle la mano con la que cometió el sacrilegio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8000" y="907920"/>
            <a:ext cx="590400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Si crees que esto es vida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32000" y="1989000"/>
            <a:ext cx="63500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Un niño de ocho años es capturado en un mercado en Irán  tras haber robado pan.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No existe la justicia civil, como la entendemos en Occidente. </a:t>
            </a:r>
            <a:br>
              <a:rPr sz="4000"/>
            </a:b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El Corán es la única ley.     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2971800" cy="3913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867280" y="2349360"/>
            <a:ext cx="281484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604836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04872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Y todavía hay muchas más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2379600" cy="505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156360" y="1628640"/>
            <a:ext cx="279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3456000" cy="3683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211640" y="333360"/>
            <a:ext cx="47070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321300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508720" y="333360"/>
            <a:ext cx="3213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77920" y="907920"/>
            <a:ext cx="8866080" cy="2087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203640" y="4365720"/>
            <a:ext cx="2782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¿Todavía crees que todas las creencias son respetab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¿Tú también te has tragado lo de la «alianza de civilizaciones»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EN ESPAÑA, </a:t>
            </a:r>
            <a:r>
              <a:rPr b="0" lang="es-ES" sz="4000" spc="-1" strike="noStrike" u="sng">
                <a:solidFill>
                  <a:srgbClr val="ffffff"/>
                </a:solidFill>
                <a:uFillTx/>
                <a:latin typeface="Tahoma"/>
              </a:rPr>
              <a:t>CON EL DINERO DE TUS IMPUESTOS</a:t>
            </a: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, SE ESTÁN CONSTRUYENDO ESCUELAS CORÁNICAS Y MEZQUITA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700360" y="3213000"/>
            <a:ext cx="334476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Y SI NO ESTÁS DE ACUERDO CON TODO ELLO, ENTONCES ERES RACISTA, FACHA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Y POCO SOLIDARIO…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484360" y="2997360"/>
            <a:ext cx="504036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5075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Va a ser castigado en ese mismo lugar, en nombre del islam. Su brazo deberá ser aplastado por un vehículo. Así no volverá a roba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Efectivamente, no volverá a robar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e5ffff"/>
                </a:solidFill>
                <a:latin typeface="Tahoma"/>
              </a:rPr>
              <a:t>Ya están aquí.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77920" y="2492280"/>
            <a:ext cx="8866080" cy="208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419640" y="5229360"/>
            <a:ext cx="21715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e5ffff"/>
                </a:solidFill>
                <a:latin typeface="Tahoma"/>
              </a:rPr>
              <a:t>Por que nuestras hijas y nuestras mujeres nunca se tengan que ver así.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3876840" cy="2590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796000" y="3645000"/>
            <a:ext cx="281448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YA ESTÁ BIEN DE TANTA HIPOCRESÍA Y DE DEFENDER LO POLÍTICAMENTE CORRECTO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ahoma"/>
              </a:rPr>
              <a:t>PROTESTA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8800" spc="-1" strike="noStrike">
                <a:solidFill>
                  <a:srgbClr val="ffcc00"/>
                </a:solidFill>
                <a:latin typeface="Tahoma"/>
              </a:rPr>
              <a:t>P Á S A L O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074680" cy="3097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516720" y="260280"/>
            <a:ext cx="2155680" cy="3068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2843280" y="3048120"/>
            <a:ext cx="3286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5640" y="376200"/>
            <a:ext cx="763272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71640" y="318960"/>
            <a:ext cx="74880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00000" y="376200"/>
            <a:ext cx="748836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00000" y="318960"/>
            <a:ext cx="75596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42920" y="376200"/>
            <a:ext cx="734544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16000" y="260280"/>
            <a:ext cx="741672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17:08:10Z</dcterms:created>
  <dc:creator>Franck</dc:creator>
  <dc:description/>
  <dc:language>en-US</dc:language>
  <cp:lastModifiedBy>JUAN LUCAS NAVALON ANGEL</cp:lastModifiedBy>
  <dcterms:modified xsi:type="dcterms:W3CDTF">2009-03-02T02:37:08Z</dcterms:modified>
  <cp:revision>9</cp:revision>
  <dc:subject/>
  <dc:title>Un enfant de 8 ans, attrapé sur un marché en Iran pour avoir volé du     pain      </dc:title>
</cp:coreProperties>
</file>