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B9E9-3D69-493B-B7FA-3189FF4E6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B82F-71E9-499E-AC9C-1D9B47892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8B02-FDA5-470C-B92F-7ECBD7490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E616-3DD9-4118-AE9D-1FBF516FA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8B43-DFFB-477F-BC45-DE0B66B0D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E666-53E9-4CF8-A914-EB9943AF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E249-55D9-42DE-8832-4288BC4E2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D9FD-CB5E-48EA-81F3-056DBC41F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13C3-9B29-40E0-8313-9B504EE2B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B326-ED65-4F92-A629-0A49D1C5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7375-53ED-487D-B321-D466A074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08A3-9807-4C2F-B4F9-AC57BAA8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309FD-F4F8-43BB-8577-44E694CA6EE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333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68360" y="1989000"/>
            <a:ext cx="842472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cccff"/>
                </a:solidFill>
                <a:latin typeface="Comic Sans MS"/>
                <a:ea typeface="Times New Roman"/>
              </a:rPr>
              <a:t>"LEONARDO DA VINCI"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cccff"/>
                </a:solidFill>
                <a:latin typeface="Comic Sans MS"/>
                <a:ea typeface="Times New Roman"/>
              </a:rPr>
              <a:t>Existe una anécdota del gran pintor, escultor e inventor, Leonardo Da Vinci, acerca de su pintura "La última Cena", una de sus obras más copiadas y vendidas en la actualidad.</a:t>
            </a:r>
            <a:r>
              <a:rPr b="0" lang="es-ES" sz="2800" spc="-1" strike="noStrike">
                <a:solidFill>
                  <a:srgbClr val="ccccff"/>
                </a:solidFill>
                <a:latin typeface="Comic Sans MS"/>
                <a:ea typeface="Times New Roman"/>
              </a:rPr>
              <a:t> </a:t>
            </a:r>
            <a:r>
              <a:rPr b="0" lang="es-MX" sz="2800" spc="-1" strike="noStrike">
                <a:solidFill>
                  <a:srgbClr val="ccccff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3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35280" y="1989000"/>
            <a:ext cx="5689440" cy="16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-746280" y="176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3716280"/>
            <a:ext cx="799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ccccff"/>
                </a:solidFill>
                <a:latin typeface="Comic Sans MS"/>
                <a:ea typeface="Times New Roman"/>
              </a:rPr>
              <a:t>Al final, Da Vinci, satisfecho del resultado, llamó al reo y le mostró la obra; cuando el reo la vio, sumamente impresionado, cayo de rodillas, llorando.</a:t>
            </a:r>
            <a:r>
              <a:rPr b="0" lang="es-ES" sz="3600" spc="-1" strike="noStrike">
                <a:solidFill>
                  <a:srgbClr val="ccccff"/>
                </a:solidFill>
                <a:latin typeface="Comic Sans MS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random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3573360"/>
            <a:ext cx="8137440" cy="28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ccccff"/>
                </a:solidFill>
                <a:latin typeface="Comic Sans MS"/>
              </a:rPr>
              <a:t>Da Vinci, extrañado, le pregunto el por que de su actitud, a lo que el preso respondió:  "Maestro Da Vinci, ¿es que acaso no me recuerda?  "Da Vinci observándolo fijamente le contesta: "No, nunca antes lo había visto".</a:t>
            </a:r>
            <a:r>
              <a:rPr b="0" lang="es-ES" sz="3200" spc="-1" strike="noStrike">
                <a:solidFill>
                  <a:srgbClr val="cccc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random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95280" y="1717560"/>
            <a:ext cx="8209080" cy="51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ccccff"/>
                </a:solidFill>
                <a:latin typeface="Comic Sans MS"/>
                <a:ea typeface="Times New Roman"/>
              </a:rPr>
              <a:t>Llorando y pidiendo perdón a Dios, el reo le dijo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ccccff"/>
                </a:solidFill>
                <a:latin typeface="Comic Sans MS"/>
                <a:ea typeface="Times New Roman"/>
              </a:rPr>
              <a:t>"Maestro, yo soy aquel joven que hace 19 años usted escogió para representar a Jesús en este mismo cuadro"</a:t>
            </a:r>
            <a:r>
              <a:rPr b="0" lang="es-ES" sz="3200" spc="-1" strike="noStrike">
                <a:solidFill>
                  <a:srgbClr val="ccccff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71600" y="1351080"/>
            <a:ext cx="6400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7000">
    <p:random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3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39640" y="2349360"/>
            <a:ext cx="806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ccccff"/>
                </a:solidFill>
                <a:latin typeface="Comic Sans MS"/>
                <a:ea typeface="Times New Roman"/>
              </a:rPr>
              <a:t>La moraleja de esta historia es que por mas belleza física que se posea, es la belleza interna la que finalmente sale a relucir a través del tiempo en nosotros quedando inevitablemente marcada en nuestro rost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7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371600" y="1351080"/>
            <a:ext cx="6400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3840120" cy="4896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5003640" y="3716280"/>
            <a:ext cx="3591000" cy="1728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Y que la gracia de Dios 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se derrame en tu corazón.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27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523880"/>
            <a:ext cx="2712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4221000"/>
            <a:ext cx="792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ccccff"/>
                </a:solidFill>
                <a:latin typeface="Comic Sans MS"/>
                <a:ea typeface="Times New Roman"/>
              </a:rPr>
              <a:t>Tardo 20 años en hacerla debido a que era muy exigente al buscar a las personas que servirían de model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random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3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3809520"/>
            <a:ext cx="835164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ccccff"/>
                </a:solidFill>
                <a:latin typeface="Comic Sans MS"/>
              </a:rPr>
              <a:t>Tuvo problemas en iniciar la pintura porque no encontraba al modelo para representar a Jesús, quien debía reflejar en su rostro pureza, nobleza y los más bellos sentimien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4292280"/>
            <a:ext cx="813744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ccccff"/>
                </a:solidFill>
                <a:latin typeface="Comic Sans MS"/>
              </a:rPr>
              <a:t>Así mismo debía poseer una extraordinaria belleza varonil. Por fin, encontró a un joven con esas características, fue el primero que pinto.</a:t>
            </a:r>
            <a:r>
              <a:rPr b="0" lang="es-ES" sz="3200" spc="-1" strike="noStrike">
                <a:solidFill>
                  <a:srgbClr val="cccc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random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516720" y="333360"/>
            <a:ext cx="232236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4076640"/>
            <a:ext cx="8280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ccccff"/>
                </a:solidFill>
                <a:latin typeface="Comic Sans MS"/>
                <a:ea typeface="Times New Roman"/>
              </a:rPr>
              <a:t>Después fue localizando a los 11 apóstoles, a quienes pinto juntos, dejando pendiente a Judas Iscariote, pues no daba con el modelo adecuado.</a:t>
            </a:r>
            <a:r>
              <a:rPr b="0" lang="es-ES" sz="3200" spc="-1" strike="noStrike">
                <a:solidFill>
                  <a:srgbClr val="ccccff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3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4920" y="4508280"/>
            <a:ext cx="849780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cccff"/>
                </a:solidFill>
                <a:latin typeface="Comic Sans MS"/>
              </a:rPr>
              <a:t>Este, debía ser una persona de edad madura y mostrar en el rostro las huellas de la traición y la avaricia. Por lo que el cuadro quedo inconcluso por largo tiempo, hasta que le hablaron de un terrible criminal que habían apresado.</a:t>
            </a:r>
            <a:r>
              <a:rPr b="0" lang="es-ES" sz="2800" spc="-1" strike="noStrike">
                <a:solidFill>
                  <a:srgbClr val="cccc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3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3257280"/>
            <a:ext cx="80280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ccccff"/>
                </a:solidFill>
                <a:latin typeface="Comic Sans MS"/>
              </a:rPr>
              <a:t>Fue a verlo, y era exactamente el Judas que el quería para terminar su obra, por lo que solicito al alcalde le permitiera al reo que posara para el.</a:t>
            </a:r>
            <a:r>
              <a:rPr b="0" lang="es-ES" sz="3200" spc="-1" strike="noStrike">
                <a:solidFill>
                  <a:srgbClr val="cccc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3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724360" y="1484280"/>
            <a:ext cx="31068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4005360"/>
            <a:ext cx="7777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ccccff"/>
                </a:solidFill>
                <a:latin typeface="Comic Sans MS"/>
                <a:ea typeface="Times New Roman"/>
              </a:rPr>
              <a:t>El alcalde, conociendo la fama del maestro Da Vinci, acepto gustoso y llevaron al reo custodiado por 2 guardias y encadenado, al estudio del pintor.</a:t>
            </a:r>
            <a:r>
              <a:rPr b="0" lang="es-ES" sz="3200" spc="-1" strike="noStrike">
                <a:solidFill>
                  <a:srgbClr val="ccccff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3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50920" y="3933720"/>
            <a:ext cx="842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ccccff"/>
                </a:solidFill>
                <a:latin typeface="Comic Sans MS"/>
                <a:ea typeface="Times New Roman"/>
              </a:rPr>
              <a:t>Durante todo el tiempo que poso, el reo no dio muestra de emoción alguna por haber sido elegido como modelo, mostrándose demasiado callado y distante.</a:t>
            </a:r>
            <a:r>
              <a:rPr b="0" lang="es-ES" sz="3200" spc="-1" strike="noStrike">
                <a:solidFill>
                  <a:srgbClr val="ccccff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  N  I</cp:lastModifiedBy>
  <dcterms:modified xsi:type="dcterms:W3CDTF">2007-04-04T16:09:20Z</dcterms:modified>
  <cp:revision>46</cp:revision>
  <dc:subject/>
  <dc:title>Diapositiva 1</dc:title>
</cp:coreProperties>
</file>