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E01-840B-4741-99F4-480A1EFE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460-ADE3-41BD-A6CB-7F07391E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764-3D1E-40BF-AADC-EFF4888A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AEC-ED78-4B6D-83AF-D295908B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3CF-4895-43B6-BAC4-4DB1A536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4C3-4A98-4C96-98E4-0D63FC1F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70F-C6BF-4A45-8087-9CFD448E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F68-CE39-4599-8090-E641C63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D7C-3797-452B-B62F-1BA9D04B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CFC-64BB-46B0-8F9D-864CFF8C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D2C-F71D-48CE-9207-48F4D04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FB0-300C-4C2E-9682-B311BF64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547D-67BB-404A-A683-6DB42E9C08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1989000"/>
            <a:ext cx="8424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"LEONARDO DA VINCI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Existe una anécdota del gran pintor, escultor e inventor, Leonardo Da Vinci, acerca de su pintura "La última Cena", una de sus obras más copiadas y vendidas en la actualidad.</a:t>
            </a:r>
            <a:r>
              <a:rPr b="0" lang="es-ES" sz="28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5280" y="1989000"/>
            <a:ext cx="568944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7462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3716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Al final, Da Vinci, satisfecho del resultado, llamó al reo y le mostró la obra; cuando el reo la vio, sumamente impresionado, cayo de rodillas, llorando.</a:t>
            </a:r>
            <a:r>
              <a:rPr b="0" lang="es-ES" sz="36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3573360"/>
            <a:ext cx="813744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</a:rPr>
              <a:t>Da Vinci, extrañado, le pregunto el por que de su actitud, a lo que el preso respondió:  "Maestro Da Vinci, ¿es que acaso no me recuerda?  "Da Vinci observándolo fijamente le contesta: "No, nunca antes lo había visto"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717560"/>
            <a:ext cx="820908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Llorando y pidiendo perdón a Dios, el reo le dij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"Maestro, yo soy aquel joven que hace 19 años usted escogió para representar a Jesús en este mismo cuadro"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351080"/>
            <a:ext cx="640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234936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La moraleja de esta historia es que por mas belleza física que se posea, es la belleza interna la que finalmente sale a relucir a través del tiempo en nosotros quedando inevitablemente marcada en nuestro ros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1351080"/>
            <a:ext cx="640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40120" cy="489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003640" y="3716280"/>
            <a:ext cx="359100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Y que la gracia de Dio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e derrame en tu corazón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2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523880"/>
            <a:ext cx="2712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22100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Tardo 20 años en hacerla debido a que era muy exigente al buscar a las personas que servirían de mode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809520"/>
            <a:ext cx="835164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</a:rPr>
              <a:t>Tuvo problemas en iniciar la pintura porque no encontraba al modelo para representar a Jesús, quien debía reflejar en su rostro pureza, nobleza y los más bellos sentimi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292280"/>
            <a:ext cx="8137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</a:rPr>
              <a:t>Así mismo debía poseer una extraordinaria belleza varonil. Por fin, encontró a un joven con esas características, fue el primero que pinto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16720" y="333360"/>
            <a:ext cx="2322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076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Después fue localizando a los 11 apóstoles, a quienes pinto juntos, dejando pendiente a Judas Iscariote, pues no daba con el modelo adecuado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4508280"/>
            <a:ext cx="84978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Comic Sans MS"/>
              </a:rPr>
              <a:t>Este, debía ser una persona de edad madura y mostrar en el rostro las huellas de la traición y la avaricia. Por lo que el cuadro quedo inconcluso por largo tiempo, hasta que le hablaron de un terrible criminal que habían apresado.</a:t>
            </a:r>
            <a:r>
              <a:rPr b="0" lang="es-ES" sz="28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257280"/>
            <a:ext cx="8028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</a:rPr>
              <a:t>Fue a verlo, y era exactamente el Judas que el quería para terminar su obra, por lo que solicito al alcalde le permitiera al reo que posara para el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24360" y="1484280"/>
            <a:ext cx="3106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0536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El alcalde, conociendo la fama del maestro Da Vinci, acepto gustoso y llevaron al reo custodiado por 2 guardias y encadenado, al estudio del pintor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393372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Durante todo el tiempo que poso, el reo no dio muestra de emoción alguna por haber sido elegido como modelo, mostrándose demasiado callado y distante.</a:t>
            </a:r>
            <a:r>
              <a:rPr b="0" lang="es-ES" sz="3200" spc="-1" strike="noStrike">
                <a:solidFill>
                  <a:srgbClr val="ccccff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  N  I</cp:lastModifiedBy>
  <dcterms:modified xsi:type="dcterms:W3CDTF">2007-04-04T16:09:20Z</dcterms:modified>
  <cp:revision>46</cp:revision>
  <dc:subject/>
  <dc:title>Diapositiva 1</dc:title>
</cp:coreProperties>
</file>