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pasito%20a%20paso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F1E9-3E53-4991-BCAE-3A7D18E8F9D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BDAB-1A02-4F9B-8575-A071DE97FF6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014B-CF8E-42E0-936A-21A92F8B2981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6553-E7C7-499F-A515-76FA1DE59DB1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055-C30B-40C4-B08F-A173AEF9605D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635-4318-4462-9892-A59345DCBCC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1C27-0B58-465E-B78F-12C2F3E2D5B6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83AA-4A67-4A1F-95B5-50C8B6862DE9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9BD3-AC25-4155-9A45-2F164696D4D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FE2-3A68-4BB4-B30D-D5270022EED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1BB5-54EC-4BAE-A739-D8847C83C50A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12E6-359F-4D1F-8F00-4FFCA5D7529B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B15-376A-482A-8FC0-C3BC2E33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6F8-7A27-4F0D-8EF7-9DBA389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0EF-BC0A-42CF-84E3-8F85169E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C7A-6635-4E76-83A1-51A356BC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3B8-7875-4EE1-A086-E7790B4C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86A-7515-4DE0-8726-2F5D084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C7B-0763-4014-9A99-C8BCD3F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7FF-D3DA-42C6-B853-0E0E9808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3A5-9E4B-42D2-8F04-5936D46B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5F6-B7B3-4A67-A87C-BEB7EB0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BD9-334E-4F52-A8E3-FA42103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471-FDA3-4C04-A938-233F0B3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4DB0-3280-43D4-AE1E-827851D45C96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audio" Target="../media/pasito%20a%20paso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Rectángulo" descr=""/>
          <p:cNvPicPr/>
          <p:nvPr/>
        </p:nvPicPr>
        <p:blipFill>
          <a:blip r:embed="rId1"/>
          <a:stretch/>
        </p:blipFill>
        <p:spPr>
          <a:xfrm>
            <a:off x="579600" y="2706840"/>
            <a:ext cx="8051760" cy="132876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1" name="13 Grupo"/>
          <p:cNvGrpSpPr/>
          <p:nvPr/>
        </p:nvGrpSpPr>
        <p:grpSpPr>
          <a:xfrm>
            <a:off x="3905280" y="5073480"/>
            <a:ext cx="1474920" cy="686880"/>
            <a:chOff x="3905280" y="5073480"/>
            <a:chExt cx="1474920" cy="686880"/>
          </a:xfrm>
        </p:grpSpPr>
        <p:pic>
          <p:nvPicPr>
            <p:cNvPr id="52" name="11 Imagen" descr="141.gif"/>
            <p:cNvPicPr/>
            <p:nvPr/>
          </p:nvPicPr>
          <p:blipFill>
            <a:blip r:embed="rId3"/>
            <a:stretch/>
          </p:blipFill>
          <p:spPr>
            <a:xfrm>
              <a:off x="4794840" y="50734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12 CuadroTexto"/>
            <p:cNvSpPr/>
            <p:nvPr/>
          </p:nvSpPr>
          <p:spPr>
            <a:xfrm>
              <a:off x="3905280" y="511776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7 CuadroTexto"/>
          <p:cNvSpPr/>
          <p:nvPr/>
        </p:nvSpPr>
        <p:spPr>
          <a:xfrm>
            <a:off x="927000" y="534024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No usar el mouse, está automát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2286000" y="209088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asito a paso otra vez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or las veredas quietas y al sol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la madreselva, el pacae, ñorbos, nísperos y melocotón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tu corazón antañón viajará de regres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l ritmo ya olvidado de la vieja il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8" name="4 Grupo"/>
          <p:cNvGrpSpPr/>
          <p:nvPr/>
        </p:nvGrpSpPr>
        <p:grpSpPr>
          <a:xfrm>
            <a:off x="4172040" y="5073480"/>
            <a:ext cx="1474560" cy="686880"/>
            <a:chOff x="4172040" y="5073480"/>
            <a:chExt cx="1474560" cy="686880"/>
          </a:xfrm>
        </p:grpSpPr>
        <p:pic>
          <p:nvPicPr>
            <p:cNvPr id="109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5061240" y="50734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6 CuadroTexto"/>
            <p:cNvSpPr/>
            <p:nvPr/>
          </p:nvSpPr>
          <p:spPr>
            <a:xfrm>
              <a:off x="4172040" y="511776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Rectángulo"/>
          <p:cNvSpPr/>
          <p:nvPr/>
        </p:nvSpPr>
        <p:spPr>
          <a:xfrm>
            <a:off x="2349360" y="11620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asito a paso otr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4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sp>
        <p:nvSpPr>
          <p:cNvPr id="114" name="1 Título"/>
          <p:cNvSpPr/>
          <p:nvPr/>
        </p:nvSpPr>
        <p:spPr>
          <a:xfrm>
            <a:off x="838080" y="40068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632523"/>
                </a:solidFill>
                <a:latin typeface="Adobe Caslon Pro"/>
              </a:rPr>
              <a:t>Que pases un lindo día</a:t>
            </a:r>
            <a:br>
              <a:rPr sz="3200"/>
            </a:br>
            <a:r>
              <a:rPr b="1" lang="es-PE" sz="3200" spc="-1" strike="noStrike">
                <a:solidFill>
                  <a:srgbClr val="632523"/>
                </a:solidFill>
                <a:latin typeface="Edwardian Script ITC"/>
              </a:rPr>
              <a:t>L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Hoy es </a:t>
            </a:r>
            <a:fld id="{663846B4-EB27-41C9-BC10-8E7254A2D63D}" type="datetime2"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viernes 31 de julio de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Y son las  </a:t>
            </a:r>
            <a:fld id="{770601E9-B32D-4778-A96E-81AFC3387008}" type="datetime13"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04:42:10 p. m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2286000" y="25210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“</a:t>
            </a: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No se si quieras volver no se si puedas,</a:t>
            </a:r>
            <a:br>
              <a:rPr sz="2800"/>
            </a:b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ni si te puedo esperar, ni si es que sabes</a:t>
            </a:r>
            <a:br>
              <a:rPr sz="2800"/>
            </a:b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que Lima quedó inmóvil y en sosiego,</a:t>
            </a:r>
            <a:br>
              <a:rPr sz="2800"/>
            </a:b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y que puedes volver, es casi como fue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8" name="4 Grupo"/>
          <p:cNvGrpSpPr/>
          <p:nvPr/>
        </p:nvGrpSpPr>
        <p:grpSpPr>
          <a:xfrm>
            <a:off x="3860640" y="4940280"/>
            <a:ext cx="1474920" cy="686880"/>
            <a:chOff x="3860640" y="4940280"/>
            <a:chExt cx="1474920" cy="686880"/>
          </a:xfrm>
        </p:grpSpPr>
        <p:pic>
          <p:nvPicPr>
            <p:cNvPr id="59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50200" y="49402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6 CuadroTexto"/>
            <p:cNvSpPr/>
            <p:nvPr/>
          </p:nvSpPr>
          <p:spPr>
            <a:xfrm>
              <a:off x="3860640" y="498456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8000"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2286000" y="230652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Mis ilusiones serán locura de mis sueños.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ues será como volver a todo lo perdido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es como soñar en que nada ha cambiad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todo lo vivido empieza a comenz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64" name="4 Grupo"/>
          <p:cNvGrpSpPr/>
          <p:nvPr/>
        </p:nvGrpSpPr>
        <p:grpSpPr>
          <a:xfrm>
            <a:off x="3860640" y="4807080"/>
            <a:ext cx="1474920" cy="686880"/>
            <a:chOff x="3860640" y="4807080"/>
            <a:chExt cx="1474920" cy="686880"/>
          </a:xfrm>
        </p:grpSpPr>
        <p:pic>
          <p:nvPicPr>
            <p:cNvPr id="65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50200" y="48070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6 CuadroTexto"/>
            <p:cNvSpPr/>
            <p:nvPr/>
          </p:nvSpPr>
          <p:spPr>
            <a:xfrm>
              <a:off x="3860640" y="485136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7000"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Rectángulo"/>
          <p:cNvSpPr/>
          <p:nvPr/>
        </p:nvSpPr>
        <p:spPr>
          <a:xfrm>
            <a:off x="2286000" y="16588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Mira que habrá que volver a viajar en tranvía otra vez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de esquina a esquina, un balcón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en cada paradero soñar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que el tiempo vuelve a empezar, que se llegue a destin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que todo el camino está, está por recorr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3 Grupo"/>
          <p:cNvGrpSpPr/>
          <p:nvPr/>
        </p:nvGrpSpPr>
        <p:grpSpPr>
          <a:xfrm>
            <a:off x="3816360" y="4940280"/>
            <a:ext cx="1519200" cy="642600"/>
            <a:chOff x="3816360" y="4940280"/>
            <a:chExt cx="1519200" cy="642600"/>
          </a:xfrm>
        </p:grpSpPr>
        <p:pic>
          <p:nvPicPr>
            <p:cNvPr id="70" name="4 Imagen" descr="141.gif"/>
            <p:cNvPicPr/>
            <p:nvPr/>
          </p:nvPicPr>
          <p:blipFill>
            <a:blip r:embed="rId1"/>
            <a:stretch/>
          </p:blipFill>
          <p:spPr>
            <a:xfrm>
              <a:off x="4750200" y="498456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5 CuadroTexto"/>
            <p:cNvSpPr/>
            <p:nvPr/>
          </p:nvSpPr>
          <p:spPr>
            <a:xfrm>
              <a:off x="3816360" y="494028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 Rectángulo"/>
          <p:cNvSpPr/>
          <p:nvPr/>
        </p:nvSpPr>
        <p:spPr>
          <a:xfrm>
            <a:off x="2286000" y="165888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asito a paso otra vez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or las veredas quietas y al sol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la madreselva, el pacae, ñorbos, nísperos y melocotón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tu corazón antañón viajará de regres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l ritmo ya olvidado de la vieja ilusió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4 Grupo"/>
          <p:cNvGrpSpPr/>
          <p:nvPr/>
        </p:nvGrpSpPr>
        <p:grpSpPr>
          <a:xfrm>
            <a:off x="3860640" y="4540320"/>
            <a:ext cx="1474920" cy="686880"/>
            <a:chOff x="3860640" y="4540320"/>
            <a:chExt cx="1474920" cy="686880"/>
          </a:xfrm>
        </p:grpSpPr>
        <p:pic>
          <p:nvPicPr>
            <p:cNvPr id="77" name="5 Imagen" descr="141.gif"/>
            <p:cNvPicPr/>
            <p:nvPr/>
          </p:nvPicPr>
          <p:blipFill>
            <a:blip r:embed="rId1"/>
            <a:stretch/>
          </p:blipFill>
          <p:spPr>
            <a:xfrm>
              <a:off x="4750200" y="454032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6 CuadroTexto"/>
            <p:cNvSpPr/>
            <p:nvPr/>
          </p:nvSpPr>
          <p:spPr>
            <a:xfrm>
              <a:off x="3860640" y="45846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7 Imagen" descr="RECUERDOSNIETOSGorreandoTranvia.jpg"/>
          <p:cNvPicPr/>
          <p:nvPr/>
        </p:nvPicPr>
        <p:blipFill>
          <a:blip r:embed="rId1"/>
          <a:stretch/>
        </p:blipFill>
        <p:spPr>
          <a:xfrm>
            <a:off x="2127240" y="1695600"/>
            <a:ext cx="5511960" cy="34668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704880" y="1069920"/>
            <a:ext cx="8001000" cy="4932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2438280" y="5340240"/>
            <a:ext cx="51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000000"/>
                </a:solidFill>
                <a:latin typeface="Adobe Caslon Pro"/>
              </a:rPr>
              <a:t>Qué lindo sería viajar otra vez en tranvía y al bajar pasito a paso, contemplar la belleza de esa Lima que se f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84" name="5 Grupo"/>
          <p:cNvGrpSpPr/>
          <p:nvPr/>
        </p:nvGrpSpPr>
        <p:grpSpPr>
          <a:xfrm>
            <a:off x="3994200" y="6184800"/>
            <a:ext cx="1474560" cy="686880"/>
            <a:chOff x="3994200" y="6184800"/>
            <a:chExt cx="1474560" cy="686880"/>
          </a:xfrm>
        </p:grpSpPr>
        <p:pic>
          <p:nvPicPr>
            <p:cNvPr id="85" name="6 Imagen" descr="141.gif"/>
            <p:cNvPicPr/>
            <p:nvPr/>
          </p:nvPicPr>
          <p:blipFill>
            <a:blip r:embed="rId3"/>
            <a:stretch/>
          </p:blipFill>
          <p:spPr>
            <a:xfrm>
              <a:off x="4883400" y="618480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7 CuadroTexto"/>
            <p:cNvSpPr/>
            <p:nvPr/>
          </p:nvSpPr>
          <p:spPr>
            <a:xfrm>
              <a:off x="3994200" y="622908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Rectángulo"/>
          <p:cNvSpPr/>
          <p:nvPr/>
        </p:nvSpPr>
        <p:spPr>
          <a:xfrm>
            <a:off x="2286000" y="25210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dejaremos pasar las horas sin apremios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la sobremesa vendrá, sabia y tranquila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luego tal vez te escuche reposada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brigando el silencio ya dorm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3 Grupo"/>
          <p:cNvGrpSpPr/>
          <p:nvPr/>
        </p:nvGrpSpPr>
        <p:grpSpPr>
          <a:xfrm>
            <a:off x="3860640" y="4540320"/>
            <a:ext cx="1474920" cy="686880"/>
            <a:chOff x="3860640" y="4540320"/>
            <a:chExt cx="1474920" cy="686880"/>
          </a:xfrm>
        </p:grpSpPr>
        <p:pic>
          <p:nvPicPr>
            <p:cNvPr id="90" name="4 Imagen" descr="141.gif"/>
            <p:cNvPicPr/>
            <p:nvPr/>
          </p:nvPicPr>
          <p:blipFill>
            <a:blip r:embed="rId1"/>
            <a:stretch/>
          </p:blipFill>
          <p:spPr>
            <a:xfrm>
              <a:off x="4750200" y="454032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5 CuadroTexto"/>
            <p:cNvSpPr/>
            <p:nvPr/>
          </p:nvSpPr>
          <p:spPr>
            <a:xfrm>
              <a:off x="3860640" y="45846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</p:spTree>
  </p:cSld>
  <p:transition advTm="18000"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2286000" y="20908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No se si quieras saber que empieza la mañana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como las vieras nacer, como tu las traías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que todo el ayer se prepara al regres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que nuestra ciudad se ha dete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96" name="4 Grupo"/>
          <p:cNvGrpSpPr/>
          <p:nvPr/>
        </p:nvGrpSpPr>
        <p:grpSpPr>
          <a:xfrm>
            <a:off x="3860640" y="4540320"/>
            <a:ext cx="1474920" cy="686880"/>
            <a:chOff x="3860640" y="4540320"/>
            <a:chExt cx="1474920" cy="686880"/>
          </a:xfrm>
        </p:grpSpPr>
        <p:pic>
          <p:nvPicPr>
            <p:cNvPr id="97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50200" y="454032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6 CuadroTexto"/>
            <p:cNvSpPr/>
            <p:nvPr/>
          </p:nvSpPr>
          <p:spPr>
            <a:xfrm>
              <a:off x="3860640" y="45846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7000"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286000" y="16588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Mira que habrá que volver a viajar en tranvía otra vez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de esquina a esquina, un balcón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en cada paradero soñar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que el tiempo vuelve a empezar, que se llegue a destin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que todo el camino está, está por recorr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2" name="4 Grupo"/>
          <p:cNvGrpSpPr/>
          <p:nvPr/>
        </p:nvGrpSpPr>
        <p:grpSpPr>
          <a:xfrm>
            <a:off x="3905280" y="4984920"/>
            <a:ext cx="1474920" cy="686880"/>
            <a:chOff x="3905280" y="4984920"/>
            <a:chExt cx="1474920" cy="686880"/>
          </a:xfrm>
        </p:grpSpPr>
        <p:pic>
          <p:nvPicPr>
            <p:cNvPr id="103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94840" y="4984920"/>
              <a:ext cx="58536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6 CuadroTexto"/>
            <p:cNvSpPr/>
            <p:nvPr/>
          </p:nvSpPr>
          <p:spPr>
            <a:xfrm>
              <a:off x="3905280" y="50292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9000"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13:17Z</dcterms:created>
  <dc:creator>Luis Fontana</dc:creator>
  <dc:description/>
  <dc:language>en-US</dc:language>
  <cp:lastModifiedBy>Luis Fontana</cp:lastModifiedBy>
  <dcterms:modified xsi:type="dcterms:W3CDTF">2010-03-07T11:42:20Z</dcterms:modified>
  <cp:revision>51</cp:revision>
  <dc:subject/>
  <dc:title>Diapositiva 1</dc:title>
</cp:coreProperties>
</file>