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B55-6A23-4A69-9723-2E6EC01B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5A3-A6FB-4C94-BACD-8F880C92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43D-3BE3-43ED-97B9-115FA748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257-C2AE-40C6-A052-E154DA05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B3C0-CC9D-4771-B1DC-0114F294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C693-CCE7-4B02-AFF5-D2B6AB3A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92EF-162B-4898-8569-757B00BB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7F6E-9B67-421B-B291-801E9191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2BD1-87C3-43A0-A881-EE698FF7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6A6-5282-40A1-B21C-E0337941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934B-E8E0-43C6-86EA-7DB49D95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CE6-50FB-4D6C-B865-78D1A7A1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0F13-9D75-4464-93BA-AB61DDDE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7763-D5BF-48DB-8A00-0FAD1A6E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FFFE-B22B-430F-9494-3F654C9A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D94A-54F2-4ABC-9ECB-1A35E341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33FA-ACFA-400F-933A-491FA4CF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9D46-73BD-4A0D-8A46-D5F0F903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B966-08BF-439A-AA06-84907786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6658-A785-4081-9DD5-D36843CE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6270-820F-41C2-97A3-BD1B4482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465C-3F90-447A-AB64-B7723DB1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FE5-0883-479C-AE09-092756D6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21DA-1861-4749-9999-0608CF73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ADD4-06BB-439F-916F-692B8114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94B9-2308-4407-AC33-21F6C946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191C-DD80-42C4-8109-F378431A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8C37-04E7-4D7E-A054-7BAD8538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357F-CEF3-4465-BEFA-24CB5040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2D79-5027-4163-9985-8B7E05B9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59FB-AC1F-4D7E-ACB2-CAAEE466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7D886-34A1-49A2-8C6C-008F7F91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3EFA-D527-4B9E-B1D3-A7F38D1B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A0F-B9E6-4A68-BA2E-AD849E86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632DB-6323-44CA-BC5C-E8EDA4E1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4B9FF-4498-45EA-AF51-F1E51CE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829FC-48E0-4AAD-B1AC-44F7FBA3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0072-2793-4EBA-9012-56F5F13F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EF57-12CF-4B7A-93FE-25295A2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EC0D-91D5-41E4-B028-6EA5A8E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F518-F8CB-49D8-8599-C73AACDC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BAA1E-FB2E-465E-A075-42DE77F3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E49D-1555-4441-8BD9-1CF1BAE7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14E28-D763-4623-B872-51CF2D0D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F8E-5CAE-4DE4-816E-326E813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F2100-74C9-4E64-AB92-58B7D861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E87A0-CA13-49DC-8B18-4A3D82E7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8BB52-C641-4545-BCA6-45670130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D61E-8F47-45C9-A1EB-64B96A52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598AC-554D-42C7-8E41-BB52407D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4A7C6-1B33-490B-A06A-33719F10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01F1C-DD19-4E72-8D04-9C3C4129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950F5-25B6-4DC6-919E-8BEA7DB4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B33D-891F-4BAB-B4C3-3320890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6B870-A3BE-4E80-8F51-D95E86E2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942-38A7-4CA1-9E56-BBD71253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848B4-E8A2-4D79-A377-9821AF55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CFB09-38CE-4453-A005-3CF0F479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9DFFE-84C8-4431-8468-60894AAB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8D8ED-8994-477A-A50A-076BC0C9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7EFF7-EC4C-47C5-8928-CE0CF4C8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31F7B-4C50-4A68-AD84-07FBF039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C1973-1D95-43E9-8E43-92C3C12F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7DC4-4C3A-477D-8F50-5EAFC33A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6600-ED9E-4C70-8148-E594A1D8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D90BE-7587-46EB-91FD-0E63FF23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8FB-4157-4321-AD9A-1372EF91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EB6B9-B148-49C7-912F-B798A3CD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0C30D-1533-4681-904B-63927CFA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85B95-7F3D-4309-8DBB-D80A4F32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9F711-DE71-4E95-903D-7C5EBBB2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5966-129B-4952-A8DA-9FE9236A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1D1B5-B0E3-4C8C-B268-A2793C0B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2C958-9DED-4628-98D5-ABF48DA6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64724-C616-4E86-AA39-825B5B23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654AE-AEAE-4014-83B7-35174E99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E187E-CBD1-4B5C-863F-CEDF2F1B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3C1-1919-4AF3-AADA-74308F6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C8E15-B82F-47A1-AE12-A55F46B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DD281-E09E-47D0-ACD1-3A7734E1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607D-ADD4-4E9B-A85A-4BF762A2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32B2F-A2D1-4117-9D40-F07CDDFC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E7155-0F00-4DDE-BB63-604D745E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EF8-C824-4AF0-9A98-9AFD182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23E9-BDC1-4EF7-B2DA-FDC0450B670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A568-8ED0-46C3-BDD5-EDEF56378030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86CD-CDC8-443F-9EE2-1A9DD8A8D7DA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4B76-41CA-4D09-9791-0DCA6F064CA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E3E1-996F-4EE8-B0AA-7E8ED920CA6E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B0DA-D226-432F-B060-F1C5FDD96C4E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5B22-8F4F-423F-BB32-ABF60C2507A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1 Título" descr=""/>
          <p:cNvPicPr/>
          <p:nvPr/>
        </p:nvPicPr>
        <p:blipFill>
          <a:blip r:embed="rId2"/>
          <a:stretch/>
        </p:blipFill>
        <p:spPr>
          <a:xfrm>
            <a:off x="384120" y="1268280"/>
            <a:ext cx="8882280" cy="35355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rbel"/>
              </a:rPr>
              <a:t>Las fotos están hechas a un agente de policía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rbel"/>
              </a:rPr>
              <a:t>Este pensó que debido a su envergadura y a sus habilidades podría desarmar a un agresor empuñando un cuchillo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8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08" name="3 Marcador de contenido" descr="heridas.bmp"/>
          <p:cNvPicPr/>
          <p:nvPr/>
        </p:nvPicPr>
        <p:blipFill>
          <a:blip r:embed="rId1"/>
          <a:stretch/>
        </p:blipFill>
        <p:spPr>
          <a:xfrm>
            <a:off x="928800" y="1571760"/>
            <a:ext cx="7500960" cy="5072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A todos los idiotas que dicen: ¿porqué los policías dispararon a esa persona?, sólo llevaba (un cuchillo, un bate, etc.), no tenían que haber disparado…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A eso respond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Si un policía dice que sueltes el arma, </a:t>
            </a:r>
            <a:r>
              <a:rPr b="1" lang="es-ES" sz="3000" spc="-1" strike="noStrike">
                <a:solidFill>
                  <a:srgbClr val="000000"/>
                </a:solidFill>
                <a:latin typeface="Corbel"/>
              </a:rPr>
              <a:t>¡DÉJALA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Si eres retardado, estúpido, estas drogado, loco... malo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Nadie se merece lo que le pasó a este policía por hacer su trabaj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12" name="3 Marcador de contenido" descr="heridas2.bmp"/>
          <p:cNvPicPr/>
          <p:nvPr/>
        </p:nvPicPr>
        <p:blipFill>
          <a:blip r:embed="rId1"/>
          <a:stretch/>
        </p:blipFill>
        <p:spPr>
          <a:xfrm>
            <a:off x="428760" y="1571760"/>
            <a:ext cx="8286480" cy="5072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14" name="3 Marcador de contenido" descr="heridas3.bmp"/>
          <p:cNvPicPr/>
          <p:nvPr/>
        </p:nvPicPr>
        <p:blipFill>
          <a:blip r:embed="rId1"/>
          <a:stretch/>
        </p:blipFill>
        <p:spPr>
          <a:xfrm>
            <a:off x="428760" y="1571760"/>
            <a:ext cx="8358120" cy="5072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28760" y="16430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sta es una prueba grafica de lo mortíferas que pueden ser personas armadas </a:t>
            </a:r>
            <a:r>
              <a:rPr b="1" lang="es-ES" sz="3200" spc="-1" strike="noStrike">
                <a:solidFill>
                  <a:srgbClr val="ff0000"/>
                </a:solidFill>
                <a:latin typeface="Corbel"/>
              </a:rPr>
              <a:t>“Sólo Con Un Cuchillo”</a:t>
            </a: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. Algunas personas, políticos y periodistas piensan que los policías deben tratar de desarmar a una persona armada solamente con un cuchillo, pero cualquier persona que tenga conocimientos sobre combates e intervenciones con armas blancas te dirá que aunque ganes, </a:t>
            </a:r>
            <a:r>
              <a:rPr b="1" lang="es-ES" sz="3200" spc="-1" strike="noStrike">
                <a:solidFill>
                  <a:srgbClr val="ff0000"/>
                </a:solidFill>
                <a:latin typeface="Corbel"/>
              </a:rPr>
              <a:t>Vas A Sufrir Cort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1"/>
          <a:stretch/>
        </p:blipFill>
        <p:spPr>
          <a:xfrm>
            <a:off x="304920" y="-6480"/>
            <a:ext cx="8583480" cy="1268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S UNA LESION QUE SE PODIA HABER PREVENID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2060"/>
                </a:solidFill>
                <a:latin typeface="Corbel"/>
              </a:rPr>
              <a:t>¡NO SEAS UN HEROE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23:00Z</dcterms:created>
  <dc:creator>Koldo</dc:creator>
  <dc:description/>
  <dc:language>en-US</dc:language>
  <cp:lastModifiedBy>GarciaJ</cp:lastModifiedBy>
  <dcterms:modified xsi:type="dcterms:W3CDTF">2009-04-21T09:31:32Z</dcterms:modified>
  <cp:revision>4</cp:revision>
  <dc:subject/>
  <dc:title>¿POR QUÉ SE HA DE DISPARAR A UNA PERSONA QUE AMENAZA CON UN CUCHILLO?</dc:title>
</cp:coreProperties>
</file>