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103-EAC0-4DDF-9261-241DDED5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66F-3993-44CD-90FB-1B358007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4835-05FA-4960-A789-6344F5C8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B6BC-6B2F-44C1-8C8F-AF82CA92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E25C-BCAF-4EDA-8EEB-6602B3A5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3746-7B55-41D7-A99D-F983A34C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CF2F-B510-42CD-97DE-AE853040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F0F2-864A-4750-B2DA-F659505A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D133-C86E-492D-B8BB-BE244268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62BE-16BD-4CCD-ACD8-1253F844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84EE-371F-4543-A051-C0FEDBE2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C42-8690-4149-9F3E-CD2A7526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4ADF-A76C-4539-9379-0525C0B1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35B9-01C3-4D16-96E1-BB77AABE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F4C5-2573-406D-8CCC-E28F6C83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435D-4F86-4E5A-A093-CC0117C7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4071-7E1A-44D1-94AB-E7B66526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FBED1-33C2-46CF-ACF3-5BB27749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34257-D200-4B01-961E-7105516B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F06AF-086C-4564-A576-0468B347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1E453-0D38-4610-952D-FBD41EF8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6269F-3A4E-481C-80EA-470813E0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B0B2-36EE-45A0-A5E4-08392657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8F768-8204-478E-AB1B-BADF32C3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39154-3C30-4903-A332-190C2133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3BE4E-6E41-4576-9206-5A4163F7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8023D-42BF-4E8F-89FD-482C588A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C2088-76EA-4FD6-BBEC-4AD1F65C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81200-9805-4C19-A3C6-3675C1EB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7A7BF-8AB9-47A6-8D72-729E2BE6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8C386-FCFD-4B21-91CC-4CBE33EC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4C440-5C93-4988-A633-FB17B3EE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9A038-9FD9-4501-A983-648F2314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14F-CC93-4EEE-86EC-42A46AB8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2CAB0-E2CC-48A4-A1E3-BC20BB42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67E4B-9F8E-46B8-8E9C-E5BF9421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D422A-F614-4A30-A7C3-ED7DDEFE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7A4B9-E8B0-471B-861E-81565C25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470C1-0CEA-4966-88AC-A7AA7420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6F98D-A9E1-42DC-8C7F-4A970603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D34F9-84D4-4C83-B73D-E780C63B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7008D-224F-40D5-A13A-52049162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C8A75-1C54-4D36-B717-7FBC8303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94995-4230-4772-B493-1FB3FB39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651-34D5-48CC-8FFE-BAAE9B20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A4350-8876-46A1-91AE-7ACBAC1E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5A8CC-854C-4854-B0D9-B3F93F0C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6B827-6E9C-4FBF-AEE5-341FDAB4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AE946-F70F-4958-8DF1-2E977818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E9440-F7C4-474C-928D-100402DC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162AE-10B6-4F91-981B-D1AD88AA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A8823-C94F-4FA4-9D2A-9C1F3506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6A2F1-1A80-45C7-BCA8-81249438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4C019-B7CB-451B-BA25-375B9698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F4CF2-0385-4071-B2F3-FEC3BDFF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AC2-A2E9-4700-8518-493642F6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ADB57-5C05-4D48-AB07-BE1AA8FB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E8FE2-78A0-40C6-9534-E3743EF9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DC6ED-6C83-4F72-B5C5-E84ADE17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CB7BB-358E-4316-B674-CC7E8181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B27F9-001B-45F2-8758-9E38F725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558A2-D83D-4E78-95AA-7FDE532D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F4A0B-2FE0-4637-B768-9021D10C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8BBC4-29E5-48DF-A844-D678118B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6558C-96BA-452A-8A68-27988ACE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4F50F-A957-428F-89EC-6E8E3242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C9E-8D9B-4143-B317-2AF74879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A0212-05F6-4F4B-994A-D6FF6F53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CEEB9-3404-43DF-87B0-D8E2BB48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D9032-53C6-4C57-9165-93724527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0343B-3E90-4E3A-B0F1-229A5E70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17D36-CBF3-4CA0-8A24-4D09D1C9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2E332-95B3-4A76-96E7-EDFFF135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CD9AC-4344-40CD-A616-D8831D08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48B69-470A-438E-8E5D-639AC482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0E631-0C48-42DE-A13A-60C5CA2F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0E31D-2288-4D5E-86DD-19E2E9CD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FFE-F016-44D0-B439-0D8126F4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63818-F28F-435E-9D95-F48DA6D3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8DE1B-45D5-442A-BD61-DE261759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4FCA0-86B7-4FA7-BFCF-96797C24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2A859-102C-4A22-AE5A-62F7ED34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57DD6-C181-43A9-AE20-EBFAAF61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2B9-B21A-4DF3-8A61-418E514D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776C-E2F8-459C-98E0-DBB1064DA138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6182-142B-46A2-A8A6-4D387178648D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C41E-4D62-4C8F-B01F-FD11AD6C32EA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4491-A84D-4E55-BACD-518F48FCAFDE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2E4E-6E65-45B3-B2EE-21D96AE78472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5939-1DCC-4713-9BBF-838982C3E0EC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482E-BB8A-4645-9434-252799920B94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1 Título" descr=""/>
          <p:cNvPicPr/>
          <p:nvPr/>
        </p:nvPicPr>
        <p:blipFill>
          <a:blip r:embed="rId2"/>
          <a:stretch/>
        </p:blipFill>
        <p:spPr>
          <a:xfrm>
            <a:off x="384120" y="1268280"/>
            <a:ext cx="8882280" cy="35355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rbel"/>
              </a:rPr>
              <a:t>Las fotos están hechas a un agente de policía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rbel"/>
              </a:rPr>
              <a:t>Este pensó que debido a su envergadura y a sus habilidades podría desarmar a un agresor empuñando un cuchillo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80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08" name="3 Marcador de contenido" descr="heridas.bmp"/>
          <p:cNvPicPr/>
          <p:nvPr/>
        </p:nvPicPr>
        <p:blipFill>
          <a:blip r:embed="rId1"/>
          <a:stretch/>
        </p:blipFill>
        <p:spPr>
          <a:xfrm>
            <a:off x="928800" y="1571760"/>
            <a:ext cx="7500960" cy="5072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 algn="just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A todos los idiotas que dicen: ¿porqué los policías dispararon a esa persona?, sólo llevaba (un cuchillo, un bate, etc.), no tenían que haber disparado…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 algn="just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A eso respondo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 algn="just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Si un policía dice que sueltes el arma, </a:t>
            </a:r>
            <a:r>
              <a:rPr b="1" lang="es-ES" sz="3000" spc="-1" strike="noStrike">
                <a:solidFill>
                  <a:srgbClr val="000000"/>
                </a:solidFill>
                <a:latin typeface="Corbel"/>
              </a:rPr>
              <a:t>¡DÉJALA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 algn="just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Si eres retardado, estúpido, estas drogado, loco... malo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 algn="just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Nadie se merece lo que le pasó a este policía por hacer su trabaj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2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12" name="3 Marcador de contenido" descr="heridas2.bmp"/>
          <p:cNvPicPr/>
          <p:nvPr/>
        </p:nvPicPr>
        <p:blipFill>
          <a:blip r:embed="rId1"/>
          <a:stretch/>
        </p:blipFill>
        <p:spPr>
          <a:xfrm>
            <a:off x="428760" y="1571760"/>
            <a:ext cx="8286480" cy="5072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14" name="3 Marcador de contenido" descr="heridas3.bmp"/>
          <p:cNvPicPr/>
          <p:nvPr/>
        </p:nvPicPr>
        <p:blipFill>
          <a:blip r:embed="rId1"/>
          <a:stretch/>
        </p:blipFill>
        <p:spPr>
          <a:xfrm>
            <a:off x="428760" y="1571760"/>
            <a:ext cx="8358120" cy="5072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28760" y="16430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Esta es una prueba grafica de lo mortíferas que pueden ser personas armadas </a:t>
            </a:r>
            <a:r>
              <a:rPr b="1" lang="es-ES" sz="3200" spc="-1" strike="noStrike">
                <a:solidFill>
                  <a:srgbClr val="ff0000"/>
                </a:solidFill>
                <a:latin typeface="Corbel"/>
              </a:rPr>
              <a:t>“Sólo Con Un Cuchillo”</a:t>
            </a: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. Algunas personas, políticos y periodistas piensan que los policías deben tratar de desarmar a una persona armada solamente con un cuchillo, pero cualquier persona que tenga conocimientos sobre combates e intervenciones con armas blancas te dirá que aunque ganes, </a:t>
            </a:r>
            <a:r>
              <a:rPr b="1" lang="es-ES" sz="3200" spc="-1" strike="noStrike">
                <a:solidFill>
                  <a:srgbClr val="ff0000"/>
                </a:solidFill>
                <a:latin typeface="Corbel"/>
              </a:rPr>
              <a:t>Vas A Sufrir Cort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1 Título" descr=""/>
          <p:cNvPicPr/>
          <p:nvPr/>
        </p:nvPicPr>
        <p:blipFill>
          <a:blip r:embed="rId1"/>
          <a:stretch/>
        </p:blipFill>
        <p:spPr>
          <a:xfrm>
            <a:off x="304920" y="-6480"/>
            <a:ext cx="8583480" cy="12686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ES UNA LESION QUE SE PODIA HABER PREVENID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002060"/>
                </a:solidFill>
                <a:latin typeface="Corbel"/>
              </a:rPr>
              <a:t>¡NO SEAS UN HEROE!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0:23:00Z</dcterms:created>
  <dc:creator>Koldo</dc:creator>
  <dc:description/>
  <dc:language>en-US</dc:language>
  <cp:lastModifiedBy>GarciaJ</cp:lastModifiedBy>
  <dcterms:modified xsi:type="dcterms:W3CDTF">2009-04-21T09:31:32Z</dcterms:modified>
  <cp:revision>4</cp:revision>
  <dc:subject/>
  <dc:title>¿POR QUÉ SE HA DE DISPARAR A UNA PERSONA QUE AMENAZA CON UN CUCHILLO?</dc:title>
</cp:coreProperties>
</file>