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jpeg" ContentType="image/jpeg"/>
  <Override PartName="/ppt/media/image4.png" ContentType="image/png"/>
  <Override PartName="/ppt/media/Silvio%20Rodr%C3%ADguez%20y%20Luis%20Eduar%20-%20La%20belleza.wav" ContentType="audio/x-wav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9B19-DAE1-41EF-B839-E857C44DC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8FF6-9DD2-497E-B250-1F0A5A83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10E4-C5C0-4CEA-BCBD-BA9F2ECA9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C40E-62B3-463E-AA08-D999ACA28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7102-6BA6-47D8-85C8-BF041C48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CEE3-BFC6-4400-A752-3291448F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F946-AC35-41B5-A166-67C43301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5EC9-FF48-4325-A3F3-42813C11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1AB4-B40E-4696-8F8C-3E6C7381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15CB-B2F5-4F68-9A2F-B8C18660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2885-02DA-4BF8-A25C-38D7EB94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69FF-8A21-4B7A-B283-7E94EB9A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1420-20CB-40DA-B1CB-0C8CB29438B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owerpoints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www.powerpoints.org/" TargetMode="External"/><Relationship Id="rId4" Type="http://schemas.openxmlformats.org/officeDocument/2006/relationships/image" Target="../media/image2.png"/><Relationship Id="rId5" Type="http://schemas.openxmlformats.org/officeDocument/2006/relationships/audio" Target="../media/Silvio%20Rodr&#237;guez%20y%20Luis%20Eduar%20-%20La%20belleza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powerpoints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powerpoints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powerpoints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powerpoints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powerpoints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hyperlink" Target="http://www.powerpoints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966960"/>
            <a:ext cx="942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cc"/>
                </a:solidFill>
                <a:latin typeface="Comic Sans MS"/>
              </a:rPr>
              <a:t>CARTA DE MIGUELITO A MAFALDA</a:t>
            </a:r>
            <a:endParaRPr b="1" lang="en-US" sz="36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42" name="Picture 3" descr="flia completa dequino04"/>
          <p:cNvPicPr/>
          <p:nvPr/>
        </p:nvPicPr>
        <p:blipFill>
          <a:blip r:embed="rId1"/>
          <a:stretch/>
        </p:blipFill>
        <p:spPr>
          <a:xfrm>
            <a:off x="1619280" y="2565360"/>
            <a:ext cx="4724280" cy="36860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534240" y="2060640"/>
            <a:ext cx="833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</a:rPr>
              <a:t>Lo que le escribió Miguelito a Mafalda después de tantos años....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" name="Text Box 7"/>
          <p:cNvSpPr/>
          <p:nvPr/>
        </p:nvSpPr>
        <p:spPr>
          <a:xfrm flipV="1" rot="10369800">
            <a:off x="4933440" y="60199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cc"/>
                </a:solidFill>
                <a:latin typeface="Comic Sans MS"/>
              </a:rPr>
              <a:t>Encender el sonido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45" name="Picture 8" descr="l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8880" y="6286680"/>
            <a:ext cx="183852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miguelito11"/>
          <p:cNvPicPr/>
          <p:nvPr/>
        </p:nvPicPr>
        <p:blipFill>
          <a:blip r:embed="rId1"/>
          <a:stretch/>
        </p:blipFill>
        <p:spPr>
          <a:xfrm>
            <a:off x="3200400" y="4114800"/>
            <a:ext cx="2514600" cy="23623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0" y="0"/>
            <a:ext cx="924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A veces, cundo miro el globo terráqueo, encuentro tu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mirada, pienso en todos aquellos que lo miran como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vos, en los ojos de los que protestan, de los que no se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conforman, y de los que viven en la atmósfera del 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optimismo y de la justicia....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Esos ojos, junto a los míos, te desean un buen día,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querida amiga, por otros cuarenta años tan intensos y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jóvenes como los que has  vivido.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Un beso grande de tu amigo que te quiere como siempre.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6136920" y="560880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MIGUELITO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76" name="Picture 7" descr="lt"/>
          <p:cNvPicPr/>
          <p:nvPr/>
        </p:nvPicPr>
        <p:blipFill>
          <a:blip r:embed="rId2"/>
          <a:stretch/>
        </p:blipFill>
        <p:spPr>
          <a:xfrm>
            <a:off x="7238880" y="6286680"/>
            <a:ext cx="183852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7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3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9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5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1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felipe_bn"/>
          <p:cNvPicPr/>
          <p:nvPr/>
        </p:nvPicPr>
        <p:blipFill>
          <a:blip r:embed="rId1"/>
          <a:stretch/>
        </p:blipFill>
        <p:spPr>
          <a:xfrm>
            <a:off x="3976560" y="2657520"/>
            <a:ext cx="1190880" cy="1542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flia completa dequino0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lt"/>
          <p:cNvPicPr/>
          <p:nvPr/>
        </p:nvPicPr>
        <p:blipFill>
          <a:blip r:embed="rId3"/>
          <a:stretch/>
        </p:blipFill>
        <p:spPr>
          <a:xfrm>
            <a:off x="7238880" y="6286680"/>
            <a:ext cx="183852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lt"/>
          <p:cNvPicPr/>
          <p:nvPr/>
        </p:nvPicPr>
        <p:blipFill>
          <a:blip r:embed="rId1"/>
          <a:stretch/>
        </p:blipFill>
        <p:spPr>
          <a:xfrm>
            <a:off x="3635280" y="5259240"/>
            <a:ext cx="1838520" cy="5526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468360" y="1219320"/>
            <a:ext cx="823752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Si te ha gustado…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Envía este PowerPoint a un amigo</a:t>
            </a:r>
            <a:br>
              <a:rPr sz="3200"/>
            </a:b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CLICK AQUÍ para enviar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700"/>
            </a:b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Muchas más Presentaciones PPS en www.powerpoints.org</a:t>
            </a:r>
            <a:endParaRPr b="1" lang="en-US" sz="1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042920" y="6453360"/>
            <a:ext cx="714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9933"/>
                </a:solidFill>
                <a:latin typeface="Times New Roman"/>
                <a:ea typeface="Arial"/>
              </a:rPr>
              <a:t>Si quieres suscribirte y recibir powerpoints gratis en tu email pulsa aquí</a:t>
            </a:r>
            <a:endParaRPr b="1" lang="en-US" sz="10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miguelitocuadro"/>
          <p:cNvPicPr/>
          <p:nvPr/>
        </p:nvPicPr>
        <p:blipFill>
          <a:blip r:embed="rId1"/>
          <a:stretch/>
        </p:blipFill>
        <p:spPr>
          <a:xfrm>
            <a:off x="304920" y="609480"/>
            <a:ext cx="2286000" cy="2362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2895480" y="655560"/>
            <a:ext cx="6248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Querida Mafalda: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                  </a:t>
            </a: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en este día tan especial me acordé de tu cumpleaños...¡ cómo pasa el tiempo! Nacimos en el corazón de un país que soñaba. ¡ cúantas utopías!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¡ cuántos deseos de crecer, de mejorar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las cosas !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0" y="4221000"/>
            <a:ext cx="69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Nos tocó convivir con un tiempo de hombres creativos: Luther King, Che Guevara,     Juan XXIII, John Kennedy;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nos transmitieron el sentido de la justicia, el valor de los sentimientos, la maravillosa aventura de pensar con la propia cabeza.... 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49" name="Picture 5" descr="mafaldaedit2"/>
          <p:cNvPicPr/>
          <p:nvPr/>
        </p:nvPicPr>
        <p:blipFill>
          <a:blip r:embed="rId2"/>
          <a:stretch/>
        </p:blipFill>
        <p:spPr>
          <a:xfrm>
            <a:off x="6705720" y="3809880"/>
            <a:ext cx="1752480" cy="274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l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38880" y="6286680"/>
            <a:ext cx="183852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libertadcuadro"/>
          <p:cNvPicPr/>
          <p:nvPr/>
        </p:nvPicPr>
        <p:blipFill>
          <a:blip r:embed="rId1"/>
          <a:stretch/>
        </p:blipFill>
        <p:spPr>
          <a:xfrm>
            <a:off x="304920" y="685800"/>
            <a:ext cx="2361960" cy="28195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2987640" y="404640"/>
            <a:ext cx="586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Ayer me preguntaba por nuestra amiga Libertad, aquella pequeñita que un día encontraste en una playa, no me acuerdo si  era Santa Teresita o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Mar de Tuyu, me acuerdo todavía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cuando la presentaste a tus padres....Era vivaracha y quemadita por el sol de febrero.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17680" y="3886200"/>
            <a:ext cx="8092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¿ dónde vive Libertad? ¿ es verdad que la mataron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durante la dictadura?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Dicen que la torturaron y su cuerpo despareció en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el Río de la Plata.....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Me cuesta pensar que se murieron sus sueños. ¿ y si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vive ? ¿estará filosofando sobre la fragilidad de las cosas y el sentido de la vida?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4" name="Picture 6" descr="l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8880" y="6286680"/>
            <a:ext cx="183852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susanitacuadro"/>
          <p:cNvPicPr/>
          <p:nvPr/>
        </p:nvPicPr>
        <p:blipFill>
          <a:blip r:embed="rId1"/>
          <a:stretch/>
        </p:blipFill>
        <p:spPr>
          <a:xfrm>
            <a:off x="6553080" y="1066680"/>
            <a:ext cx="2057400" cy="3657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457200" y="1295280"/>
            <a:ext cx="556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¿ Qué fue de Susanita? ¿ se casó?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¿ Pudo realizar su vocación de ser madre?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La imagino viviendo en alguna ciudad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de provincia, paseando del brazo del marido (un hombre bajo y calvo)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en una tarde de verano, contenta con sus hijos y cuidando el primer nieto, realizada como tantas comunes mujeres...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7" name="Picture 5" descr="l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8880" y="6286680"/>
            <a:ext cx="183852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manolitocuadro"/>
          <p:cNvPicPr/>
          <p:nvPr/>
        </p:nvPicPr>
        <p:blipFill>
          <a:blip r:embed="rId1"/>
          <a:stretch/>
        </p:blipFill>
        <p:spPr>
          <a:xfrm>
            <a:off x="609480" y="1143000"/>
            <a:ext cx="3429000" cy="38862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4937040" y="533520"/>
            <a:ext cx="3597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Supe de Manolito,que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perdió sus ahorros durante el corralito y no soportó tanta crisis.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Los últimos días lo vieron cabizbajo, murmurando palabras incoherentes, abandonado como un mendigo en una estación de trenes,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triste y abatido como tantos........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60" name="Picture 5" descr="l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8880" y="6286680"/>
            <a:ext cx="183852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felipecuadro"/>
          <p:cNvPicPr/>
          <p:nvPr/>
        </p:nvPicPr>
        <p:blipFill>
          <a:blip r:embed="rId1"/>
          <a:stretch/>
        </p:blipFill>
        <p:spPr>
          <a:xfrm>
            <a:off x="4876920" y="685800"/>
            <a:ext cx="3276360" cy="47242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441360" y="1676520"/>
            <a:ext cx="3902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Sé que Felipe vive en La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Habana, que probó con el cine, que tiene un taxi y habla a los turistas de Fidel y de la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Revolución con el mismo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entusiasmo que cuando 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vivía en Buenos Aires....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63" name="Picture 5" descr="l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8880" y="6286680"/>
            <a:ext cx="183852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guillecuadro"/>
          <p:cNvPicPr/>
          <p:nvPr/>
        </p:nvPicPr>
        <p:blipFill>
          <a:blip r:embed="rId1"/>
          <a:stretch/>
        </p:blipFill>
        <p:spPr>
          <a:xfrm>
            <a:off x="609480" y="1371600"/>
            <a:ext cx="3733920" cy="35812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5105520" y="1066680"/>
            <a:ext cx="350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A Guille, tu hermano, lo escuché tocar, hace poco,en la Scala de Milán.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Vive en Ginebra, nunca se arrepiente de haber emigrado en los últimos años de Alfonsín,me contó que es feliz con su nueva pareja.....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66" name="Picture 5" descr="l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8880" y="6286680"/>
            <a:ext cx="183852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mafapien"/>
          <p:cNvPicPr/>
          <p:nvPr/>
        </p:nvPicPr>
        <p:blipFill>
          <a:blip r:embed="rId1"/>
          <a:stretch/>
        </p:blipFill>
        <p:spPr>
          <a:xfrm>
            <a:off x="0" y="914400"/>
            <a:ext cx="3276720" cy="41148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3203640" y="138240"/>
            <a:ext cx="5940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Y  vos, querida amiga, ¿cómo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estás?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Hace tanto tiempo que no tengo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noticias tuyas.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Sé,por otros que sigues escuchando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la radio, que lees los diarios del mundo, que te duele el Irak como te dolía Vietnam, sé que  trabajas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para la FAO por los pueblos del hambre, que estás indignada por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la prepotencia de Bush.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Me llegó tu pedido de juntar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medicinas para los Médicos sin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Fronteras, sé que siguen las reuniones en tu casa de París,que 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estás confundida, inquieta y preocupada por el futuro del mundo..... 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69" name="Picture 5" descr="l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8880" y="6286680"/>
            <a:ext cx="183852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mafalda_y_una_flor"/>
          <p:cNvPicPr/>
          <p:nvPr/>
        </p:nvPicPr>
        <p:blipFill>
          <a:blip r:embed="rId1"/>
          <a:stretch/>
        </p:blipFill>
        <p:spPr>
          <a:xfrm>
            <a:off x="457200" y="1219320"/>
            <a:ext cx="2590920" cy="38275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3429000" y="579600"/>
            <a:ext cx="5715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En fin, Mafalda, sé lo suficiente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como para saber que seguís viva,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viva en el alma, niña como siempre...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De parte mía sigo escribiendo siempre, renegando porque me falta tiempo; creyendo como siempre, en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el valor de la sinceridad, perdiendo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oportunidades por manifestar mis ideas.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Algunos días estoy triste y deprimido,  pero puede siempre más la alegría que la tristeza...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El mundo no mejoró mucho desde la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época  en que vivíamos juntos en nuestra patria.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72" name="Picture 5" descr="lt"/>
          <p:cNvPicPr/>
          <p:nvPr/>
        </p:nvPicPr>
        <p:blipFill>
          <a:blip r:embed="rId2"/>
          <a:stretch/>
        </p:blipFill>
        <p:spPr>
          <a:xfrm>
            <a:off x="7238880" y="6286680"/>
            <a:ext cx="183852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9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0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2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4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6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7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8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5:39:03Z</dcterms:created>
  <dc:creator/>
  <dc:description/>
  <dc:language>en-US</dc:language>
  <cp:lastModifiedBy>WinuE</cp:lastModifiedBy>
  <dcterms:modified xsi:type="dcterms:W3CDTF">2009-05-26T13:11:42Z</dcterms:modified>
  <cp:revision>17</cp:revision>
  <dc:subject/>
  <dc:title>Presentación de PowerPoint</dc:title>
</cp:coreProperties>
</file>