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jpeg" ContentType="image/jpeg"/>
  <Override PartName="/ppt/media/image4.png" ContentType="image/png"/>
  <Override PartName="/ppt/media/Silvio%20Rodr%C3%ADguez%20y%20Luis%20Eduar%20-%20La%20bellez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274-2147-4514-8C5B-04D279B0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8D9-D013-4F79-ADFE-932CA917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869-03C1-4B2E-993F-CCCFAAA1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D3C-AC8C-4157-89B1-F8E75DC6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A76-1EF8-4EF2-8C7B-6555EE98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8B8-B298-4A6A-915B-EE4F94B6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CC0-28B2-489B-903F-84EA95C3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615-A027-4BF7-8B01-A71D532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887-FBEE-4C7D-ADDC-A16240E1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708-7038-41A0-B96F-C7CC0B6D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DD7-AFB0-4D62-AF4B-F2837F3E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4AD-12D4-49E0-B786-1E85D688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EE03-04E3-4AEB-B6FD-C8F072EFF6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powerpoints.org/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Silvio%20Rodr&#237;guez%20y%20Luis%20Eduar%20-%20La%20bellez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966960"/>
            <a:ext cx="94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cc"/>
                </a:solidFill>
                <a:latin typeface="Comic Sans MS"/>
              </a:rPr>
              <a:t>CARTA DE MIGUELITO A MAFALDA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42" name="Picture 3" descr="flia completa dequino04"/>
          <p:cNvPicPr/>
          <p:nvPr/>
        </p:nvPicPr>
        <p:blipFill>
          <a:blip r:embed="rId1"/>
          <a:stretch/>
        </p:blipFill>
        <p:spPr>
          <a:xfrm>
            <a:off x="1619280" y="2565360"/>
            <a:ext cx="4724280" cy="36860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34240" y="2060640"/>
            <a:ext cx="83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Lo que le escribió Miguelito a Mafalda después de tantos años....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Text Box 7"/>
          <p:cNvSpPr/>
          <p:nvPr/>
        </p:nvSpPr>
        <p:spPr>
          <a:xfrm flipV="1" rot="10369800">
            <a:off x="4933440" y="60199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Comic Sans MS"/>
              </a:rPr>
              <a:t>Encender el sonid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45" name="Picture 8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miguelito11"/>
          <p:cNvPicPr/>
          <p:nvPr/>
        </p:nvPicPr>
        <p:blipFill>
          <a:blip r:embed="rId1"/>
          <a:stretch/>
        </p:blipFill>
        <p:spPr>
          <a:xfrm>
            <a:off x="3200400" y="4114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0"/>
            <a:ext cx="924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A veces, cundo miro el globo terráqueo, encuentro tu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irada, pienso en todos aquellos que lo miran com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vos, en los ojos de los que protestan, de los que no se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onforman, y de los que viven en la atmósfera del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optimismo y de la justicia.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sos ojos, junto a los míos, te desean un buen día,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querida amiga, por otros cuarenta años tan intensos y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jóvenes como los que has  vivido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Un beso grande de tu amigo que te quiere como siempre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136920" y="56088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IGUELIT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76" name="Picture 7" descr="lt"/>
          <p:cNvPicPr/>
          <p:nvPr/>
        </p:nvPicPr>
        <p:blipFill>
          <a:blip r:embed="rId2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elipe_bn"/>
          <p:cNvPicPr/>
          <p:nvPr/>
        </p:nvPicPr>
        <p:blipFill>
          <a:blip r:embed="rId1"/>
          <a:stretch/>
        </p:blipFill>
        <p:spPr>
          <a:xfrm>
            <a:off x="3976560" y="2657520"/>
            <a:ext cx="1190880" cy="1542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flia completa dequino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lt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lt"/>
          <p:cNvPicPr/>
          <p:nvPr/>
        </p:nvPicPr>
        <p:blipFill>
          <a:blip r:embed="rId1"/>
          <a:stretch/>
        </p:blipFill>
        <p:spPr>
          <a:xfrm>
            <a:off x="3635280" y="5259240"/>
            <a:ext cx="1838520" cy="552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68360" y="1219320"/>
            <a:ext cx="823752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Si te ha gustado…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Envía este PowerPoint a un amigo</a:t>
            </a:r>
            <a:br>
              <a:rPr sz="3200"/>
            </a:b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LICK AQUÍ para enviar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uchas más Presentaciones PPS en www.powerpoints.org</a:t>
            </a:r>
            <a:endParaRPr b="1" lang="en-US" sz="1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042920" y="6453360"/>
            <a:ext cx="714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9933"/>
                </a:solidFill>
                <a:latin typeface="Times New Roman"/>
                <a:ea typeface="Arial"/>
              </a:rPr>
              <a:t>Si quieres suscribirte y recibir powerpoints gratis en tu email pulsa aquí</a:t>
            </a:r>
            <a:endParaRPr b="1" lang="en-US" sz="1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iguelitocuadro"/>
          <p:cNvPicPr/>
          <p:nvPr/>
        </p:nvPicPr>
        <p:blipFill>
          <a:blip r:embed="rId1"/>
          <a:stretch/>
        </p:blipFill>
        <p:spPr>
          <a:xfrm>
            <a:off x="304920" y="609480"/>
            <a:ext cx="228600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895480" y="655560"/>
            <a:ext cx="62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Querida Mafalda: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n este día tan especial me acordé de tu cumpleaños...¡ cómo pasa el tiempo! Nacimos en el corazón de un país que soñaba. ¡ cúantas utopías!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¡ cuántos deseos de crecer, de mejorar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las cosas !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0" y="4221000"/>
            <a:ext cx="69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Nos tocó convivir con un tiempo de hombres creativos: Luther King, Che Guevara,     Juan XXIII, John Kennedy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nos transmitieron el sentido de la justicia, el valor de los sentimientos, la maravillosa aventura de pensar con la propia cabeza....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49" name="Picture 5" descr="mafaldaedit2"/>
          <p:cNvPicPr/>
          <p:nvPr/>
        </p:nvPicPr>
        <p:blipFill>
          <a:blip r:embed="rId2"/>
          <a:stretch/>
        </p:blipFill>
        <p:spPr>
          <a:xfrm>
            <a:off x="6705720" y="380988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l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ibertadcuadro"/>
          <p:cNvPicPr/>
          <p:nvPr/>
        </p:nvPicPr>
        <p:blipFill>
          <a:blip r:embed="rId1"/>
          <a:stretch/>
        </p:blipFill>
        <p:spPr>
          <a:xfrm>
            <a:off x="304920" y="685800"/>
            <a:ext cx="2361960" cy="2819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987640" y="40464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Ayer me preguntaba por nuestra amiga Libertad, aquella pequeñita que un día encontraste en una playa, no me acuerdo si  era Santa Teresita 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r de Tuyu, me acuerdo todavía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ando la presentaste a tus padres....Era vivaracha y quemadita por el sol de febrero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7680" y="3886200"/>
            <a:ext cx="8092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¿ dónde vive Libertad? ¿ es verdad que la mataron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durante la dictadura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Dicen que la torturaron y su cuerpo despareció en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l Río de la Plata..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e cuesta pensar que se murieron sus sueños. ¿ y si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vive ? ¿estará filosofando sobre la fragilidad de las cosas y el sentido de la vida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" name="Picture 6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usanitacuadro"/>
          <p:cNvPicPr/>
          <p:nvPr/>
        </p:nvPicPr>
        <p:blipFill>
          <a:blip r:embed="rId1"/>
          <a:stretch/>
        </p:blipFill>
        <p:spPr>
          <a:xfrm>
            <a:off x="6553080" y="1066680"/>
            <a:ext cx="205740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57200" y="1295280"/>
            <a:ext cx="556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¿ Qué fue de Susanita? ¿ se casó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¿ Pudo realizar su vocación de ser madre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La imagino viviendo en alguna ciudad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de provincia, paseando del brazo del marido (un hombre bajo y calvo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n una tarde de verano, contenta con sus hijos y cuidando el primer nieto, realizada como tantas comunes mujeres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" name="Picture 5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manolitocuadro"/>
          <p:cNvPicPr/>
          <p:nvPr/>
        </p:nvPicPr>
        <p:blipFill>
          <a:blip r:embed="rId1"/>
          <a:stretch/>
        </p:blipFill>
        <p:spPr>
          <a:xfrm>
            <a:off x="609480" y="1143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937040" y="533520"/>
            <a:ext cx="3597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Supe de Manolito,que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perdió sus ahorros durante el corralito y no soportó tanta crisis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Los últimos días lo vieron cabizbajo, murmurando palabras incoherentes, abandonado como un mendigo en una estación de trenes,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triste y abatido como tantos.....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60" name="Picture 5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elipecuadro"/>
          <p:cNvPicPr/>
          <p:nvPr/>
        </p:nvPicPr>
        <p:blipFill>
          <a:blip r:embed="rId1"/>
          <a:stretch/>
        </p:blipFill>
        <p:spPr>
          <a:xfrm>
            <a:off x="4876920" y="685800"/>
            <a:ext cx="3276360" cy="472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41360" y="1676520"/>
            <a:ext cx="39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Sé que Felipe vive en La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Habana, que probó con el cine, que tiene un taxi y habla a los turistas de Fidel y de la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Revolución con el mism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ntusiasmo que cuando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vivía en Buenos Aires.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63" name="Picture 5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uillecuadro"/>
          <p:cNvPicPr/>
          <p:nvPr/>
        </p:nvPicPr>
        <p:blipFill>
          <a:blip r:embed="rId1"/>
          <a:stretch/>
        </p:blipFill>
        <p:spPr>
          <a:xfrm>
            <a:off x="609480" y="1371600"/>
            <a:ext cx="373392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105520" y="1066680"/>
            <a:ext cx="350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A Guille, tu hermano, lo escuché tocar, hace poco,en la Scala de Milán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Vive en Ginebra, nunca se arrepiente de haber emigrado en los últimos años de Alfonsín,me contó que es feliz con su nueva pareja..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66" name="Picture 5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fapien"/>
          <p:cNvPicPr/>
          <p:nvPr/>
        </p:nvPicPr>
        <p:blipFill>
          <a:blip r:embed="rId1"/>
          <a:stretch/>
        </p:blipFill>
        <p:spPr>
          <a:xfrm>
            <a:off x="0" y="914400"/>
            <a:ext cx="327672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03640" y="138240"/>
            <a:ext cx="594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Y  vos, querida amiga, ¿cóm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stás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Hace tanto tiempo que no teng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noticias tuyas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Sé,por otros que sigues escuchand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la radio, que lees los diarios del mundo, que te duele el Irak como te dolía Vietnam, sé que  trabajas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para la FAO por los pueblos del hambre, que estás indignada por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la prepotencia de Bush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e llegó tu pedido de juntar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edicinas para los Médicos sin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Fronteras, sé que siguen las reuniones en tu casa de París,que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stás confundida, inquieta y preocupada por el futuro del mundo.....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69" name="Picture 5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afalda_y_una_flor"/>
          <p:cNvPicPr/>
          <p:nvPr/>
        </p:nvPicPr>
        <p:blipFill>
          <a:blip r:embed="rId1"/>
          <a:stretch/>
        </p:blipFill>
        <p:spPr>
          <a:xfrm>
            <a:off x="457200" y="1219320"/>
            <a:ext cx="2590920" cy="38275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429000" y="579600"/>
            <a:ext cx="5715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n fin, Mafalda, sé lo suficiente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omo para saber que seguís viva,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viva en el alma, niña como siempre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De parte mía sigo escribiendo siempre, renegando porque me falta tiempo; creyendo como siempre, en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l valor de la sinceridad, perdiend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oportunidades por manifestar mis ideas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Algunos días estoy triste y deprimido,  pero puede siempre más la alegría que la tristeza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l mundo no mejoró mucho desde la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época  en que vivíamos juntos en nuestra patria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72" name="Picture 5" descr="lt"/>
          <p:cNvPicPr/>
          <p:nvPr/>
        </p:nvPicPr>
        <p:blipFill>
          <a:blip r:embed="rId2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5:39:03Z</dcterms:created>
  <dc:creator/>
  <dc:description/>
  <dc:language>en-US</dc:language>
  <cp:lastModifiedBy>WinuE</cp:lastModifiedBy>
  <dcterms:modified xsi:type="dcterms:W3CDTF">2009-05-26T13:11:42Z</dcterms:modified>
  <cp:revision>17</cp:revision>
  <dc:subject/>
  <dc:title>Presentación de PowerPoint</dc:title>
</cp:coreProperties>
</file>