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enfant.wav" ContentType="audio/x-wav"/>
  <Override PartName="/ppt/media/image15.jpeg" ContentType="image/jpeg"/>
  <Override PartName="/ppt/media/image14.jpeg" ContentType="image/jpeg"/>
  <Override PartName="/ppt/media/image4.jpeg" ContentType="image/jpeg"/>
  <Override PartName="/ppt/media/image22.gif" ContentType="image/gif"/>
  <Override PartName="/ppt/media/image2.png" ContentType="image/png"/>
  <Override PartName="/ppt/media/image13.jpeg" ContentType="image/jpeg"/>
  <Override PartName="/ppt/media/image20.gif" ContentType="image/gif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5d2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5d2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5d2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5d2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5d2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5d2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5d2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5d2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5d2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5d2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5d2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5d2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audio" Target="../media/enfant.wav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png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2a2"/>
            </a:gs>
            <a:gs pos="100000">
              <a:srgbClr val="001f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6"/>
          <p:cNvSpPr/>
          <p:nvPr/>
        </p:nvSpPr>
        <p:spPr>
          <a:xfrm>
            <a:off x="609480" y="304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35" name="Picture 58" descr="bounce1"/>
          <p:cNvPicPr/>
          <p:nvPr/>
        </p:nvPicPr>
        <p:blipFill>
          <a:blip r:embed="rId1"/>
          <a:stretch/>
        </p:blipFill>
        <p:spPr>
          <a:xfrm>
            <a:off x="7746840" y="5477040"/>
            <a:ext cx="1008360" cy="439560"/>
          </a:xfrm>
          <a:prstGeom prst="rect">
            <a:avLst/>
          </a:prstGeom>
          <a:ln w="0">
            <a:noFill/>
          </a:ln>
        </p:spPr>
      </p:pic>
      <p:pic>
        <p:nvPicPr>
          <p:cNvPr id="436" name="WordArt 6" descr="Unbenannt18"/>
          <p:cNvPicPr/>
          <p:nvPr/>
        </p:nvPicPr>
        <p:blipFill>
          <a:blip r:embed="rId2"/>
          <a:stretch/>
        </p:blipFill>
        <p:spPr>
          <a:xfrm>
            <a:off x="1249200" y="969840"/>
            <a:ext cx="6255000" cy="3973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enfan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609480" y="304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68" name="Picture 3" descr="8"/>
          <p:cNvPicPr/>
          <p:nvPr/>
        </p:nvPicPr>
        <p:blipFill>
          <a:blip r:embed="rId1"/>
          <a:stretch/>
        </p:blipFill>
        <p:spPr>
          <a:xfrm>
            <a:off x="203040" y="1214280"/>
            <a:ext cx="6640560" cy="501192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4"/>
          <p:cNvSpPr/>
          <p:nvPr/>
        </p:nvSpPr>
        <p:spPr>
          <a:xfrm>
            <a:off x="3186360" y="216360"/>
            <a:ext cx="30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Coágulo de sangre</a:t>
            </a:r>
            <a:r>
              <a:rPr b="0" i="1" lang="he-IL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7080120" y="1619640"/>
            <a:ext cx="20052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Recuerdas la bella imagen   uniforme de  los glóbulos rojos que te mostré al inicio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Bien, aquí ves como lucen esas células cuando están atrapadas en la red pegajosa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de un Coágulo de sangre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La célula blanca al medio es un leucocit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609480" y="304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72" name="Picture 3" descr="9"/>
          <p:cNvPicPr/>
          <p:nvPr/>
        </p:nvPicPr>
        <p:blipFill>
          <a:blip r:embed="rId1"/>
          <a:stretch/>
        </p:blipFill>
        <p:spPr>
          <a:xfrm>
            <a:off x="210960" y="1217520"/>
            <a:ext cx="6939000" cy="511020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4"/>
          <p:cNvSpPr/>
          <p:nvPr/>
        </p:nvSpPr>
        <p:spPr>
          <a:xfrm>
            <a:off x="2634480" y="543960"/>
            <a:ext cx="32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veolos En El Pulmón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7302600" y="1628280"/>
            <a:ext cx="17254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  <a:ea typeface="Arial"/>
              </a:rPr>
              <a:t>Esta imagen es la de la superficie interior de tu pulmón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s cavidades huecas son los Alveol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qui es donde se produce el intercambio de gases con la sangre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609480" y="304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76" name="Picture 3" descr="10"/>
          <p:cNvPicPr/>
          <p:nvPr/>
        </p:nvPicPr>
        <p:blipFill>
          <a:blip r:embed="rId1"/>
          <a:stretch/>
        </p:blipFill>
        <p:spPr>
          <a:xfrm>
            <a:off x="353880" y="965160"/>
            <a:ext cx="6670800" cy="533412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5"/>
          <p:cNvSpPr/>
          <p:nvPr/>
        </p:nvSpPr>
        <p:spPr>
          <a:xfrm>
            <a:off x="1709280" y="397800"/>
            <a:ext cx="51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élulas Cancerígenas En El Pulmón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8" name="Rectangle 6"/>
          <p:cNvSpPr/>
          <p:nvPr/>
        </p:nvSpPr>
        <p:spPr>
          <a:xfrm>
            <a:off x="7145280" y="1694160"/>
            <a:ext cx="1766880" cy="27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quí ves las células del pulmón, encorvadas, y descolorida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rástala con los alveolos sanos de la foto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terio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609480" y="304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80" name="Picture 3" descr="11"/>
          <p:cNvPicPr/>
          <p:nvPr/>
        </p:nvPicPr>
        <p:blipFill>
          <a:blip r:embed="rId1"/>
          <a:stretch/>
        </p:blipFill>
        <p:spPr>
          <a:xfrm>
            <a:off x="2184480" y="1251000"/>
            <a:ext cx="6118200" cy="493560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4"/>
          <p:cNvSpPr/>
          <p:nvPr/>
        </p:nvSpPr>
        <p:spPr>
          <a:xfrm>
            <a:off x="3298680" y="234000"/>
            <a:ext cx="26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testino Delgado</a:t>
            </a:r>
            <a:r>
              <a:rPr b="0" i="1" lang="he-IL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220680" y="2030040"/>
            <a:ext cx="1798560" cy="34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e es el intestino delga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quí se produce la absorción del aliment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ra con atención y verás algo de comida atrapada en alguna de estas cavidad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609480" y="304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84" name="Picture 4" descr="13"/>
          <p:cNvPicPr/>
          <p:nvPr/>
        </p:nvPicPr>
        <p:blipFill>
          <a:blip r:embed="rId1"/>
          <a:stretch/>
        </p:blipFill>
        <p:spPr>
          <a:xfrm>
            <a:off x="325440" y="1174680"/>
            <a:ext cx="6249960" cy="512460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5"/>
          <p:cNvSpPr/>
          <p:nvPr/>
        </p:nvSpPr>
        <p:spPr>
          <a:xfrm>
            <a:off x="1211760" y="485280"/>
            <a:ext cx="52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vulo Humano Con Células “coronal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”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6" name="Rectangle 6"/>
          <p:cNvSpPr/>
          <p:nvPr/>
        </p:nvSpPr>
        <p:spPr>
          <a:xfrm>
            <a:off x="6689880" y="1271160"/>
            <a:ext cx="2454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Esta imagen de color púrpura muestra un  óvulo humano sostenido en un alfiler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El huevo está cubierto con una zona llamada pellicuda , una glucoproteína que protege el huevo, pero también ayuda a atrapar al espermatozoide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Se aprecian dos células de la corona adheridas a la zona “pellicuda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609480" y="304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88" name="Picture 3" descr="14"/>
          <p:cNvPicPr/>
          <p:nvPr/>
        </p:nvPicPr>
        <p:blipFill>
          <a:blip r:embed="rId1"/>
          <a:stretch/>
        </p:blipFill>
        <p:spPr>
          <a:xfrm>
            <a:off x="379440" y="1065240"/>
            <a:ext cx="6305400" cy="527688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4"/>
          <p:cNvSpPr/>
          <p:nvPr/>
        </p:nvSpPr>
        <p:spPr>
          <a:xfrm>
            <a:off x="761760" y="354960"/>
            <a:ext cx="77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sperma Sobre La Superficie De Un Ovulo Humano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7059600" y="2689200"/>
            <a:ext cx="1838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a foto es un close up de varios espermatozoides tratando de fertilizar un Ovul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609480" y="304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92" name="Picture 3" descr="15"/>
          <p:cNvPicPr/>
          <p:nvPr/>
        </p:nvPicPr>
        <p:blipFill>
          <a:blip r:embed="rId1"/>
          <a:stretch/>
        </p:blipFill>
        <p:spPr>
          <a:xfrm>
            <a:off x="225360" y="1108080"/>
            <a:ext cx="6443640" cy="521964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4"/>
          <p:cNvSpPr/>
          <p:nvPr/>
        </p:nvSpPr>
        <p:spPr>
          <a:xfrm>
            <a:off x="1940760" y="398880"/>
            <a:ext cx="42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mbrión Humano Y Esperma</a:t>
            </a:r>
            <a:r>
              <a:rPr b="0" i="1" lang="he-IL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4" name="Rectangle 5"/>
          <p:cNvSpPr/>
          <p:nvPr/>
        </p:nvSpPr>
        <p:spPr>
          <a:xfrm>
            <a:off x="6864480" y="155160"/>
            <a:ext cx="200664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Estas imágenes se parecen al mundo en guerra,  pero en realidad se trata de cinco días después de la fertilización de un huevo, con algunas células de esperma todavía alrededor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El embrión y los núcleos de las células de espermatozoides se tiñen de morado, mientras que las colas de los espermatozoides son de color verde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Las áreas azules son uniones, que forman las conexiones entre las células</a:t>
            </a:r>
            <a:r>
              <a:rPr b="0" lang="es-MX" sz="1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i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609480" y="304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96" name="Picture 3" descr="12"/>
          <p:cNvPicPr/>
          <p:nvPr/>
        </p:nvPicPr>
        <p:blipFill>
          <a:blip r:embed="rId1"/>
          <a:stretch/>
        </p:blipFill>
        <p:spPr>
          <a:xfrm>
            <a:off x="888840" y="1011240"/>
            <a:ext cx="7224840" cy="4906800"/>
          </a:xfrm>
          <a:prstGeom prst="rect">
            <a:avLst/>
          </a:prstGeom>
          <a:ln w="0">
            <a:noFill/>
          </a:ln>
        </p:spPr>
      </p:pic>
      <p:sp>
        <p:nvSpPr>
          <p:cNvPr id="497" name="Rectangle 4"/>
          <p:cNvSpPr/>
          <p:nvPr/>
        </p:nvSpPr>
        <p:spPr>
          <a:xfrm>
            <a:off x="2980080" y="325080"/>
            <a:ext cx="25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mbrión Humano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900000" y="6014520"/>
            <a:ext cx="7997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a imagen te muestra un embrión de 6 días de edad. Así comienza la vid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!!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609480" y="304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00" name="Picture 3" descr="Picture1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4"/>
          <p:cNvSpPr/>
          <p:nvPr/>
        </p:nvSpPr>
        <p:spPr>
          <a:xfrm>
            <a:off x="1619280" y="1989000"/>
            <a:ext cx="63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02" name="Picture 5" descr="stars2"/>
          <p:cNvPicPr/>
          <p:nvPr/>
        </p:nvPicPr>
        <p:blipFill>
          <a:blip r:embed="rId2"/>
          <a:stretch/>
        </p:blipFill>
        <p:spPr>
          <a:xfrm>
            <a:off x="1793880" y="4143240"/>
            <a:ext cx="5572080" cy="4860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8" descr="star"/>
          <p:cNvPicPr/>
          <p:nvPr/>
        </p:nvPicPr>
        <p:blipFill>
          <a:blip r:embed="rId3"/>
          <a:stretch/>
        </p:blipFill>
        <p:spPr>
          <a:xfrm>
            <a:off x="1042920" y="414324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star"/>
          <p:cNvPicPr/>
          <p:nvPr/>
        </p:nvPicPr>
        <p:blipFill>
          <a:blip r:embed="rId4"/>
          <a:stretch/>
        </p:blipFill>
        <p:spPr>
          <a:xfrm>
            <a:off x="7829640" y="4264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05" name="WordArt 10" descr=""/>
          <p:cNvPicPr/>
          <p:nvPr/>
        </p:nvPicPr>
        <p:blipFill>
          <a:blip r:embed="rId5"/>
          <a:stretch/>
        </p:blipFill>
        <p:spPr>
          <a:xfrm>
            <a:off x="2023920" y="542880"/>
            <a:ext cx="5235840" cy="312732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4" descr="8770_(34)"/>
          <p:cNvPicPr/>
          <p:nvPr/>
        </p:nvPicPr>
        <p:blipFill>
          <a:blip r:embed="rId6"/>
          <a:stretch/>
        </p:blipFill>
        <p:spPr>
          <a:xfrm>
            <a:off x="3722760" y="5246640"/>
            <a:ext cx="1584360" cy="88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609480" y="304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8" name="Rectangle 14"/>
          <p:cNvSpPr/>
          <p:nvPr/>
        </p:nvSpPr>
        <p:spPr>
          <a:xfrm>
            <a:off x="623880" y="1065600"/>
            <a:ext cx="791064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ajo El Microscopio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Utilizando un microscopio pudieron obtenerse 15 sorprendentes fotografías del cuerpo humano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l equipo utilizado fue un microscopio electrónico de barrido, con el cual fue posible fotografiar elementos cuyo tamaño oscila entre 1 y 5 nanómetros nm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2"/>
          <p:cNvSpPr/>
          <p:nvPr/>
        </p:nvSpPr>
        <p:spPr>
          <a:xfrm>
            <a:off x="609480" y="304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40" name="Picture 3" descr="1"/>
          <p:cNvPicPr/>
          <p:nvPr/>
        </p:nvPicPr>
        <p:blipFill>
          <a:blip r:embed="rId1"/>
          <a:stretch/>
        </p:blipFill>
        <p:spPr>
          <a:xfrm>
            <a:off x="2252520" y="941400"/>
            <a:ext cx="6442200" cy="434196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5"/>
          <p:cNvSpPr/>
          <p:nvPr/>
        </p:nvSpPr>
        <p:spPr>
          <a:xfrm>
            <a:off x="231480" y="33012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élulas Rojas De La Sangre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0" y="1093680"/>
            <a:ext cx="22208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Arial"/>
              </a:rPr>
              <a:t>Lo que vemos aquí parecen caramelos  de  canela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Arial"/>
              </a:rPr>
              <a:t>En  realidad son las  células rojas de la sangre humana – células  o glóbulos rojos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Arial"/>
              </a:rPr>
              <a:t>Son células cóncavas por ambos lados, las cuales  tienen la tarea de llevar el oxígeno a nuestro cuerpo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5028480" y="27144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Glóbulos Rojos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4" name="Rectangle 9"/>
          <p:cNvSpPr/>
          <p:nvPr/>
        </p:nvSpPr>
        <p:spPr>
          <a:xfrm>
            <a:off x="638280" y="5459760"/>
            <a:ext cx="7692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Arial"/>
              </a:rPr>
              <a:t>Las mujeres tienen unos 4-5 millones de glóbulos rojos en cada milímetro cúbico de sangre y los hombres cerca de 5-6 millones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Arial"/>
              </a:rPr>
              <a:t>Las personas que viven en altitudes elevadas tienen más glóbulos rojos debido al bajo nivel de oxígeno en su  entorno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3" descr="2"/>
          <p:cNvPicPr/>
          <p:nvPr/>
        </p:nvPicPr>
        <p:blipFill>
          <a:blip r:embed="rId1"/>
          <a:stretch/>
        </p:blipFill>
        <p:spPr>
          <a:xfrm>
            <a:off x="492120" y="976320"/>
            <a:ext cx="8115480" cy="479268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4"/>
          <p:cNvSpPr/>
          <p:nvPr/>
        </p:nvSpPr>
        <p:spPr>
          <a:xfrm>
            <a:off x="420840" y="590580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El cabello requiere la aplicación frecuente de Shampoo y Acondicionador que lo estabilice, evitando así la resequedad y fractura del mismo</a:t>
            </a:r>
            <a:r>
              <a:rPr b="1" lang="es-MX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2247840" y="365040"/>
            <a:ext cx="46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xtremo o Punta de un cabello humano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3" descr="3"/>
          <p:cNvPicPr/>
          <p:nvPr/>
        </p:nvPicPr>
        <p:blipFill>
          <a:blip r:embed="rId1"/>
          <a:stretch/>
        </p:blipFill>
        <p:spPr>
          <a:xfrm>
            <a:off x="2432160" y="1006560"/>
            <a:ext cx="6451560" cy="523404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4"/>
          <p:cNvSpPr/>
          <p:nvPr/>
        </p:nvSpPr>
        <p:spPr>
          <a:xfrm>
            <a:off x="203040" y="615960"/>
            <a:ext cx="21844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Estas son las Neuronas (células nerviosas) de Purkinje</a:t>
            </a:r>
            <a:r>
              <a:rPr b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i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De los 100 millones de células nerviosas o neuronas en nuestro cerebro, las más grandes son las Neuronas Purkinje</a:t>
            </a:r>
            <a:endParaRPr b="0" i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Ellas son responsables de la coordinación motriz, desde la corteza  cerebelar</a:t>
            </a:r>
            <a:r>
              <a:rPr b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i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La exposición a toxinas tales como el alcohol y el litio o enfermedades auto inmunes, mutaciones genéticas incluyendo el autismo y otros males, afectan negativamente a éstas células y su funcionamiento</a:t>
            </a:r>
            <a:r>
              <a:rPr b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i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3050640" y="318960"/>
            <a:ext cx="263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euronas de Purkinje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2"/>
          <p:cNvSpPr/>
          <p:nvPr/>
        </p:nvSpPr>
        <p:spPr>
          <a:xfrm>
            <a:off x="609480" y="304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52" name="Picture 3" descr="4"/>
          <p:cNvPicPr/>
          <p:nvPr/>
        </p:nvPicPr>
        <p:blipFill>
          <a:blip r:embed="rId1"/>
          <a:stretch/>
        </p:blipFill>
        <p:spPr>
          <a:xfrm>
            <a:off x="264960" y="1316160"/>
            <a:ext cx="6142320" cy="491004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6"/>
          <p:cNvSpPr/>
          <p:nvPr/>
        </p:nvSpPr>
        <p:spPr>
          <a:xfrm>
            <a:off x="6716880" y="1392480"/>
            <a:ext cx="215100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s-MX" sz="1600" spc="-1" strike="noStrike">
                <a:solidFill>
                  <a:srgbClr val="ffffff"/>
                </a:solidFill>
                <a:latin typeface="Arial"/>
                <a:ea typeface="Arial"/>
              </a:rPr>
              <a:t>Lo que vemos aquí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y que luce como un grupo de hisopos de algodón, es una fotografía muy ampliada de cabello humano en el interior del oí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stas células detectan los movimientos mecánicos que se producen como respuesta a las vibraciones del soni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2342520" y="73656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élulas de Cabello en el Oído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609480" y="304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56" name="Picture 3" descr="5"/>
          <p:cNvPicPr/>
          <p:nvPr/>
        </p:nvPicPr>
        <p:blipFill>
          <a:blip r:embed="rId1"/>
          <a:stretch/>
        </p:blipFill>
        <p:spPr>
          <a:xfrm>
            <a:off x="369720" y="1081080"/>
            <a:ext cx="6031080" cy="484020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6"/>
          <p:cNvSpPr/>
          <p:nvPr/>
        </p:nvSpPr>
        <p:spPr>
          <a:xfrm>
            <a:off x="6608880" y="1056960"/>
            <a:ext cx="20271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Arial"/>
              </a:rPr>
              <a:t>En esta imágen se muestran los vasos sanguíneos retinales que salen del disco negro óptico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Arial"/>
              </a:rPr>
              <a:t>El disco óptico es un punto ciego porque no se encuentran presentes células  receptoras en esta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Arial"/>
              </a:rPr>
              <a:t>área de la retina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Arial"/>
              </a:rPr>
              <a:t>Aquí el nervio óptico y los vasos sanguíneos retinales salen de la parte trasera  del ojo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843840" y="291960"/>
            <a:ext cx="73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asos sanguíneos que Surgen del Nervio Optico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609480" y="304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60" name="Picture 4" descr="6"/>
          <p:cNvPicPr/>
          <p:nvPr/>
        </p:nvPicPr>
        <p:blipFill>
          <a:blip r:embed="rId1"/>
          <a:stretch/>
        </p:blipFill>
        <p:spPr>
          <a:xfrm>
            <a:off x="260280" y="1041480"/>
            <a:ext cx="6397560" cy="544680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5"/>
          <p:cNvSpPr/>
          <p:nvPr/>
        </p:nvSpPr>
        <p:spPr>
          <a:xfrm>
            <a:off x="6792840" y="1456200"/>
            <a:ext cx="2351160" cy="41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  <a:ea typeface="Arial"/>
              </a:rPr>
              <a:t>Esta foto muestra una zona coloreada que constituye una papila gustativa presente en la lengua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s-MX" sz="1600" spc="-1" strike="noStrike">
                <a:solidFill>
                  <a:srgbClr val="ffffff"/>
                </a:solidFill>
                <a:latin typeface="Arial"/>
                <a:ea typeface="Arial"/>
              </a:rPr>
              <a:t>La lengua humana posee unas 10.000 papilas gustativas, que son quienes detectan sabores salados, dulce, amargo, temperatura y ciertas peculiaridades de los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sabores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he-IL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1400"/>
            </a:br>
            <a:r>
              <a:rPr b="0" lang="he-IL" sz="1400" spc="-1" strike="noStrike">
                <a:solidFill>
                  <a:srgbClr val="ffffff"/>
                </a:solidFill>
                <a:latin typeface="Arial"/>
                <a:ea typeface="Arial"/>
              </a:rPr>
              <a:t>  </a:t>
            </a:r>
            <a:br>
              <a:rPr sz="1400"/>
            </a:br>
            <a:endParaRPr b="0" i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2104920" y="301680"/>
            <a:ext cx="52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apila gustativa en la lengua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2"/>
          <p:cNvSpPr/>
          <p:nvPr/>
        </p:nvSpPr>
        <p:spPr>
          <a:xfrm>
            <a:off x="6545160" y="1523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64" name="Picture 3" descr="7"/>
          <p:cNvPicPr/>
          <p:nvPr/>
        </p:nvPicPr>
        <p:blipFill>
          <a:blip r:embed="rId1"/>
          <a:stretch/>
        </p:blipFill>
        <p:spPr>
          <a:xfrm>
            <a:off x="2190600" y="1166760"/>
            <a:ext cx="6720120" cy="529272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189000" y="1443960"/>
            <a:ext cx="1741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Cepilla tus dientes con frecuencia, para combatir la formación de esta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Placa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Es una “sopa" de bacterias., que llega a parecer una estructura sumamente compleja y resistent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..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6" name="Rectangle 7"/>
          <p:cNvSpPr/>
          <p:nvPr/>
        </p:nvSpPr>
        <p:spPr>
          <a:xfrm>
            <a:off x="3399120" y="40320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laca Dental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ime</cp:lastModifiedBy>
  <dcterms:modified xsi:type="dcterms:W3CDTF">2009-12-11T14:40:31Z</dcterms:modified>
  <cp:revision>691</cp:revision>
  <dc:subject/>
  <dc:title>מצגת של PowerPoint</dc:title>
</cp:coreProperties>
</file>