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Nuestros%20dias%20ya%20vine%20llegando%20Willy%20Chirino.wav" ContentType="audio/x-wav"/>
  <Override PartName="/ppt/media/image13.jpeg" ContentType="image/jpeg"/>
  <Override PartName="/ppt/media/image12.jpeg" ContentType="image/jpeg"/>
  <Override PartName="/ppt/media/fernando.wav" ContentType="audio/x-wav"/>
  <Override PartName="/ppt/media/luna%20rosa3.wav" ContentType="audio/x-wav"/>
  <Override PartName="/ppt/media/image6.jpeg" ContentType="image/jpeg"/>
  <Override PartName="/ppt/media/image15.jpeg" ContentType="image/jpeg"/>
  <Override PartName="/ppt/media/Rolando%20Laserie%20-%20Cuba%20Linda..wav" ContentType="audio/x-wav"/>
  <Override PartName="/ppt/media/image11.jpeg" ContentType="image/jpeg"/>
  <Override PartName="/ppt/media/Perez%20Prado%20-%20Que%20rico%20el%20mambo%20(1).wav" ContentType="audio/x-wav"/>
  <Override PartName="/ppt/media/image1.jpeg" ContentType="image/jpeg"/>
  <Override PartName="/ppt/media/despacito%20cant.wav" ContentType="audio/x-wav"/>
  <Override PartName="/ppt/media/CelinaGonzalez-YoSoyElPuntoCubano.wav" ContentType="audio/x-wav"/>
  <Override PartName="/ppt/media/Mi%20Tierra%20Gloria%20Estefan.wav" ContentType="audio/x-wav"/>
  <Override PartName="/ppt/media/image14.jpeg" ContentType="image/jpeg"/>
  <Override PartName="/ppt/media/image16.jpeg" ContentType="image/jpeg"/>
  <Override PartName="/ppt/media/image17.jpeg" ContentType="image/jpeg"/>
  <Override PartName="/ppt/media/Yovivire31a.wav" ContentType="audio/x-wav"/>
  <Override PartName="/ppt/media/image18.jpeg" ContentType="image/jpeg"/>
  <Override PartName="/ppt/media/image7.jpeg" ContentType="image/jpeg"/>
  <Override PartName="/ppt/media/nostalgiahabaneraOlga%20Guillot%20-%20%20.wav" ContentType="audio/x-wav"/>
  <Override PartName="/ppt/media/image4.jpeg" ContentType="image/jpeg"/>
  <Override PartName="/ppt/media/YoVolvere-ZoraidaMarrero.wav" ContentType="audio/x-wav"/>
  <Override PartName="/ppt/media/image2.jpeg" ContentType="image/jpeg"/>
  <Override PartName="/ppt/media/image8.jpeg" ContentType="image/jpeg"/>
  <Override PartName="/ppt/media/xxamorosa.wav" ContentType="audio/x-wav"/>
  <Override PartName="/ppt/media/El%20Cumbanchero.wav" ContentType="audio/x-wav"/>
  <Override PartName="/ppt/media/image10.jpeg" ContentType="image/jpeg"/>
  <Override PartName="/ppt/media/A-Latin-Enrique%20Chia-Noche%20Cubana.wav" ContentType="audio/x-wav"/>
  <Override PartName="/ppt/media/image3.jpeg" ContentType="image/jpeg"/>
  <Override PartName="/ppt/media/nosotros%20los%20cubanos.wav" ContentType="audio/x-wav"/>
  <Override PartName="/ppt/media/image9.jpeg" ContentType="image/jpeg"/>
  <Override PartName="/ppt/media/Trio%20-%20Matamoros%20-%20Santiaguera%20de%20mi%20amor..wav" ContentType="audio/x-wav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DF6-4982-446A-8A8D-E55B9DD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C57-A40A-40FB-8351-B310E07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460-A4E0-4F05-91CA-480465F5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0E9-7D39-4586-96E0-73779C52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0BD-3842-4F96-866F-AEBF8376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08C-D1EB-4466-950F-29876C3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A6B-3719-4FA2-B0FD-2755B3C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B51-5882-4206-B667-EE8278A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8E0-7D7B-4CEE-9BF1-F4E4FD61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D28-6189-477A-9F71-80C71D9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B44-8213-4BCB-9DF6-B62A275D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155-688C-4301-85CB-968111C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33F-22E0-4F8A-90D3-3E9DDCCC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una%20rosa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erez%20Prado%20-%20Que%20rico%20el%20mambo%20(1)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elinaGonzalez-YoSoyElPuntoCubano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nosotros%20los%20cubano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rio%20-%20Matamoros%20-%20Santiaguera%20de%20mi%20amor.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xxamoros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El%20Cumbanchero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-Latin-Enrique%20Chia-Noche%20Cuban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nostalgiahabaneraOlga%20Guillot%20-%20%20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Rolando%20Laserie%20-%20Cuba%20Linda.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Nuestros%20dias%20ya%20vine%20llegando%20Willy%20Chirino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Mi%20Tierra%20Gloria%20Estefan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Yovivire31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oVolvere-ZoraidaMarrer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fernand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espacito%20can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001b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409760" y="5791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De dónde son los cantantes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plit dir="out" orient="vert"/>
    <p:sndAc>
      <p:stSnd>
        <p:snd r:embed="rId2" name="luna%20rosa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prad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572000" y="5715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Pérez  P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Perez%20Prado%20-%20Que%20rico%20el%20mambo%20(1)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80880" y="68580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Pérez Prado nació en el 11 de Diciembre de 1916 en la provincia de Matanzas,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paseó el mambo por el mundo entero.  El ritmo se desarrolló gracias al esfuerzo de varios músicos, pero lo perfeccionó el Rey del Mambo, Dámaso Pérez P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fue el primer artista latino en tener un hit #1 en el "Billboard Chart" norteamericano por 26 semanas.  Este número lo  tituló, Cerezo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México el 13 de septiembre de 1989, a la edad de 73 años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25780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elina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666880" y="6172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Celina  &amp; Reuti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CelinaGonzalez-YoSoyElPuntoCubano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57200" y="8380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na González nació en el 1928  en  Matanzas, Cub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utilio Domínguez , nació en Guantánamo, en el 1921.  Guitarrista, compositor y cantante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casaron en el año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1943.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olaboración de Celina y Reutilio duró hasta su separación en 1964.  Reutilio falleció en 1971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tre 1964 y 1980 Celina González prosiguió su carrera como so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marise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209680" y="57150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Marisela Ver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osotros%20los%20cubano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04920" y="762120"/>
            <a:ext cx="8458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arisela Verena nació en Pinar del Rio, Cuba en el año 195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la lleva cuatro décadas componiendo y cantando... No importa si vive en España. Puerto Rico o Miami... su 'cubanía' se mantiene intacta... su voz sigue siendo firme y cálida... y a la vez emocionada ante sus propias palabr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Pocas personas han podido definir el sentir de los que crecieron fuera del terruño como Marisela Ver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mata.jpg"/>
          <p:cNvPicPr/>
          <p:nvPr/>
        </p:nvPicPr>
        <p:blipFill>
          <a:blip r:embed="rId1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4343400" y="6019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Trío  Matamo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Trio%20-%20Matamoros%20-%20Santiaguera%20de%20mi%20amor.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33520" y="990720"/>
            <a:ext cx="7848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ío Matamo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Uno de los grupos cubanos más influyentes y populares de las décadas del `20 y `30, fue formado en 1925 por Miguel Matamoros, Siro Rodríguez y Rafael Cue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de un principio la banda marcó un estilo, el bolero-son, una música rica en armonías pero con el fuerte respaldo rítmico del son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port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438280" y="6095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Guillermo  Portab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xxamoros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457200" y="60948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Guillermo Portabales nació en Las Villas, Cuba en el año 19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ra cantante, escritor y guitarrista que popularizó el estilo guajiro en los años 1930’s hasta los 1960’s.  Su estilo lánguido y elegante lo hicieron muy popular por toda América La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el año 1953 se mudó a Puerto Rico donde continuó su carrera hasta que esta fue cortada en un trágico accidente de automóvil donde perdiera la vida a los 59 años de edad en el 19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25780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xioma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876920" y="60958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mazone BT"/>
              </a:rPr>
              <a:t>Xiomara  Alf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2372489780044663125vKWaKO_f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666880" y="6095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mazone BT"/>
              </a:rPr>
              <a:t>Desi  Arn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El%20Cumbanchero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19040" y="106668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i Arnaz nació en Santiago de Cuba en el año 191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rabajó como miembro de la Orquesta de Xavier Cugat” en Nueva York.  Hizo famosa la “Conga Line” en los Estados Unidos.  El era músico, actor, comediante y productor de televisió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California en el año 1986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8809505_DSC13457W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0481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Enrique  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A-Latin-Enrique%20Chia-Noche%20Cuban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33520" y="99072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 pianista Enrique Chia, nació en Las Villas, Cuba en donde estudió piano. Emigró a los Estados Unidos en el año 1961 país que desde entonces ha sido su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 lo largo de su exitosa carrera Enrique Chia, ha plasmado en cada uno de sus proyectos, la gran sensibilidad y calidad artística que le caracteri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186.jpg"/>
          <p:cNvPicPr/>
          <p:nvPr/>
        </p:nvPicPr>
        <p:blipFill>
          <a:blip r:embed="rId1"/>
          <a:srcRect l="0" t="0" r="24" b="0"/>
          <a:stretch/>
        </p:blipFill>
        <p:spPr>
          <a:xfrm>
            <a:off x="0" y="0"/>
            <a:ext cx="915984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2514600" y="5943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Olga  Gui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ostalgiahabaneraOlga%20Guillot%20-%20%20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457200" y="6858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antante y actriz cubana de cine Olga Guillot, nació en 1922 en Santiago de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63 recibió el premio Golden Palm a la Mejor Estrella Latina, otorgado por la Academia de Artes John F. Kennedy de Hollywo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conocida ya como una de las grandes, el 31 de octubre de 1964 realiza su primer e histórico concierto en el Carnegie Hall Nueva York.  Fue la primera artista de habla hispana en presentarse en ese prestigioso tea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El%20Nicho%20Falls,%20Sierra%20de%20Trinidad,%20Cub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666880" y="58672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Rolando  La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Rolando%20Laserie%20-%20Cuba%20Linda.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1066680"/>
            <a:ext cx="8001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olando Laserie nació en Santa Clara, Cuba en Agosto del año 192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e un famoso cantante cubano de boleros, guarachas y son cubano.  El tenía una voz ronca y agresiva  que le gano el apodo de “El Guapo de la Canción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olando murió en Coral Gables, FL en Noviembre del año 1998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bijag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7432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Willy  Chi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Nuestros%20dias%20ya%20vine%20llegando%20Willy%20Chirino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09520" y="533520"/>
            <a:ext cx="872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Willy Chirino, nació en el año 1947 en  Pinar del Río, Cu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legó de niño a Miami a través de la operación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Toca varios instrumentos, es arreglista,  compositor, cantante y produ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u "Nuestro Día Viene Llegando", son autobiográfico que describe el proceso de un niño que comienza su vida en el extranjero a 90 millas de su país se ha convertido en un himno de esperanza en su Cuba n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292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219320" y="380880"/>
            <a:ext cx="6553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33520" y="609480"/>
            <a:ext cx="8153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Xiomara Alfaro nació en La Habana, Cuba en 193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butó en 1951 y  trabajó en los principales cabarets de La Habana:  Sans Souci, Tropicana y Montma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Ha grabado numerosas discos con canciones cubanas y del repertorio internacional, muchos de ellos con su esposo el maestro Rafael Benítez. Ha grabado más de 12 discos y reside en Estados Unidos, donde continúa actu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glor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819520" y="6095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Gloria  Este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Mi%20Tierra%20Gloria%20Estefa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457200" y="1066680"/>
            <a:ext cx="8305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Gloria Estefan nació en La Habana, Cuba en 195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Ha ganado cinco premios  Grammy,   es cantante y escritora de música.  Conocida como “La Reina de el Pop Latino” es una de las más reconocidas artistas de música popu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lla y Emilio Estefan, el leader de la banda, Miami Sound Machine, se casaron en 1978. Tienen dos h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cel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2743200" y="6095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Celia  Cr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Yovivire31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80880" y="304920"/>
            <a:ext cx="8382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a Cruz  nació en La Habana, Cub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el 19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La cantante cubana pasó la mayor parte de su carrera viviendo y trabajando en los Estados Unido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Se casó con el primer trompetista de la orquesta la Sonora Matancera, Pedro Knight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ue una de las cantantes cubanas y latinoamericanas más exitosas del Siglo XX,  Celia ha sido conocida en el mundo entero por la calidad como cantante y por su famosa frase "¡Azúcar!", símbolo de su filosofía ante la vida y de su orgullo de ser cub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Celia murió en Fort Lee, NJ,   en el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257800" y="6396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78136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Ter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slide0030_image057a.jpg"/>
          <p:cNvPicPr/>
          <p:nvPr/>
        </p:nvPicPr>
        <p:blipFill>
          <a:blip r:embed="rId1"/>
          <a:stretch/>
        </p:blipFill>
        <p:spPr>
          <a:xfrm>
            <a:off x="0" y="0"/>
            <a:ext cx="9153360" cy="5791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105520" y="3200400"/>
            <a:ext cx="1828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6600"/>
                </a:solidFill>
                <a:uFillTx/>
                <a:latin typeface="Calibri"/>
              </a:rPr>
              <a:t>Carlos Vidal  ayuda  musical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010280" y="38098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zo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419720" y="5638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Zoraida Marr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YoVolvere-ZoraidaMarrer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33520" y="762120"/>
            <a:ext cx="807696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Zoraida Marrero, nació en La Habana, Cuba en el año 19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Realizó el espectáculo Noches Cubanas, en el Carnegie Hall, que agrupó a luminarias de la música cubana en el exili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“</a:t>
            </a:r>
            <a:r>
              <a:rPr b="1" i="1" lang="es-ES" sz="2800" spc="-1" strike="noStrike">
                <a:solidFill>
                  <a:srgbClr val="ffffff"/>
                </a:solidFill>
                <a:latin typeface="Calibri"/>
              </a:rPr>
              <a:t>La Alondra de Cub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” , logró ser la primera figura del Liborio, el mejor cabaret latino de Nueva York en la década del 19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urió en NJ en el año 2003.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albuer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67080" y="5943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Fernando Albu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fernand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14400" y="380880"/>
            <a:ext cx="7315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Fernando Albuerne nació el 28 de Octubre de 1920 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gua de Tánamo,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Oriente, Cu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de 1947 realizó continuas giras por toda América.  En Cuba estuvo ligado a Radio Suaritos  hasta 19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spués de la revolución castrista se radicó en Caracas, para luego mudarse a Miami, donde puso fin a su carrera artística.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alleció en Caracas en el año  2000.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57800" y="5943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alecon (7)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38360" y="6273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mazone BT"/>
              </a:rPr>
              <a:t>Olga  Chorens  &amp;  Tony 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split dir="out" orient="vert"/>
    <p:sndAc>
      <p:stSnd>
        <p:snd r:embed="rId2" name="despacito%20can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80880" y="685800"/>
            <a:ext cx="83822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úo vocal  Olga Chorens  (La Habana, 1924) y Tony Alvarez  ( La Habana,1919 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46 Olga y Tony contraen matrimonio . Entre 1951 y 1954, en La Habana, realizan exitosos programas de radio y T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En 1960 se radicaron en Puerto Rico, donde continuaron su trabajo musical, basado en un repertorio de canciones cubanas e internacionales, y con un nuevo espacio en TV.  Tony falleció a los 83 años de edad, el 19 de Marzo del 2001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25780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lse para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9:32:08Z</dcterms:created>
  <dc:creator>TEMISTOCLES GARCES</dc:creator>
  <dc:description/>
  <dc:language>en-US</dc:language>
  <cp:lastModifiedBy>Rosario Mata</cp:lastModifiedBy>
  <dcterms:modified xsi:type="dcterms:W3CDTF">2007-12-26T15:15:16Z</dcterms:modified>
  <cp:revision>39</cp:revision>
  <dc:subject/>
  <dc:title>Slide 1</dc:title>
</cp:coreProperties>
</file>