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FC93-AC7A-48E0-B19A-A30753D1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3DC3-1E27-4781-A186-7D954152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0198-E1E6-4E65-889D-2D66BE5A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8B29-7D58-4D92-94C6-8CB578B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30C2-3C7C-4AC9-92F7-BA7C34A1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AE41-1F49-453F-AEFA-59C71198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26E-C8A8-4DE1-B73F-6F6ED354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8C57-D7E2-447F-ACE6-DF368BA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B97-41D6-4F20-9D8A-136FF5DE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F34-35F1-4542-B70B-62EF5F1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5DA-1FAC-472F-9C71-231A8C1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77AB-F751-418E-B1C7-EE9646C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99F5-200D-4066-B1D9-74B4DF1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CB7-9A16-4D90-B781-AAFE4F2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A752-8618-412B-BC58-09531D88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962E-6536-4E61-ABA2-BEF1C74B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343-5A09-4C45-9EE3-1B599A0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2656-4BC1-4489-836F-6D64290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64D0-0150-43ED-87DF-EA18EA5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AEBA-3438-403F-8738-08944D1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DB17-EFB5-4375-B5EA-3DFC1B4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8D33-6F57-446A-B909-C18E977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EA75-44B3-465B-AC60-9E9BAB0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6F4E-FA8D-4D1C-8742-3A7E0EC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A54-C47E-49B9-BCE9-3AA26C68C97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8C8-3D35-4C54-96CB-D61680AB873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276280"/>
            <a:ext cx="7372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En el segundo precis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PERO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284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15880" y="1676520"/>
            <a:ext cx="65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preciso cuando un salmón nadando contracorriente termina en las fauces de un depred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61320" cy="5226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581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un misil sale a repartir su carga de explosivos dejando tras de sí una flor de humo negr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1972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momento preciso en el que cae un rayo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jándonos ver el poder de la madre naturaleza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6588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exacto cuando un chorro de agua “se congela”,  y forma esta cascada en arcos con una perfección iniguala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3280" y="2133720"/>
            <a:ext cx="7200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Más momentos precis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2760" y="0"/>
            <a:ext cx="4576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4200" y="0"/>
            <a:ext cx="6373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0840"/>
            <a:ext cx="9144000" cy="655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la proa de un barco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e enfrenta a una enorme ola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1040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360"/>
            <a:ext cx="9144000" cy="597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6520"/>
            <a:ext cx="9144000" cy="584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6480" y="0"/>
            <a:ext cx="4451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25480"/>
            <a:ext cx="9144000" cy="520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0200"/>
            <a:ext cx="9144000" cy="653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08000"/>
            <a:ext cx="9144000" cy="664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en la prueba de salto de longitud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atleta cae en la arena y forma esta extraña figur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6724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1520"/>
            <a:ext cx="9144000" cy="665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280"/>
            <a:ext cx="9144000" cy="622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uántos eventos se suceden en un sólo segun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81440" y="1980720"/>
            <a:ext cx="932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PROVECHA  los  segundos  que  te  da  la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n ellos puedes hacer muchas cos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mportantes o trivia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ternas o pereceder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levantes o irrelevan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 importa, sólo APROVECHA tus segun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on irrepet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914400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se dispara un cañón 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y el deflector expele dos nubes de h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935760" cy="458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dos perros en plena carrera tienen  sus cuatro patas en el ai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2448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un globo lleno de agua se revienta, 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a goma desaparece, y deja esta forma tan extraordinari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381720" cy="477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33112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momento preciso  cuando un perro hace esfuerzos por avanzar sobre el ag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806" r="0" b="0"/>
          <a:stretch/>
        </p:blipFill>
        <p:spPr>
          <a:xfrm>
            <a:off x="4356000" y="476280"/>
            <a:ext cx="430524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un pajarito se sacude el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4220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una ballena, mamífero al fin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cide salir a la superficie para tomar aire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y en ese momento un delfín pasa  por arriba de el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4712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21:07Z</dcterms:created>
  <dc:creator>.</dc:creator>
  <dc:description/>
  <dc:language>en-US</dc:language>
  <cp:lastModifiedBy>Jose Bedolla</cp:lastModifiedBy>
  <dcterms:modified xsi:type="dcterms:W3CDTF">2008-04-23T22:07:34Z</dcterms:modified>
  <cp:revision>9</cp:revision>
  <dc:subject/>
  <dc:title>ESTAS FOTOS QUE VERÁM A CONTINUACIÓN ME LAS ENVIÓ MI SOBRINO CARLOS AUGUSTO PEÑA DESDE AUSTRALIA</dc:title>
</cp:coreProperties>
</file>