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5FEB-509E-404F-82F3-FB4D6FAE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C0BB-BF89-4708-A1AE-B0C4F406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39A2-73F4-430D-886F-1738AFBA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BEAC-A6EB-4986-A257-DC3E0076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E353-635E-41C0-B8FF-D61803E0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6001-827B-4246-B283-0073AD1D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B77E-BD49-4A86-9D8D-7AC104E8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E22A-560E-4BEB-99C2-D7623EE7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96ED-5337-4B10-80FC-EF6DA1A7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83B4-DFFA-4BAB-9E2C-ECDA3644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6C0C-CC7E-461E-9498-6B0ED5F5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4833-1309-4C01-82DC-D259C7CA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6A4A-DB5E-4ACD-8E5C-3CEB6226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0D8D-1771-49FE-A0DA-FDC759D2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458D-7515-4573-9748-D2943802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8497-E5AB-4335-8324-5CA1C205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358F-D10C-48CD-A0E8-820D7317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1148-E291-4156-AE30-AE210425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AA6B-99C6-4E4A-BD2F-03136860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A831-F241-49AD-8E01-2A6B49C9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0673-1CDB-47B9-9F8B-D1174BD6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F7DA-3783-4478-B22A-4FAACE3D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E8FF-D6EB-4107-B203-D0786C0A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391DC-0900-4CC0-A8BC-664D906C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9578-04B0-4A4D-B18D-C346D4DED18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6ADE-D594-486A-980E-E10DB2F0BD3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4000" y="2276280"/>
            <a:ext cx="73724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Arial"/>
              </a:rPr>
              <a:t>En el segundo preciso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PERO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42847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15880" y="1676520"/>
            <a:ext cx="65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preciso cuando un salmón nadando contracorriente termina en las fauces de un depred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961320" cy="5226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4120" y="609120"/>
            <a:ext cx="3581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l segundo justo cuando un misil sale a repartir su carga de explosivos dejando tras de sí una flor de humo negr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1972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momento preciso en el que cae un rayo,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ejándonos ver el poder de la madre naturaleza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6588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exacto cuando un chorro de agua “se congela”,  y forma esta cascada en arcos con una perfección iniguala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3280" y="2133720"/>
            <a:ext cx="7200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Arial"/>
              </a:rPr>
              <a:t>Más momentos precis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2760" y="0"/>
            <a:ext cx="4576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88800"/>
            <a:ext cx="9144000" cy="608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4200" y="0"/>
            <a:ext cx="6373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50840"/>
            <a:ext cx="9144000" cy="6556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920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justo cuando la proa de un barco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e enfrenta a una enorme ola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10400" cy="4703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41360"/>
            <a:ext cx="9144000" cy="5973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06520"/>
            <a:ext cx="9144000" cy="5843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46480" y="0"/>
            <a:ext cx="4451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825480"/>
            <a:ext cx="9144000" cy="5205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640"/>
            <a:ext cx="9144000" cy="607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60200"/>
            <a:ext cx="9144000" cy="6537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08000"/>
            <a:ext cx="9144000" cy="664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justo cuando en la prueba de salto de longitud,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atleta cae en la arena y forma esta extraña figur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26724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01520"/>
            <a:ext cx="9144000" cy="6654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14280"/>
            <a:ext cx="9144000" cy="622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uántos eventos se suceden en un sólo segun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181440" y="1980720"/>
            <a:ext cx="9325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PROVECHA  los  segundos  que  te  da  la v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on ellos puedes hacer muchas cos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mportantes o trivia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ternas o pereceder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relevantes o irrelevant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no importa, sólo APROVECHA tus segun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son irrepet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36640"/>
            <a:ext cx="9144000" cy="5715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justo cuando se dispara un cañón 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y el deflector expele dos nubes de h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935760" cy="4587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l segundo justo cuando dos perros en plena carrera tienen  sus cuatro patas en el ai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32448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justo cuando un globo lleno de agua se revienta, 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a goma desaparece, y deja esta forma tan extraordinari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381720" cy="477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331128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momento preciso  cuando un perro hace esfuerzos por avanzar sobre el agu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4806" r="0" b="0"/>
          <a:stretch/>
        </p:blipFill>
        <p:spPr>
          <a:xfrm>
            <a:off x="4356000" y="476280"/>
            <a:ext cx="430524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l segundo justo cuando un pajarito se sacude el ag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342200" cy="479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l segundo justo cuando una ballena, mamífero al fin,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ecide salir a la superficie para tomar aire,</a:t>
            </a:r>
            <a:br>
              <a:rPr sz="2000"/>
            </a:b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y en ese momento un delfín pasa  por arriba de ell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647120" cy="510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21:07Z</dcterms:created>
  <dc:creator>.</dc:creator>
  <dc:description/>
  <dc:language>en-US</dc:language>
  <cp:lastModifiedBy>Jose Bedolla</cp:lastModifiedBy>
  <dcterms:modified xsi:type="dcterms:W3CDTF">2008-04-23T22:07:34Z</dcterms:modified>
  <cp:revision>9</cp:revision>
  <dc:subject/>
  <dc:title>ESTAS FOTOS QUE VERÁM A CONTINUACIÓN ME LAS ENVIÓ MI SOBRINO CARLOS AUGUSTO PEÑA DESDE AUSTRALIA</dc:title>
</cp:coreProperties>
</file>