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J.Lantier%20n08,%203.21.wav" ContentType="audio/x-wav"/>
  <Override PartName="/ppt/media/image5.jpeg" ContentType="image/jpeg"/>
  <Override PartName="/ppt/media/image28.jpeg" ContentType="image/jpeg"/>
  <Override PartName="/ppt/media/image51.jpeg" ContentType="image/jpeg"/>
  <Override PartName="/ppt/media/image7.jpeg" ContentType="image/jpeg"/>
  <Override PartName="/ppt/media/image38.jpeg" ContentType="image/jpeg"/>
  <Override PartName="/ppt/media/image12.jpeg" ContentType="image/jpeg"/>
  <Override PartName="/ppt/media/image23.jpeg" ContentType="image/jpeg"/>
  <Override PartName="/ppt/media/image2.jpeg" ContentType="image/jpeg"/>
  <Override PartName="/ppt/media/image36.jpeg" ContentType="image/jpeg"/>
  <Override PartName="/ppt/media/image33.jpeg" ContentType="image/jpeg"/>
  <Override PartName="/ppt/media/image6.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32.jpeg" ContentType="image/jpeg"/>
  <Override PartName="/ppt/media/image26.jpeg" ContentType="image/jpeg"/>
  <Override PartName="/ppt/media/image49.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53.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11.jpeg" ContentType="image/jpeg"/>
  <Override PartName="/ppt/media/image27.jpeg" ContentType="image/jpeg"/>
  <Override PartName="/ppt/media/image50.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7737B-4FFF-4F2A-B882-D792A0B89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1BBD5-A773-4353-9C1E-35CA3125C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FB73D-1476-4F56-AF09-BB366FC11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83617-1327-4D71-B52B-B05C87935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562D-6C8D-41FD-8782-58D65C05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CE135-7315-4752-AEAD-4AD9B851A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2113-913A-471A-9152-F7CB4C3E3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87C3-40FD-41F5-9649-FB4B7D58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8332-C249-45FD-B2D3-B05925D09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9CF7-F5F0-4922-9D09-69B3FB237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FFBA2-E925-472E-B1D0-D95EA600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DB93-184C-400F-A3FD-4D2C696FC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F4BD-FD97-44F1-BD87-BB3B4B4859B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Lantier%20n08,%203.21.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4932360" y="765000"/>
            <a:ext cx="42116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aecd"/>
                </a:solidFill>
                <a:latin typeface="Arial"/>
              </a:rPr>
              <a:t>La crue de19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aecd"/>
                </a:solidFill>
                <a:latin typeface="Arial"/>
              </a:rPr>
              <a:t>Du 20 janvier au 15 mars 1910, Paris a les pieds dans l'ea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verstroming in Parij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t wist ik ni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Paris flood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I never heard about this!</a:t>
            </a:r>
            <a:endParaRPr b="0" lang="en-US" sz="2400" spc="-1" strike="noStrike">
              <a:solidFill>
                <a:srgbClr val="000000"/>
              </a:solidFill>
              <a:latin typeface="Arial"/>
            </a:endParaRPr>
          </a:p>
        </p:txBody>
      </p:sp>
      <p:pic>
        <p:nvPicPr>
          <p:cNvPr id="42" name="Image 3" descr="Image1.jpg"/>
          <p:cNvPicPr/>
          <p:nvPr/>
        </p:nvPicPr>
        <p:blipFill>
          <a:blip r:embed="rId1"/>
          <a:stretch/>
        </p:blipFill>
        <p:spPr>
          <a:xfrm>
            <a:off x="0" y="0"/>
            <a:ext cx="49719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2" descr="Image9.jpg"/>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 2" descr="Image10.jpg"/>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age 2" descr="Image11.jpg"/>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2" descr="Image12.jpg"/>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 2" descr="Image13.jpg"/>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2" descr="Image14.jpg"/>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3" descr="Image15.jpg"/>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Image 2" descr="Image16.jpg"/>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age 2" descr="Image17.jpg"/>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2" descr="Image18.jpg"/>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Image1.jpg"/>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 2" descr="Image19.jpg"/>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age 2" descr="Image20.jpg"/>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age 2" descr="Image21.jpg"/>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Image 2" descr="Image22.jpg"/>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Image 2" descr="Image23.jpg"/>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 2" descr="Image24.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Image 2" descr="Image25.jpg"/>
          <p:cNvPicPr/>
          <p:nvPr/>
        </p:nvPicPr>
        <p:blipFill>
          <a:blip r:embed="rId1"/>
          <a:stretch/>
        </p:blipFill>
        <p:spPr>
          <a:xfrm>
            <a:off x="0" y="0"/>
            <a:ext cx="91440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 2" descr="Image26.jpg"/>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age 2" descr="Image27.jpg"/>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Image 2" descr="Image28.jpg"/>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 3" descr="Image2.jpg"/>
          <p:cNvPicPr/>
          <p:nvPr/>
        </p:nvPicPr>
        <p:blipFill>
          <a:blip r:embed="rId1"/>
          <a:stretch/>
        </p:blipFill>
        <p:spPr>
          <a:xfrm>
            <a:off x="0" y="0"/>
            <a:ext cx="10252080" cy="6858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age 2" descr="Image29.jpg"/>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 2" descr="Image30.jpg"/>
          <p:cNvPicPr/>
          <p:nvPr/>
        </p:nvPicPr>
        <p:blipFill>
          <a:blip r:embed="rId1"/>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age 2" descr="Image31.jpg"/>
          <p:cNvPicPr/>
          <p:nvPr/>
        </p:nvPicPr>
        <p:blipFill>
          <a:blip r:embed="rId1"/>
          <a:stretch/>
        </p:blipFill>
        <p:spPr>
          <a:xfrm>
            <a:off x="0" y="0"/>
            <a:ext cx="9144000" cy="6858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Image 2" descr="Image32.jpg"/>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age 2" descr="Image33.jpg"/>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age 4" descr="Image34.jpg"/>
          <p:cNvPicPr/>
          <p:nvPr/>
        </p:nvPicPr>
        <p:blipFill>
          <a:blip r:embed="rId1"/>
          <a:stretch/>
        </p:blipFill>
        <p:spPr>
          <a:xfrm>
            <a:off x="0" y="33480"/>
            <a:ext cx="9144000" cy="6791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 2" descr="Image35.jpg"/>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age 2" descr="Image36.jpg"/>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 2" descr="Image37.jpg"/>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Image 2" descr="Image38.jpg"/>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age 3" descr="Image3.jpg"/>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age 2" descr="Image39.jpg"/>
          <p:cNvPicPr/>
          <p:nvPr/>
        </p:nvPicPr>
        <p:blipFill>
          <a:blip r:embed="rId1"/>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Image 2" descr="Image40.jpg"/>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 2" descr="Image41.jpg"/>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age 2" descr="Image42.jpg"/>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 2" descr="Image43.jpg"/>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 2" descr="Image44.jpg"/>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age 2" descr="Image45.jpg"/>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age 2" descr="Image46.jpg"/>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 2" descr="Image47.jpg"/>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Image 2" descr="Image48.jpg"/>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Image 2" descr="Image4.jpg"/>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2" descr="Image49.jpg"/>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2" descr="Image50.jpg"/>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4" descr="Image51.jpg"/>
          <p:cNvPicPr/>
          <p:nvPr/>
        </p:nvPicPr>
        <p:blipFill>
          <a:blip r:embed="rId1"/>
          <a:stretch/>
        </p:blipFill>
        <p:spPr>
          <a:xfrm>
            <a:off x="0" y="0"/>
            <a:ext cx="9144000" cy="68580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458640"/>
            <a:ext cx="914400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Grande Crue de 1910 : bilan d'un hiver tourment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1910, Paris fait face à la plus grande crue de son histoire.</a:t>
            </a:r>
            <a:br>
              <a:rPr sz="2000"/>
            </a:br>
            <a:r>
              <a:rPr b="0" lang="fr-FR" sz="2000" spc="-1" strike="noStrike">
                <a:solidFill>
                  <a:srgbClr val="000000"/>
                </a:solidFill>
                <a:latin typeface="Arial"/>
              </a:rPr>
              <a:t>Les pluies, qui tout au long du mois de janvier s'intensifient, culminent entre le 17 et le 20 janvier 1910 et affectent les affluents de la Seine en amont de Paris.               Pourtant pour les scientifiques de la Belle Epoque, la Seine ne présentait aucun danger. Bilan de ces prévisions : transports immobilisés, caves et rez-de-chaussée inondés, rues affaissées, électricité et gaz coupés, plus de 200 000 Parisiens directement lésés et services de secours débordés. L' imprévoyance des pouvoirs publics coûte cher à la ville. </a:t>
            </a:r>
            <a:br>
              <a:rPr sz="2000"/>
            </a:br>
            <a:r>
              <a:rPr b="0" lang="fr-FR" sz="2000" spc="-1" strike="noStrike">
                <a:solidFill>
                  <a:srgbClr val="000000"/>
                </a:solidFill>
                <a:latin typeface="Arial"/>
              </a:rPr>
              <a:t>. Ironie du sort, l'événement se produisit au moment où la ville s'était engagée dans des chantiers colossaux, notamment celui du métropolitain et des égouts municipaux. Quelques mois avant la catastrophe, personne n'avait imaginé les habitants des quartiers aisés de l'Ouest Parisien se rendre en barque au pied de leurs immeubles pour pénétrer par la fenêtre dans leurs appartements…                                                                               La banlieue n'est pas épargnée non plus. Si la capitale n'a qu'une seule victime à déplorer, il y a en revanche plusieurs noyés en banlieue parisienne, et plus de 30 000 maisons sont assaillies par les eaux de la Seine, tandis que 150 000 habitants voient leurs logements sérieusement sinistrés. </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0" y="336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18 février 1910, alors que l'eau disparait lentement des rues, le gouvernement forme une Commission des inondations. Celle-ci fera le bilan de la catastrophe  qui a duré plus de 45 jours dans la capitale (3, 80 m le 20 janvier, </a:t>
            </a:r>
            <a:r>
              <a:rPr b="1" lang="fr-FR" sz="2200" spc="-1" strike="noStrike">
                <a:solidFill>
                  <a:srgbClr val="000000"/>
                </a:solidFill>
                <a:latin typeface="Calibri"/>
              </a:rPr>
              <a:t>8, 50 m le 28 janvier</a:t>
            </a:r>
            <a:r>
              <a:rPr b="0" lang="fr-FR" sz="2200" spc="-1" strike="noStrike">
                <a:solidFill>
                  <a:srgbClr val="000000"/>
                </a:solidFill>
                <a:latin typeface="Calibri"/>
              </a:rPr>
              <a:t>, 5, 18 m le 14 février, retour à la normale en mars). Elle lancera surtout de grands projets de contrôle des flux en amont pour éviter qu'elle se reproduise. Des travaux, dont la mise en œuvre sera souvent retardée en raison de la Guerre 1914-1918, sont lancés. De grands lacs sont nés de cette commission pour retenir le débit du fleuve :                             le lac de Pannecière sur l'Yonne (1949), le lac de la forêt d'Orient (1966),             le lac du Der-Chantecoq (1974) et ceux du Temple et d'Amance (1990).</a:t>
            </a:r>
            <a:br>
              <a:rPr sz="2200"/>
            </a:br>
            <a:br>
              <a:rPr sz="2200"/>
            </a:br>
            <a:r>
              <a:rPr b="0" lang="fr-FR" sz="2200" spc="-1" strike="noStrike">
                <a:solidFill>
                  <a:srgbClr val="000000"/>
                </a:solidFill>
                <a:latin typeface="Calibri"/>
              </a:rPr>
              <a:t>Ces mesure font oublier progressivement le risque d'inondations, pourtant régulières par le passé (1658, 1740, 1802). Mais, selon les experts, comme Pascale Dugat, DE l'association La Seine en partage, le risque n'est cependant pas totalement écarté. Le nom même de la crue de 1910, baptisée "crue centennale" (la crue de référence sur un siècle), implique qu'une autre puisse survenir un siècle plus tard. Et elle ferait beaucoup plus de dégâts qu'en 1910, la région étant beaucoup plus urbanisée, peuplée et équipée.</a:t>
            </a:r>
            <a:endParaRPr b="0" lang="en-US" sz="2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age 4" descr="Image54.jpg"/>
          <p:cNvPicPr/>
          <p:nvPr/>
        </p:nvPicPr>
        <p:blipFill>
          <a:blip r:embed="rId1"/>
          <a:stretch/>
        </p:blipFill>
        <p:spPr>
          <a:xfrm>
            <a:off x="96840" y="216000"/>
            <a:ext cx="8950320" cy="6426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9360" y="5868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Des mesures de prévention pour Par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ce aux prévisions pessimistes des scientifiques, la Mairie de Paris prend aujourd'hui ses précautions : un plan de prévention des risques d'inondation (PPRI), valable pour l'ensemble du département de Paris, a enfin vu le jour le 17 octobre 2006, après plusieurs tentativ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l'aile écologiste du Conseil de Paris, ce dernier n'est pas suffisant. Il permet encore de densifier les constructions de 20% dans les zones inondables, limitation qui va jusqu'à être abolie dans les secteurs dits "stratégiques pour le développement économique et social", pourtant situés dans des zones à constructibilité limitée.                                                                        </a:t>
            </a:r>
            <a:r>
              <a:rPr b="1" lang="fr-FR" sz="1800" spc="-1" strike="noStrike">
                <a:solidFill>
                  <a:srgbClr val="000000"/>
                </a:solidFill>
                <a:latin typeface="Calibri"/>
              </a:rPr>
              <a:t>Priorité aux monu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 nombreux établissements ont cependant été mis sous haute surveillance. C'est le cas du Louvre, de la galerie nationale du Jeu de Paume, du musée de l'Orangerie, de l'hôtel de Sully, du musée Notre-Dame de Paris, de l'Ecole Nationale des Beaux Arts, du musée d'Orsay ou encore du musée du Quai Branly. On a également pris soin de déplacer les réserves souterraines du musée d'Orsay et du Louvre. Enfin certaines ouvertures du RER C ont été obturées et des bateaux à fond plat patientent pour acheminer en cas de nécessité les fonctionnaires indispensables au bon fonctionnement de la ville. Sans oublier les barrages-réservoirs construits en amont de Paris dans les années 70 et 80. Le tout pour parer à l'inquiétante réalité selon laquelle si le scénario de 1910 se reproduisait, seul un quart de l'eau ferait l'objet d'une rétention… causant entre 4,5 et 12 milliards d'euros de dommages économiques à la ville, soit 7 à 8 fois plus qu'en 191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Qu'on ne s'y trompe pas néanmoins: personne n'est tenu d'enfiler demain une bouée de sauvetage. Le risque pour les personnes est aisément contrôlable. Mais il serait insouciant de considérer toute crue comme un scénario rocambolesque. Mieux vaut prévenir que guérir… la crue de 1910, et les 8m62 d'eau atteints au niveau du pont d'Austerlitz, auront servi de leçon.</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e 6"/>
          <p:cNvGrpSpPr/>
          <p:nvPr/>
        </p:nvGrpSpPr>
        <p:grpSpPr>
          <a:xfrm>
            <a:off x="142920" y="214200"/>
            <a:ext cx="8798040" cy="6480360"/>
            <a:chOff x="142920" y="214200"/>
            <a:chExt cx="8798040" cy="6480360"/>
          </a:xfrm>
        </p:grpSpPr>
        <p:sp>
          <p:nvSpPr>
            <p:cNvPr id="100" name="ZoneTexte 4"/>
            <p:cNvSpPr/>
            <p:nvPr/>
          </p:nvSpPr>
          <p:spPr>
            <a:xfrm>
              <a:off x="1328040" y="2954160"/>
              <a:ext cx="6488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hanson:  Sous les Ponts de Par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Musique:   Jack  Lantier</a:t>
              </a:r>
              <a:endParaRPr b="0" lang="en-US" sz="2800" spc="-1" strike="noStrike">
                <a:solidFill>
                  <a:srgbClr val="000000"/>
                </a:solidFill>
                <a:latin typeface="Arial"/>
              </a:endParaRPr>
            </a:p>
          </p:txBody>
        </p:sp>
        <p:sp>
          <p:nvSpPr>
            <p:cNvPr id="101" name="ZoneTexte 2"/>
            <p:cNvSpPr/>
            <p:nvPr/>
          </p:nvSpPr>
          <p:spPr>
            <a:xfrm>
              <a:off x="828720" y="862920"/>
              <a:ext cx="74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hotos du Net et personnel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entaires du Net</a:t>
              </a:r>
              <a:endParaRPr b="0" lang="en-US" sz="2800" spc="-1" strike="noStrike">
                <a:solidFill>
                  <a:srgbClr val="000000"/>
                </a:solidFill>
                <a:latin typeface="Arial"/>
              </a:endParaRPr>
            </a:p>
          </p:txBody>
        </p:sp>
        <p:sp>
          <p:nvSpPr>
            <p:cNvPr id="102" name="ZoneTexte 3"/>
            <p:cNvSpPr/>
            <p:nvPr/>
          </p:nvSpPr>
          <p:spPr>
            <a:xfrm>
              <a:off x="864360" y="5784120"/>
              <a:ext cx="7414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ception du Diaporama  Milou Images 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25 janvier  2010</a:t>
              </a:r>
              <a:endParaRPr b="0" lang="en-US" sz="2000" spc="-1" strike="noStrike">
                <a:solidFill>
                  <a:srgbClr val="000000"/>
                </a:solidFill>
                <a:latin typeface="Arial"/>
              </a:endParaRPr>
            </a:p>
          </p:txBody>
        </p:sp>
        <p:pic>
          <p:nvPicPr>
            <p:cNvPr id="103" name="Image 4" descr="galerie-membre,chien-fox-terrier,photo-031.jpg"/>
            <p:cNvPicPr/>
            <p:nvPr/>
          </p:nvPicPr>
          <p:blipFill>
            <a:blip r:embed="rId1"/>
            <a:stretch/>
          </p:blipFill>
          <p:spPr>
            <a:xfrm>
              <a:off x="142920" y="214200"/>
              <a:ext cx="1380960" cy="1916640"/>
            </a:xfrm>
            <a:prstGeom prst="rect">
              <a:avLst/>
            </a:prstGeom>
            <a:ln w="0">
              <a:noFill/>
            </a:ln>
          </p:spPr>
        </p:pic>
        <p:pic>
          <p:nvPicPr>
            <p:cNvPr id="104" name="Image 5" descr="galerie-membre,chien-fox-terrier,photo-031.jpg"/>
            <p:cNvPicPr/>
            <p:nvPr/>
          </p:nvPicPr>
          <p:blipFill>
            <a:blip r:embed="rId2"/>
            <a:stretch/>
          </p:blipFill>
          <p:spPr>
            <a:xfrm>
              <a:off x="7560000" y="4777920"/>
              <a:ext cx="1380960" cy="191664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age 2" descr="Image5.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2" descr="Image6.jpg"/>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age 2" descr="Image7.jp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4797720" y="628668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rue de Monttessuy </a:t>
            </a:r>
            <a:endParaRPr b="0" lang="en-US" sz="1800" spc="-1" strike="noStrike">
              <a:solidFill>
                <a:srgbClr val="000000"/>
              </a:solidFill>
              <a:latin typeface="Arial"/>
            </a:endParaRPr>
          </a:p>
        </p:txBody>
      </p:sp>
      <p:pic>
        <p:nvPicPr>
          <p:cNvPr id="51" name="Image 5" descr="Image8.jpg"/>
          <p:cNvPicPr/>
          <p:nvPr/>
        </p:nvPicPr>
        <p:blipFill>
          <a:blip r:embed="rId1"/>
          <a:stretch/>
        </p:blipFill>
        <p:spPr>
          <a:xfrm>
            <a:off x="0" y="0"/>
            <a:ext cx="939636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20:06:49Z</dcterms:created>
  <dc:creator>Milou Images</dc:creator>
  <dc:description>inondation peut se renouveler, car l'histoire le prouve sur les 4 derniers siècle</dc:description>
  <dc:language>en-US</dc:language>
  <cp:lastModifiedBy>Rikky</cp:lastModifiedBy>
  <dcterms:modified xsi:type="dcterms:W3CDTF">2010-07-19T07:29:21Z</dcterms:modified>
  <cp:revision>3</cp:revision>
  <dc:subject/>
  <dc:title>iNONDATION de PARIS 1910</dc:title>
</cp:coreProperties>
</file>