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Lambad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ACF4-64F3-4EA8-A64E-BBABA841A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533268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F741-93FC-417C-998A-260AB1391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53326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53326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B5AA-A736-439D-8E99-1DF8188BB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45082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45082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53326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53326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53326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57EA-3D3C-4B70-A5C9-FD4AE2EF2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933F6-6406-45A6-956A-5085F112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6C785-D9F0-45E9-A4CA-83C7480C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23A59-F2D1-4973-9DE1-C6466DC3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2B19C-F18E-425D-8196-1A531969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598C0-5121-445C-A61E-2EECC600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2600" y="912960"/>
            <a:ext cx="7623000" cy="9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5A428-5CFC-409C-B208-AE96F06E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53326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A4E9A-F2BE-4D3A-9618-3DAEE2FA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5CC8-C822-40EC-9AE1-5B04BC469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0080" y="53326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D05CB-A153-4EC7-992D-9A6C74EA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533268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C1B32-A989-42AB-B3E3-1469D080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533268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E77D4-A3C2-48BD-8285-9ADC09B7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53326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0080" y="53326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AB779-09EB-4F26-8C33-0A22665F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9080" y="45082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45082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53326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39080" y="53326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53326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128AC-05B7-429B-85BB-921EFE4C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BC07-D885-4277-90D4-AE45FBB4D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4A4A-5886-4A3F-80E1-CAC88E2C6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E5DE-FE77-45AF-B379-2FC9FFB52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2600" y="912960"/>
            <a:ext cx="7623000" cy="9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2A6F-5454-4C74-93F2-FEE1996BC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53326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28E8-7B2D-44D3-9B7C-5D07BC36A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53326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AA22-1B5C-4046-854E-4D002D5EC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533268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490F-E8F3-47A8-A9C0-2F91680E9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1141200" y="3470400"/>
            <a:ext cx="7391160" cy="318960"/>
            <a:chOff x="1141200" y="3470400"/>
            <a:chExt cx="7391160" cy="318960"/>
          </a:xfrm>
        </p:grpSpPr>
        <p:sp>
          <p:nvSpPr>
            <p:cNvPr id="4" name=""/>
            <p:cNvSpPr/>
            <p:nvPr/>
          </p:nvSpPr>
          <p:spPr>
            <a:xfrm>
              <a:off x="1522080" y="34704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1140840" y="34704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-144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11760" indent="-1198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479880" indent="-957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671760" indent="-9576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864000" indent="-957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864000" indent="-957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864000" indent="-957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AC03-C7FF-46D8-8C8D-104307AFC9F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BCD2-C167-4FDE-8B33-C90E476EEC1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ambad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56000" y="981000"/>
            <a:ext cx="5111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IEN LO DIJO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32000" y="4468680"/>
            <a:ext cx="395928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Me gusta la humanidad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Un caníbal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Estoy rodeado de animales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Noé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Eres la Única mujer en mi vida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Adán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Estoy en cinta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SCOTCH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Mi novia es una perra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Pluto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200" spc="-1" strike="noStrike">
                <a:solidFill>
                  <a:srgbClr val="006666"/>
                </a:solidFill>
                <a:latin typeface="Arial"/>
              </a:rPr>
              <a:t>Nosotras apoyamos la liberación femenina"</a:t>
            </a:r>
            <a:r>
              <a:rPr b="1" lang="es-ES" sz="5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Cárcel de mujeres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Me encanta ir a la escuela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Un piojo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Estoy hecha una vaca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Un toro gay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Es mejor dar que recibir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Un boxeador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200" spc="-1" strike="noStrike">
                <a:solidFill>
                  <a:srgbClr val="006666"/>
                </a:solidFill>
                <a:latin typeface="Arial"/>
              </a:rPr>
              <a:t>A mi lo que me revientan son los camiones"</a:t>
            </a:r>
            <a:r>
              <a:rPr b="1" lang="es-ES" sz="5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Un sapo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4800" spc="-1" strike="noStrike">
                <a:solidFill>
                  <a:srgbClr val="006666"/>
                </a:solidFill>
                <a:latin typeface="Arial"/>
              </a:rPr>
              <a:t>La vida está en constante movimiento"</a:t>
            </a: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Parkinson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30960" y="931320"/>
            <a:ext cx="75862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4400" spc="-1" strike="noStrike">
                <a:solidFill>
                  <a:srgbClr val="006666"/>
                </a:solidFill>
                <a:latin typeface="Arial"/>
              </a:rPr>
              <a:t>Oprimir a los grandes, ayudar  a los chicos, y levantar a los caídos"</a:t>
            </a:r>
            <a:r>
              <a:rPr b="1" lang="es-ES" sz="4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El sostén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4800" spc="-1" strike="noStrike">
                <a:solidFill>
                  <a:srgbClr val="006666"/>
                </a:solidFill>
                <a:latin typeface="Arial"/>
              </a:rPr>
              <a:t>No hay nada tan importante que no podamos olvidarlo"</a:t>
            </a: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Alzheimer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4800" spc="-1" strike="noStrike">
                <a:solidFill>
                  <a:srgbClr val="006666"/>
                </a:solidFill>
                <a:latin typeface="Arial"/>
              </a:rPr>
              <a:t>Mi vida está llena de aspiraciones"</a:t>
            </a: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Un asmático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4800" spc="-1" strike="noStrike">
                <a:solidFill>
                  <a:srgbClr val="006666"/>
                </a:solidFill>
                <a:latin typeface="Arial"/>
              </a:rPr>
              <a:t>El día que nosotros gobernemos, todos temblarán"</a:t>
            </a: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Los epilépticos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4800" spc="-1" strike="noStrike">
                <a:solidFill>
                  <a:srgbClr val="006666"/>
                </a:solidFill>
                <a:latin typeface="Arial"/>
              </a:rPr>
              <a:t>Vayamos al grano"</a:t>
            </a: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Un dermatólogo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Mi esposa tiene un gran físico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Albert Einsten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400" spc="-1" strike="noStrike">
                <a:solidFill>
                  <a:srgbClr val="006666"/>
                </a:solidFill>
                <a:latin typeface="Arial"/>
              </a:rPr>
              <a:t>Nunca pude estudiar Derecho"</a:t>
            </a:r>
            <a:r>
              <a:rPr b="1" lang="es-ES" sz="5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El jorobado de Notre Dame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Siempre quise ser el primero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Juan Pablo II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3:55:12Z</dcterms:created>
  <dc:creator>Romulo Espinar</dc:creator>
  <dc:description/>
  <dc:language>en-US</dc:language>
  <cp:lastModifiedBy>Romulo Espinar</cp:lastModifiedBy>
  <dcterms:modified xsi:type="dcterms:W3CDTF">2007-05-11T04:07:19Z</dcterms:modified>
  <cp:revision>2</cp:revision>
  <dc:subject/>
  <dc:title>¿Quién lo dijo?</dc:title>
</cp:coreProperties>
</file>