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Lambada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1789B-9FBD-4420-BFF7-1139CB040F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4508280"/>
            <a:ext cx="76932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5332680"/>
            <a:ext cx="76932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D7BDF-4929-46C6-AFB8-64B6B63273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4508280"/>
            <a:ext cx="375408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4508280"/>
            <a:ext cx="375408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5332680"/>
            <a:ext cx="375408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5332680"/>
            <a:ext cx="375408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C13B8-E20D-41BD-8C10-8B1E6CE8C3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4508280"/>
            <a:ext cx="24768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4508280"/>
            <a:ext cx="24768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4508280"/>
            <a:ext cx="24768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5332680"/>
            <a:ext cx="24768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5332680"/>
            <a:ext cx="24768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5332680"/>
            <a:ext cx="24768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A7CF5-6D9F-4CB3-960C-366726EC14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9E5EF-A633-47F8-82EE-0A4A859D4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4464E-C883-481B-B112-451A48BA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A3831-C623-4CCF-8C4A-910A0AE9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4508280"/>
            <a:ext cx="375408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0080" y="4508280"/>
            <a:ext cx="375408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2B53C-FEA5-4AA6-B317-6F76ED12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B1C4D-0C1B-4C80-8352-636BDB60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2600" y="912960"/>
            <a:ext cx="7623000" cy="9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6A71B-9A4A-4BBC-AB57-C7A6B9C2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4508280"/>
            <a:ext cx="375408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4508280"/>
            <a:ext cx="375408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5332680"/>
            <a:ext cx="375408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FF3728-C8F9-4B3D-808B-57DE211C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1FBE3-A3DD-4E32-8446-C52126D5C1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4508280"/>
            <a:ext cx="375408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4508280"/>
            <a:ext cx="375408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80080" y="5332680"/>
            <a:ext cx="375408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15FDF-97B9-4741-B7B6-EF0BFB92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4508280"/>
            <a:ext cx="375408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4508280"/>
            <a:ext cx="375408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5332680"/>
            <a:ext cx="76932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3AB23-C4AD-4852-BEE2-7B48C9AF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4508280"/>
            <a:ext cx="76932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8080" y="5332680"/>
            <a:ext cx="76932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B7C2F-11B3-45CD-94A7-F090F1BE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4508280"/>
            <a:ext cx="375408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0080" y="4508280"/>
            <a:ext cx="375408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5332680"/>
            <a:ext cx="375408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80080" y="5332680"/>
            <a:ext cx="375408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7628F-6912-4FD2-B5D6-417D704AC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4508280"/>
            <a:ext cx="24768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39080" y="4508280"/>
            <a:ext cx="24768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0080" y="4508280"/>
            <a:ext cx="24768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8080" y="5332680"/>
            <a:ext cx="24768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39080" y="5332680"/>
            <a:ext cx="24768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0080" y="5332680"/>
            <a:ext cx="24768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C3E4C-EE2A-4007-B8A5-082CA04D4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B4045-B114-4DCB-9F56-AAA057202F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4508280"/>
            <a:ext cx="375408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4508280"/>
            <a:ext cx="375408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51DDB-807B-4E15-94AE-DFF52BA8C3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335B8-5FB8-4EFC-A5B6-E492FF9CD8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2600" y="912960"/>
            <a:ext cx="7623000" cy="9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E5EE3-07D2-4D40-A6E5-F102E8E23F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4508280"/>
            <a:ext cx="375408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4508280"/>
            <a:ext cx="375408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5332680"/>
            <a:ext cx="375408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DE391-5D7D-49EA-9FED-3815EC3B41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4508280"/>
            <a:ext cx="375408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4508280"/>
            <a:ext cx="375408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5332680"/>
            <a:ext cx="375408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5F476-55D4-4B98-9CBC-994FD65907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4508280"/>
            <a:ext cx="375408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4508280"/>
            <a:ext cx="375408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5332680"/>
            <a:ext cx="76932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69D1F-2CDD-42F3-85DF-0A2CBA85C1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1141200" y="3470400"/>
            <a:ext cx="7391160" cy="318960"/>
            <a:chOff x="1141200" y="3470400"/>
            <a:chExt cx="7391160" cy="318960"/>
          </a:xfrm>
        </p:grpSpPr>
        <p:sp>
          <p:nvSpPr>
            <p:cNvPr id="4" name=""/>
            <p:cNvSpPr/>
            <p:nvPr/>
          </p:nvSpPr>
          <p:spPr>
            <a:xfrm>
              <a:off x="1522080" y="3470400"/>
              <a:ext cx="701028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1140840" y="3470400"/>
              <a:ext cx="3934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marL="144000" indent="-1440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11760" indent="-1198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479880" indent="-957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671760" indent="-9576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864000" indent="-9576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864000" indent="-9576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864000" indent="-9576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2155-1631-4FDC-A7BE-897EE6AFCFB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dt" idx="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B490-68E4-4DDE-B1AC-A412BCF98F6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Lambad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556000" y="981000"/>
            <a:ext cx="511164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IEN LO DIJO 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132000" y="4468680"/>
            <a:ext cx="3959280" cy="10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8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MX" sz="5800" spc="-1" strike="noStrike">
                <a:solidFill>
                  <a:srgbClr val="006666"/>
                </a:solidFill>
                <a:latin typeface="Arial"/>
              </a:rPr>
              <a:t>Me gusta la humanidad"</a:t>
            </a:r>
            <a:r>
              <a:rPr b="1" lang="es-ES" sz="5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5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Un caníbal</a:t>
            </a:r>
            <a:r>
              <a:rPr b="0" lang="es-ES" sz="4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8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MX" sz="5800" spc="-1" strike="noStrike">
                <a:solidFill>
                  <a:srgbClr val="006666"/>
                </a:solidFill>
                <a:latin typeface="Arial"/>
              </a:rPr>
              <a:t>Estoy rodeado de animales"</a:t>
            </a:r>
            <a:r>
              <a:rPr b="1" lang="es-ES" sz="5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5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Noé</a:t>
            </a:r>
            <a:r>
              <a:rPr b="0" lang="es-ES" sz="4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8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MX" sz="5800" spc="-1" strike="noStrike">
                <a:solidFill>
                  <a:srgbClr val="006666"/>
                </a:solidFill>
                <a:latin typeface="Arial"/>
              </a:rPr>
              <a:t>Eres la Única mujer en mi vida"</a:t>
            </a:r>
            <a:r>
              <a:rPr b="1" lang="es-ES" sz="5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5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Adán</a:t>
            </a:r>
            <a:r>
              <a:rPr b="0" lang="es-ES" sz="4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8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MX" sz="5800" spc="-1" strike="noStrike">
                <a:solidFill>
                  <a:srgbClr val="006666"/>
                </a:solidFill>
                <a:latin typeface="Arial"/>
              </a:rPr>
              <a:t>Estoy en cinta"</a:t>
            </a:r>
            <a:r>
              <a:rPr b="1" lang="es-ES" sz="5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5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SCOTCH</a:t>
            </a:r>
            <a:r>
              <a:rPr b="0" lang="es-ES" sz="4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8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MX" sz="5800" spc="-1" strike="noStrike">
                <a:solidFill>
                  <a:srgbClr val="006666"/>
                </a:solidFill>
                <a:latin typeface="Arial"/>
              </a:rPr>
              <a:t>Mi novia es una perra"</a:t>
            </a:r>
            <a:r>
              <a:rPr b="1" lang="es-ES" sz="5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5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Pluto</a:t>
            </a:r>
            <a:r>
              <a:rPr b="0" lang="es-ES" sz="4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MX" sz="5200" spc="-1" strike="noStrike">
                <a:solidFill>
                  <a:srgbClr val="006666"/>
                </a:solidFill>
                <a:latin typeface="Arial"/>
              </a:rPr>
              <a:t>Nosotras apoyamos la liberación femenina"</a:t>
            </a:r>
            <a:r>
              <a:rPr b="1" lang="es-ES" sz="5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Cárcel de mujeres</a:t>
            </a:r>
            <a:r>
              <a:rPr b="0" lang="es-ES" sz="40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8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MX" sz="5800" spc="-1" strike="noStrike">
                <a:solidFill>
                  <a:srgbClr val="006666"/>
                </a:solidFill>
                <a:latin typeface="Arial"/>
              </a:rPr>
              <a:t>Me encanta ir a la escuela"</a:t>
            </a:r>
            <a:r>
              <a:rPr b="1" lang="es-ES" sz="5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5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Un piojo</a:t>
            </a:r>
            <a:r>
              <a:rPr b="0" lang="es-ES" sz="40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8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MX" sz="5800" spc="-1" strike="noStrike">
                <a:solidFill>
                  <a:srgbClr val="006666"/>
                </a:solidFill>
                <a:latin typeface="Arial"/>
              </a:rPr>
              <a:t>Estoy hecha una vaca"</a:t>
            </a:r>
            <a:r>
              <a:rPr b="1" lang="es-ES" sz="5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5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Un toro gay</a:t>
            </a:r>
            <a:r>
              <a:rPr b="0" lang="es-ES" sz="4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8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MX" sz="5800" spc="-1" strike="noStrike">
                <a:solidFill>
                  <a:srgbClr val="006666"/>
                </a:solidFill>
                <a:latin typeface="Arial"/>
              </a:rPr>
              <a:t>Es mejor dar que recibir"</a:t>
            </a:r>
            <a:r>
              <a:rPr b="1" lang="es-ES" sz="5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5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Un boxeador</a:t>
            </a:r>
            <a:r>
              <a:rPr b="0" lang="es-ES" sz="4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MX" sz="5200" spc="-1" strike="noStrike">
                <a:solidFill>
                  <a:srgbClr val="006666"/>
                </a:solidFill>
                <a:latin typeface="Arial"/>
              </a:rPr>
              <a:t>A mi lo que me revientan son los camiones"</a:t>
            </a:r>
            <a:r>
              <a:rPr b="1" lang="es-ES" sz="5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Un sapo</a:t>
            </a:r>
            <a:r>
              <a:rPr b="0" lang="es-ES" sz="4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MX" sz="4800" spc="-1" strike="noStrike">
                <a:solidFill>
                  <a:srgbClr val="006666"/>
                </a:solidFill>
                <a:latin typeface="Arial"/>
              </a:rPr>
              <a:t>La vida está en constante movimiento"</a:t>
            </a:r>
            <a:r>
              <a:rPr b="1" lang="es-ES" sz="4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Parkinson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930960" y="931320"/>
            <a:ext cx="75862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MX" sz="4400" spc="-1" strike="noStrike">
                <a:solidFill>
                  <a:srgbClr val="006666"/>
                </a:solidFill>
                <a:latin typeface="Arial"/>
              </a:rPr>
              <a:t>Oprimir a los grandes, ayudar  a los chicos, y levantar a los caídos"</a:t>
            </a:r>
            <a:r>
              <a:rPr b="1" lang="es-ES" sz="4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El sostén</a:t>
            </a:r>
            <a:r>
              <a:rPr b="0" lang="es-ES" sz="4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MX" sz="4800" spc="-1" strike="noStrike">
                <a:solidFill>
                  <a:srgbClr val="006666"/>
                </a:solidFill>
                <a:latin typeface="Arial"/>
              </a:rPr>
              <a:t>No hay nada tan importante que no podamos olvidarlo"</a:t>
            </a:r>
            <a:r>
              <a:rPr b="1" lang="es-ES" sz="4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Alzheimer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MX" sz="4800" spc="-1" strike="noStrike">
                <a:solidFill>
                  <a:srgbClr val="006666"/>
                </a:solidFill>
                <a:latin typeface="Arial"/>
              </a:rPr>
              <a:t>Mi vida está llena de aspiraciones"</a:t>
            </a:r>
            <a:r>
              <a:rPr b="1" lang="es-ES" sz="4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Un asmático</a:t>
            </a:r>
            <a:r>
              <a:rPr b="0" lang="es-ES" sz="4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MX" sz="4800" spc="-1" strike="noStrike">
                <a:solidFill>
                  <a:srgbClr val="006666"/>
                </a:solidFill>
                <a:latin typeface="Arial"/>
              </a:rPr>
              <a:t>El día que nosotros gobernemos, todos temblarán"</a:t>
            </a:r>
            <a:r>
              <a:rPr b="1" lang="es-ES" sz="4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Los epilépticos</a:t>
            </a:r>
            <a:r>
              <a:rPr b="0" lang="es-ES" sz="4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MX" sz="4800" spc="-1" strike="noStrike">
                <a:solidFill>
                  <a:srgbClr val="006666"/>
                </a:solidFill>
                <a:latin typeface="Arial"/>
              </a:rPr>
              <a:t>Vayamos al grano"</a:t>
            </a:r>
            <a:r>
              <a:rPr b="1" lang="es-ES" sz="4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Un dermatólogo</a:t>
            </a:r>
            <a:r>
              <a:rPr b="0" lang="es-ES" sz="4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8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MX" sz="5800" spc="-1" strike="noStrike">
                <a:solidFill>
                  <a:srgbClr val="006666"/>
                </a:solidFill>
                <a:latin typeface="Arial"/>
              </a:rPr>
              <a:t>Mi esposa tiene un gran físico"</a:t>
            </a:r>
            <a:r>
              <a:rPr b="1" lang="es-ES" sz="5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5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Albert Einsten</a:t>
            </a:r>
            <a:r>
              <a:rPr b="0" lang="es-ES" sz="4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MX" sz="5400" spc="-1" strike="noStrike">
                <a:solidFill>
                  <a:srgbClr val="006666"/>
                </a:solidFill>
                <a:latin typeface="Arial"/>
              </a:rPr>
              <a:t>Nunca pude estudiar Derecho"</a:t>
            </a:r>
            <a:r>
              <a:rPr b="1" lang="es-ES" sz="5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El jorobado de Notre Dame</a:t>
            </a:r>
            <a:r>
              <a:rPr b="0" lang="es-ES" sz="4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912600" y="912960"/>
            <a:ext cx="7623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8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MX" sz="5800" spc="-1" strike="noStrike">
                <a:solidFill>
                  <a:srgbClr val="006666"/>
                </a:solidFill>
                <a:latin typeface="Arial"/>
              </a:rPr>
              <a:t>Siempre quise ser el primero"</a:t>
            </a:r>
            <a:r>
              <a:rPr b="1" lang="es-ES" sz="5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5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Juan Pablo II</a:t>
            </a:r>
            <a:r>
              <a:rPr b="0" lang="es-ES" sz="4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03:55:12Z</dcterms:created>
  <dc:creator>Romulo Espinar</dc:creator>
  <dc:description/>
  <dc:language>en-US</dc:language>
  <cp:lastModifiedBy>Romulo Espinar</cp:lastModifiedBy>
  <dcterms:modified xsi:type="dcterms:W3CDTF">2007-05-11T04:07:19Z</dcterms:modified>
  <cp:revision>2</cp:revision>
  <dc:subject/>
  <dc:title>¿Quién lo dijo?</dc:title>
</cp:coreProperties>
</file>