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concierto-de-Aranjuez-music-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11C0-DD41-4F17-B1D8-80C31ABD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B942-3FC7-441F-96B5-A651EB04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743E-C7D1-4B8F-BB9D-DEBA0680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1A4F-A53C-43B2-B50A-C65C821A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21CB-6C57-44A0-AB68-E35BBCD9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7B48-AAB5-40B6-A668-3468BFE2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165B-E647-4A3A-A698-FD033566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E7E0-E9AB-4756-A49D-7D7B40ED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7FC4-C071-46C7-BF49-D96FA65F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10E3-BB6E-465F-AFAD-C542012E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9555-B949-4884-994E-D2F5FAF8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EA91-8ABC-4CE7-978A-56AE4D32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F217-B27A-45B6-B539-501C86E2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77EF-FD47-4CFD-922F-D7D3072C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3646-2CAA-4324-9A16-D1A75E3A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618C-6484-4B1D-B7F0-21B622D2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7FE9-905C-4A52-A287-A7DB4CAF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7B73-DC6D-4FBD-8400-6593BFFC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D72A-7A0B-483D-886F-594CD86B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99BC-BD36-496C-8382-B01B6571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CDC3-8C14-45BE-8450-26C9D837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0E85-EAF4-4EF6-968E-47E413C2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FE35-CF6C-4F09-836E-B6C8D431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DAD-1E4C-4086-A546-C413490B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ED49-1070-4458-B00A-DC8C0FE4EE76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E5C7-247B-4795-8579-A14662248739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ncierto-de-Aranjuez-music-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461960" y="318960"/>
            <a:ext cx="6218280" cy="62182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395280" y="260280"/>
            <a:ext cx="3495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No te rindas..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003640" y="5877000"/>
            <a:ext cx="26384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ario Benedetti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7000">
    <p:fade thruBlk="true"/>
    <p:sndAc>
      <p:stSnd>
        <p:snd r:embed="rId2" name="concierto-de-Aranjuez-music-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1461960" y="318960"/>
            <a:ext cx="6218280" cy="62182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1429200" y="690840"/>
            <a:ext cx="32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orque existe el vin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y el amor, es cier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5837040" y="403200"/>
            <a:ext cx="35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orque no hay herid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que no cure el tiemp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4318200" cy="575316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4105440" y="1819440"/>
            <a:ext cx="5038560" cy="50385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092760" y="257760"/>
            <a:ext cx="433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brir las puertas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quitar los cerrojos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bandonar las murall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que te protegieron.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vivir la vida y aceptar el ret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254160" y="317520"/>
            <a:ext cx="8635680" cy="62229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393360" y="549360"/>
            <a:ext cx="573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recuperar la risa,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ensayar el canto,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bajar la guardia y extender las mano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254160" y="330120"/>
            <a:ext cx="8635680" cy="619776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3241800" y="765000"/>
            <a:ext cx="531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desplegar las alas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e intentar de nuevo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celebrar la vida y retomar los ciel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9440" cy="5398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4826160" y="1106640"/>
            <a:ext cx="4317840" cy="57513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130640" y="476280"/>
            <a:ext cx="49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No te rindas, por favor no ceda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 thruBlk="true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19748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74880" y="5155920"/>
            <a:ext cx="63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unque el frío queme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unque el miedo muerda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unque el sol se ponga y se calle el vient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27712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393120" y="404640"/>
            <a:ext cx="40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ún hay fuego en tu alma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ún hay vida en tus sueñ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461960" y="318960"/>
            <a:ext cx="6218280" cy="62182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1267560" y="4865760"/>
            <a:ext cx="652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orque cada día es un comienzo nuevo.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orque ésta es la hora y el mejor momen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500720" y="5589720"/>
            <a:ext cx="4392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19748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249840" y="333360"/>
            <a:ext cx="33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Porque no estás sol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708360" y="404640"/>
            <a:ext cx="47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No te rindas, aún estás a tiempo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de alcanzar y comenzar de nuev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260280" y="368280"/>
            <a:ext cx="8623440" cy="61214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253680" y="450864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orque yo te quier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1461960" y="318960"/>
            <a:ext cx="6218280" cy="62182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248120" y="5469840"/>
            <a:ext cx="65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erlin Sans FB Demi"/>
              </a:rPr>
              <a:t>Autor: Mario Benedetti, ensayista, poeta y escritor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Berlin Sans FB Demi"/>
              </a:rPr>
              <a:t>(Uruguay, 1920)</a:t>
            </a:r>
            <a:r>
              <a:rPr b="1" lang="pt-BR" sz="2800" spc="-1" strike="noStrike">
                <a:solidFill>
                  <a:srgbClr val="ffffff"/>
                </a:solidFill>
                <a:latin typeface="Berlin Sans FB Dem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98920" cy="68054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6095880" y="838080"/>
            <a:ext cx="2579760" cy="417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edicada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specialmente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 los amantes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e los caballos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56360" y="6237360"/>
            <a:ext cx="257976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IRTA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9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85400" y="476280"/>
            <a:ext cx="327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ceptar tus sombras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enterrar tus miedos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liberar el lastre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retomar el vue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254160" y="190440"/>
            <a:ext cx="8635680" cy="64771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2340000" y="1268280"/>
            <a:ext cx="412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No te rindas que la vida es es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254160" y="355680"/>
            <a:ext cx="8635680" cy="61466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38760" y="404640"/>
            <a:ext cx="335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continuar el viaje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erseguir tus sueños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destrabar el tiempo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correr los escombros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y destapar el ciel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184560" y="30290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403280" y="0"/>
            <a:ext cx="691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254160" y="336600"/>
            <a:ext cx="8635680" cy="61848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468360" y="549360"/>
            <a:ext cx="52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No te rindas, por favor no ceda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54160" y="247680"/>
            <a:ext cx="8635680" cy="63626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267840" y="404640"/>
            <a:ext cx="396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unque el frío queme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unque el miedo muerda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unque el sol se esconda,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19784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713880" y="260280"/>
            <a:ext cx="422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y se calle el viento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ún hay fuego en tu alma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ún hay vida en tus sueñ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60280" y="177840"/>
            <a:ext cx="8623440" cy="65023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2931840" y="4074480"/>
            <a:ext cx="367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orque la vida es tuy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y tuyo también el deseo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orque lo has quer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y porque te quier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1:49:29Z</dcterms:created>
  <dc:creator>Mirta</dc:creator>
  <dc:description/>
  <dc:language>en-US</dc:language>
  <cp:lastModifiedBy>Mirta</cp:lastModifiedBy>
  <dcterms:modified xsi:type="dcterms:W3CDTF">2009-08-19T06:24:11Z</dcterms:modified>
  <cp:revision>4</cp:revision>
  <dc:subject/>
  <dc:title>Diapositiva 1</dc:title>
</cp:coreProperties>
</file>