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concierto-de-Aranjuez-music-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EF8-38FA-4444-A6F1-E1D79D41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0D6-6409-4BF2-9374-78E3BCAF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1DD-6F6B-4263-809B-6783BD7F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146-9E0C-4D77-93E1-3E56CE19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9117-B9D3-4C49-ABA4-83903FE5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8748-403B-496C-B889-28A2C0F9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C73-4BFC-4EB6-9596-C6A24B1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4E25-9A41-40CA-B37A-1AD511A7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7C0A-7BB1-4ECE-9302-C4016FF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0112-5CAF-43D7-B7D0-5CC24F1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18D9-3C41-48C5-AD35-8CE2577A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A91-6642-4CE6-B44D-2856329E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86D4-C00D-4D49-9DE1-BDFAF18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C3EA-7695-421E-849B-6D93C79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8C8D-4363-40B9-879F-4CA8ABC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04E6-3215-4020-A96F-46010AF5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2D22-25BA-4574-A8EC-908DA0DF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C99-139F-47D6-8FD7-4A0C255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9A6-A962-41E8-B601-3233E1D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E73-A2DA-4E86-9232-2B069707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DD7-09E4-40AD-8202-A1119ED6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13E-8971-47F8-A95C-D3B923F7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FB3-BD5A-4976-8742-05BAAAB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6FD-8E69-4AB0-B6FD-F9C45628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47C7-C6C2-41BB-957C-3C04963B5615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C8D-E8E3-49C3-991F-F8F70F6F921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ncierto-de-Aranjuez-music-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95280" y="260280"/>
            <a:ext cx="349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 te rindas..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3640" y="5877000"/>
            <a:ext cx="2638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rio Benedett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fade thruBlk="true"/>
    <p:sndAc>
      <p:stSnd>
        <p:snd r:embed="rId2" name="concierto-de-Aranjuez-music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429200" y="690840"/>
            <a:ext cx="32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existe el vi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el amor, es cier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837040" y="40320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no hay heri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e no cure el tiemp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318200" cy="57531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105440" y="1819440"/>
            <a:ext cx="5038560" cy="5038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092760" y="257760"/>
            <a:ext cx="433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rir las puert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itar los cerroj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bandonar las murall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que te protegieron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vivir la vida y aceptar el re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54160" y="317520"/>
            <a:ext cx="8635680" cy="6222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393360" y="549360"/>
            <a:ext cx="573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recuperar la risa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ensayar el canto,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bajar la guardia y extender las mano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54160" y="330120"/>
            <a:ext cx="8635680" cy="61977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3241800" y="76500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splegar las ala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 intentar de nuev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elebrar la vida y retomar los cie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9440" cy="5398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826160" y="1106640"/>
            <a:ext cx="4317840" cy="57513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130640" y="47628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9748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4880" y="5155920"/>
            <a:ext cx="63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ponga y se calle el vien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7712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93120" y="404640"/>
            <a:ext cx="40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267560" y="4865760"/>
            <a:ext cx="652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cada día es un comienzo nuevo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ésta es la hora y el mejor mom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500720" y="5589720"/>
            <a:ext cx="43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9748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49840" y="33336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Porque no estás sol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08360" y="40464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No te rindas, aún estás a tiemp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Berlin Sans FB"/>
              </a:rPr>
              <a:t>de alcanzar y comenzar de nuev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60280" y="368280"/>
            <a:ext cx="8623440" cy="6121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253680" y="4508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yo te quie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461960" y="318960"/>
            <a:ext cx="6218280" cy="6218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248120" y="5469840"/>
            <a:ext cx="65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erlin Sans FB Demi"/>
              </a:rPr>
              <a:t>Autor: Mario Benedetti, ensayista, poeta y escritor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Berlin Sans FB Demi"/>
              </a:rPr>
              <a:t>(Uruguay, 1920)</a:t>
            </a:r>
            <a:r>
              <a:rPr b="1" lang="pt-BR" sz="2800" spc="-1" strike="noStrike">
                <a:solidFill>
                  <a:srgbClr val="ffffff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8920" cy="6805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6095880" y="838080"/>
            <a:ext cx="257976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dicada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specialmente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los amantes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 los caballos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56360" y="6237360"/>
            <a:ext cx="25797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RTA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85400" y="47628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ceptar tus sombra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enterrar tus mied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liberar el lastr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retomar el vu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4160" y="190440"/>
            <a:ext cx="8635680" cy="6477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340000" y="1268280"/>
            <a:ext cx="41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 que la vida es es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54160" y="355680"/>
            <a:ext cx="8635680" cy="61466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38760" y="404640"/>
            <a:ext cx="335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ontinuar el viaj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erseguir tus sueños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destrabar el tiemp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correr los escombro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destapar el cie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184560" y="3029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403280" y="0"/>
            <a:ext cx="69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54160" y="336600"/>
            <a:ext cx="8635680" cy="6184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68360" y="5493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No te rindas, por favor no ceda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54160" y="247680"/>
            <a:ext cx="8635680" cy="6362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67840" y="404640"/>
            <a:ext cx="396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frío queme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miedo muerda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unque el sol se esconda,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19784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13880" y="260280"/>
            <a:ext cx="42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se calle el vient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fuego en tu alm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aún hay vida en tus sueñ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60280" y="177840"/>
            <a:ext cx="8623440" cy="6502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931840" y="4074480"/>
            <a:ext cx="367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la vida es tuy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tuyo también el deseo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porque lo has quer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y porque te quie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1:49:29Z</dcterms:created>
  <dc:creator>Mirta</dc:creator>
  <dc:description/>
  <dc:language>en-US</dc:language>
  <cp:lastModifiedBy>Mirta</cp:lastModifiedBy>
  <dcterms:modified xsi:type="dcterms:W3CDTF">2009-08-19T06:24:11Z</dcterms:modified>
  <cp:revision>4</cp:revision>
  <dc:subject/>
  <dc:title>Diapositiva 1</dc:title>
</cp:coreProperties>
</file>