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ndian_summer%20M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88EB-97AB-4E48-ACC3-3511712A32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7F71-5E51-400E-B4A5-B8B64E79EB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A7F1-4EEB-429D-BCAE-0672463EDD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946F-C8A2-4F58-98FE-6265D167B14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F924-DAD0-43A6-8092-BB1A149AAB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9A5B-24CD-4C8C-9941-9F1119060D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AB88-C32C-46C1-91B8-A86C1B4217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BAE4-F05B-4D2D-8EE6-B3E9CAE40A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0EB9-C866-4783-A801-ABBD2B2DCC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5E16-3504-4E52-8E33-AFD9205301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92F8-2532-410D-A09A-39E41974EA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B300-FE18-4515-A675-C28F1FBDB2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AA15-2DD8-4A49-9588-EA09AC0918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BD29-A924-490E-B9E1-BA41CBB162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2FE3-548B-4632-AB15-CF3F3A0D0E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6AEE-3188-4EB0-B0DA-C43024F9FB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CAF2-3F3E-45E8-A39B-F0A4112B59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D84-6F5B-4F27-92DD-F65CD125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8C7-A294-4BE5-8EDF-7BA6C64D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8E4-6013-447F-94FA-D5BC59BD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1B5-14D7-4FCB-BE93-85E60AD1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C5E-EA62-480F-9442-F990A1F5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A64-23FB-4271-9F79-BD358902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508-E658-4A6C-B7E8-5A5D07A4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319-6E79-4856-9F5C-ADC2AF5C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FD6-CA23-4929-9467-3B471FA3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842-73B7-4F46-A076-010E754D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281-AADD-4558-8330-0C56605C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552-3B8B-478C-9D00-3D073D32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CF0C-4A4F-44BD-A9D4-CC32759930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dian_summer%20M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36" descr="ara2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40"/>
          <p:cNvSpPr/>
          <p:nvPr/>
        </p:nvSpPr>
        <p:spPr>
          <a:xfrm>
            <a:off x="1763640" y="2276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41"/>
          <p:cNvSpPr/>
          <p:nvPr/>
        </p:nvSpPr>
        <p:spPr>
          <a:xfrm>
            <a:off x="0" y="38307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ffffff"/>
                </a:solidFill>
                <a:uFillTx/>
                <a:latin typeface="Comic Sans MS"/>
              </a:rPr>
              <a:t>Bill Gates</a:t>
            </a: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 recientemente dictó en una conferencia en una escuela secundaria sobre 11 cosas que los estudiantes 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aprenden en la escue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2" name="indian_summer%20M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0920" y="1125360"/>
            <a:ext cx="86421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Antes de  nacer tú, tus padres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eran tan críticos como ahora.</a:t>
            </a:r>
            <a:br>
              <a:rPr sz="2400"/>
            </a:b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Ellos se volvieron así por pagar tus cuentas, lavar tus ropas y oírte decir que son “ridículo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Por tanto, antes de salvar el planeta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la próxima generación, quer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remediar los errores de la 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de tus padres, comienza limpiando las cosas de tu propia vida, </a:t>
            </a:r>
            <a:r>
              <a:rPr b="0" i="1" lang="pt-BR" sz="2400" spc="-1" strike="noStrike" u="sng">
                <a:solidFill>
                  <a:srgbClr val="ffcc99"/>
                </a:solidFill>
                <a:uFillTx/>
                <a:latin typeface="Verdana"/>
              </a:rPr>
              <a:t>empezando por tu habitación</a:t>
            </a:r>
            <a:r>
              <a:rPr b="0" i="1" lang="pt-BR" sz="2400" spc="-1" strike="noStrike">
                <a:solidFill>
                  <a:srgbClr val="ffcc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50920" y="1268280"/>
            <a:ext cx="864216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escuela puede haber eliminado la distinción entre excelentes, buenos y regulares, pero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la vida no es así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n muchas escuelas hoy no repites el curso, hacen que tus tareas sean cada vez más fáciles y tienes las oportunidades que necesites hasta apro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to no se parece en nada a la vida re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 fallas,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estás despedido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Así que acierta a la prim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0920" y="1341360"/>
            <a:ext cx="864216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vida no está dividida en bimest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Tú no tendrás largas vacaciones de veran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encontrarás quien te ayude a cumplir con tus tareas, ni jefes que se interesen en ayudarte para que te encuentres a ti mism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Todo esto y mucho más,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tendrás que hacerlo en tu tiempo libre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76480" y="409680"/>
            <a:ext cx="154332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920" y="1341360"/>
            <a:ext cx="86421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televisión NO es la vida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n la vida real, las personas tien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ejar los juegos, el bar, los bailes o los amig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para irse a trabajar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876480" y="409680"/>
            <a:ext cx="154332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0920" y="119700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Sé amable con los estudios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 (aquellos estudi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que tú y muchos otros juzgan que son  sons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Existen muchas probabilidade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que termines trabajando PARA uno de ell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wallpaper_3D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275040" y="3787920"/>
            <a:ext cx="86954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Imprime, relee, repasa y muéstraselo a todos los qu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nceramente creas que puedan ser tus amig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o que merezcan una clase, muy particul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ada por quien entiende del asunt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the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270800" y="625320"/>
            <a:ext cx="661032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Y si tienes la suerte de tenerlos cer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y el coraje para hacer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enséñaselo a tus padres y a tus hijos. </a:t>
            </a:r>
            <a:r>
              <a:rPr b="0" lang="pt-BR" sz="28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42347252VAFAQz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140120" y="4405320"/>
            <a:ext cx="67507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Muy conciso, todos esperaban que fuera a h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un discurso de una hora o más, habl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menos de 5 minutos, le aplaudieron má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10 minutos sin parar, dio las gracias y se f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enseguida en su helicópt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antileech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71280" y="44280"/>
            <a:ext cx="896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abla de cómo la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"política educativa de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vida fácil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para los niños"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a originado una generación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 concepto de la realidad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y cómo esta política ha llevado a las personas a fallar en sus vidas después de la escuel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50920" y="1773360"/>
            <a:ext cx="864216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vida no es fácil, acostúmbrate a ello</a:t>
            </a:r>
            <a:r>
              <a:rPr b="1" i="1" lang="pt-BR" sz="2800" spc="-1" strike="noStrike">
                <a:solidFill>
                  <a:srgbClr val="ffcc99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50920" y="1125360"/>
            <a:ext cx="864216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l mundo no está preocup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por  tu autoest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l mundo espera que  hagas al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útil por él 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e sentirte bien cont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116000" y="1628640"/>
            <a:ext cx="705816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ganarás 20.000 </a:t>
            </a:r>
            <a:r>
              <a:rPr b="0" i="1" lang="pt-BR" sz="2400" spc="-1" strike="noStrike">
                <a:solidFill>
                  <a:srgbClr val="ffcc99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al 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ada más por salir de la escuela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serás vicepresidente de una empresa con coche y teléfono a tu disposición,</a:t>
            </a:r>
            <a:br>
              <a:rPr sz="2800"/>
            </a:b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hasta que con tu esfuerzo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 hayas conseguido comprar tu prop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coche y teléf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134136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 crees que tu profesor es dur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pera a tener un Jef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e sí que no tendrá vocación de enseñanza ni la paciencia requer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134136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Vender papel usado o trabajar los  días festivos no es ser lo último en la escala social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Tus abuelos tenían una palabra diferente para 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o llamaban 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oportunidad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hildface01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755640" y="1700280"/>
            <a:ext cx="7777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 te equivocas, no le eches la culpa a tus padres o a la mala sue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Por lo tanto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no llorisquees por tus errores, aprende de ell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2:29:12Z</dcterms:created>
  <dc:creator/>
  <dc:description/>
  <dc:language>en-US</dc:language>
  <cp:lastModifiedBy/>
  <dcterms:modified xsi:type="dcterms:W3CDTF">2009-09-02T18:09:23Z</dcterms:modified>
  <cp:revision>10</cp:revision>
  <dc:subject/>
  <dc:title/>
</cp:coreProperties>
</file>