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ndian_summer%20M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828-1D6A-4098-A158-72BB0CD11C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E30-6182-4498-A623-ECBD9AA9C5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B69B-9818-4B79-A013-F9B6B873A6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6E24-4927-4DF0-BB6F-DE8BE22FCE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E820-B080-46ED-BC07-076014F157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F122-6638-4A68-945D-7D1B975C99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715-F5ED-4828-9656-95101F9CF6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97E-343D-4F40-92A8-20697A91BB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54A-6482-428E-BD84-CCFD08A494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7FA-BC59-4F61-BF28-2E632093C6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731D-5DAB-44B2-9B61-4C25DDE902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D24F-30EE-49EC-8A50-CC247B1849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CB05-F84C-4FB7-9A87-552C8982BF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AE3-7F7C-4D57-A90F-E5053A2ED0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5D37-2367-48BF-8338-805F40C645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E4C4-16D5-4AA9-A28C-040D6E8454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8BA-4631-43B0-9D80-0C96321DFE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5F2-320F-4847-ADE8-825F5CD7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944-9ADE-4D86-B3B3-003B7DA0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F11-74EF-40A8-8AE1-3600FCBD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160-41B5-4ACB-8086-67530216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447-E181-477F-AF3B-AC62547A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90E-FA4D-4098-B167-A7EA14D8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D5B-6F5D-49DF-A47A-BD927621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2AF-9FA2-400A-9196-012A3C5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51F-B07D-438A-A861-8A65A76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41F-1002-4751-93B7-3EB9BC6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54E-6812-461D-B9F8-E5E8A34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D98-6ECA-41B9-AE74-838C002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27BC-7CF1-4B69-BBEE-F440EF7F6B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ian_summer%20M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36" descr="ara2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40"/>
          <p:cNvSpPr/>
          <p:nvPr/>
        </p:nvSpPr>
        <p:spPr>
          <a:xfrm>
            <a:off x="1763640" y="2276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41"/>
          <p:cNvSpPr/>
          <p:nvPr/>
        </p:nvSpPr>
        <p:spPr>
          <a:xfrm>
            <a:off x="0" y="3830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ffff"/>
                </a:solidFill>
                <a:uFillTx/>
                <a:latin typeface="Comic Sans MS"/>
              </a:rPr>
              <a:t>Bill Gates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recientemente dictó en una conferencia en una escuela secundaria sobre 11 cosas que los estudiantes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enden en la escue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2" name="indian_summer%20M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1125360"/>
            <a:ext cx="86421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Antes de  nacer tú, tus padres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eran tan críticos como ahora.</a:t>
            </a:r>
            <a:br>
              <a:rPr sz="2400"/>
            </a:b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Ellos se volvieron así por pagar tus cuentas, lavar tus ropas y oírte decir que son “ridícul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Por tanto, antes de salvar el planet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la próxima generación, quer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remediar los errores de la 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de tus padres, comienza limpiando las cosas de tu propia vida, </a:t>
            </a:r>
            <a:r>
              <a:rPr b="0" i="1" lang="pt-BR" sz="2400" spc="-1" strike="noStrike" u="sng">
                <a:solidFill>
                  <a:srgbClr val="ffcc99"/>
                </a:solidFill>
                <a:uFillTx/>
                <a:latin typeface="Verdana"/>
              </a:rPr>
              <a:t>empezando por tu habitación</a:t>
            </a: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50920" y="1268280"/>
            <a:ext cx="864216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escuela puede haber eliminado la distinción entre excelentes, buenos y regulares, per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la vida no es así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muchas escuelas hoy no repites el curso, hacen que tus tareas sean cada vez más fáciles y tienes las oportunidades que necesites hasta apro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to no se parece en nada a la vida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falla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stás despedid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sí que acierta a la prim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1341360"/>
            <a:ext cx="8642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tá dividida en bim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ú no tendrás largas vacaciones de veran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encontrarás quien te ayude a cumplir con tus tareas, ni jefes que se interesen en ayudarte para que te encuentres a ti m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odo esto y mucho má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tendrás que hacerlo en tu tiempo libre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1341360"/>
            <a:ext cx="86421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televisión NO es la vida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la vida real, las personas tien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jar los juegos, el bar, los bailes o lo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para irse a trabaja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0920" y="119700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Sé amable con los estudios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(aquellos estudi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que tú y muchos otros juzgan que son  sons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xisten muchas probabilidad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que termines trabajando PARA uno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wallpaper_3D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75040" y="3787920"/>
            <a:ext cx="8695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Imprime, relee, repasa y muéstraselo a todos los q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nceramente creas que puedan ser tu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o que merezcan una clase, muy particul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ada por quien entiende del asun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the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270800" y="625320"/>
            <a:ext cx="661032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si tienes la suerte de tenerlos ce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el coraje para hace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enséñaselo a tus padres y a tus hijos. </a:t>
            </a:r>
            <a:r>
              <a:rPr b="0" lang="pt-BR" sz="2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42347252VAFAQ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140120" y="4405320"/>
            <a:ext cx="67507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Muy conciso, todos esperaban que fuera a 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un discurso de una hora o más, habl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menos de 5 minutos, le aplaudieron má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10 minutos sin parar, dio las gracias y se 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enseguida en su helicópt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ntileech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1280" y="4428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bla de cómo l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"política educativa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vida fáci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para los niños"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 originado una generación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 concepto de la realidad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y cómo esta política ha llevado a las personas a fallar en sus vidas después de la escuel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50920" y="1773360"/>
            <a:ext cx="864216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 fácil, acostúmbrate a ello</a:t>
            </a:r>
            <a:r>
              <a:rPr b="1" i="1" lang="pt-BR" sz="2800" spc="-1" strike="noStrike">
                <a:solidFill>
                  <a:srgbClr val="ffcc99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1125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no está preocup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 tu autoest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espera que  hagas al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útil por él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sentirte bien con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16000" y="1628640"/>
            <a:ext cx="7058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ganarás 20.000 </a:t>
            </a:r>
            <a:r>
              <a:rPr b="0" i="1" lang="pt-BR" sz="2400" spc="-1" strike="noStrike">
                <a:solidFill>
                  <a:srgbClr val="ffcc99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l 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ada más por salir de la escuela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serás vicepresidente de una empresa con coche y teléfono a tu disposición,</a:t>
            </a:r>
            <a:br>
              <a:rPr sz="2800"/>
            </a:b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hasta que con tu esfuerz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hayas conseguido comprar tu pr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coche y teléf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crees que tu profesor es du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pera a tener un Jef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e sí que no tendrá vocación de enseñanza ni la paciencia requer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Vender papel usado o trabajar los  días festivos no es ser lo último en la escala social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us abuelos tenían una palabra diferente para 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o llamaban 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oportunidad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1700280"/>
            <a:ext cx="777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te equivocas, no le eches la culpa a tus padres o a la mala s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lo tant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no llorisquees por tus errores, aprende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2:29:12Z</dcterms:created>
  <dc:creator/>
  <dc:description/>
  <dc:language>en-US</dc:language>
  <cp:lastModifiedBy/>
  <dcterms:modified xsi:type="dcterms:W3CDTF">2009-09-02T18:09:23Z</dcterms:modified>
  <cp:revision>10</cp:revision>
  <dc:subject/>
  <dc:title/>
</cp:coreProperties>
</file>